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7640" y="115560"/>
            <a:ext cx="7129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8000" y="1341360"/>
            <a:ext cx="7128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8000" y="3935880"/>
            <a:ext cx="7128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7640" y="115560"/>
            <a:ext cx="7129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8000" y="1341360"/>
            <a:ext cx="34783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0560" y="1341360"/>
            <a:ext cx="34783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8000" y="3935880"/>
            <a:ext cx="34783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60560" y="3935880"/>
            <a:ext cx="34783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7640" y="115560"/>
            <a:ext cx="7129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8000" y="1341360"/>
            <a:ext cx="2295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8200" y="1341360"/>
            <a:ext cx="2295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28400" y="1341360"/>
            <a:ext cx="2295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8000" y="3935880"/>
            <a:ext cx="2295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8200" y="3935880"/>
            <a:ext cx="2295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28400" y="3935880"/>
            <a:ext cx="2295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7640" y="115560"/>
            <a:ext cx="7129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8000" y="1341360"/>
            <a:ext cx="71280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7640" y="115560"/>
            <a:ext cx="7129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8000" y="1341360"/>
            <a:ext cx="7128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7640" y="115560"/>
            <a:ext cx="7129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8000" y="1341360"/>
            <a:ext cx="34783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60560" y="1341360"/>
            <a:ext cx="34783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7640" y="115560"/>
            <a:ext cx="7129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7640" y="115560"/>
            <a:ext cx="71298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7640" y="115560"/>
            <a:ext cx="7129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8000" y="1341360"/>
            <a:ext cx="34783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60560" y="1341360"/>
            <a:ext cx="34783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8000" y="3935880"/>
            <a:ext cx="34783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7640" y="115560"/>
            <a:ext cx="7129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8000" y="1341360"/>
            <a:ext cx="34783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0560" y="1341360"/>
            <a:ext cx="34783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60560" y="3935880"/>
            <a:ext cx="34783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7640" y="115560"/>
            <a:ext cx="7129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8000" y="1341360"/>
            <a:ext cx="34783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60560" y="1341360"/>
            <a:ext cx="34783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8000" y="3935880"/>
            <a:ext cx="7128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47296" r="0" b="0"/>
          <a:stretch/>
        </p:blipFill>
        <p:spPr>
          <a:xfrm>
            <a:off x="0" y="987480"/>
            <a:ext cx="6877080" cy="5698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2286000" y="6049800"/>
            <a:ext cx="6858000" cy="808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07640" y="115560"/>
            <a:ext cx="7129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908000" y="1341360"/>
            <a:ext cx="7128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08000" y="1351080"/>
            <a:ext cx="1655640" cy="43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Arial"/>
              </a:rPr>
              <a:t>La réforme de la tarification à l’activité (T2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Arial"/>
              </a:rPr>
              <a:t>Avant : la Dotation Globale de Financement (DG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Arial"/>
              </a:rPr>
              <a:t>Désormais : la Tarification À l’Activité (T2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Arial"/>
              </a:rPr>
              <a:t>4 réformes complément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Arial"/>
              </a:rPr>
              <a:t>La mobilisation de t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Arial"/>
              </a:rPr>
              <a:t>Une course de relais entre les acteurs de l’établissement de l’entrée du patient à sa sor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Arial"/>
              </a:rPr>
              <a:t>La chaîne de fact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Arial"/>
              </a:rPr>
              <a:t>1-Recueil de l’information administra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Arial"/>
              </a:rPr>
              <a:t>2-Production de so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Arial"/>
              </a:rPr>
              <a:t>3-Recueil de l’information médic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Arial"/>
              </a:rPr>
              <a:t>4-Les acteu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Arial"/>
              </a:rPr>
              <a:t>4-Les modalit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Arial"/>
              </a:rPr>
              <a:t>4-Le D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Arial"/>
              </a:rPr>
              <a:t>5-Production de la fa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Arial"/>
              </a:rPr>
              <a:t>6-Débiteu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Arial"/>
              </a:rPr>
              <a:t>La mobilisation générale pour établir une fa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Arial"/>
              </a:rPr>
              <a:t>Une synthè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Arial"/>
              </a:rPr>
              <a:t>La documentation disponi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tih.sante.fr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meah.sante.gouv.fr/meah/index.php?id=144" TargetMode="External"/><Relationship Id="rId2" Type="http://schemas.openxmlformats.org/officeDocument/2006/relationships/hyperlink" Target="http://www.sante.gouv.fr/htm/dossiers/t2a/accueil.htm" TargetMode="External"/><Relationship Id="rId3" Type="http://schemas.openxmlformats.org/officeDocument/2006/relationships/hyperlink" Target="http://www.reformes-hospitalieres.com/accueil/index.php?id=22" TargetMode="External"/><Relationship Id="rId4" Type="http://schemas.openxmlformats.org/officeDocument/2006/relationships/hyperlink" Target="http://www.ameli.fr/l-assurance-maladie/documentation-technique/t2a-ccam-et-lpp/index.php" TargetMode="External"/><Relationship Id="rId5" Type="http://schemas.openxmlformats.org/officeDocument/2006/relationships/hyperlink" Target="http://www.atih.fr/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5560"/>
            <a:ext cx="7129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Support de communication institutionnelle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08000" y="1341360"/>
            <a:ext cx="7128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T2A – </a:t>
            </a:r>
            <a:r>
              <a:rPr b="1" lang="en-US" sz="2400" spc="-1" strike="noStrike" u="sng">
                <a:solidFill>
                  <a:srgbClr val="5f5f5f"/>
                </a:solidFill>
                <a:uFillTx/>
                <a:latin typeface="Arial"/>
              </a:rPr>
              <a:t>Facturation / recouvrement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 des produits hospitalier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68360" y="1557360"/>
            <a:ext cx="6336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4121280"/>
            <a:ext cx="6336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360" y="3160800"/>
            <a:ext cx="6336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7640" y="115560"/>
            <a:ext cx="7129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Production de soin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08000" y="1341360"/>
            <a:ext cx="7128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Hospitalisations : tarifs par séjour (ou suppléments autorisés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Groupes homogènes de séjour (GHS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éjours extrêmes (longs et courts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Réanimation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oins intensifs et surveillance continue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Dialyse, IVG, soins palliatifs (pour lits dédiés) et radiothérapie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 sus de l’hospitalisation : paiements supplémentaires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Médicaments coûteux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Dispositifs médicaux implantables (prothèses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Hors hospitalisation : tarifs par prestation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Consultations et actes extern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Urgences : pour les passages sans hospitalisation, ATU (accueil et traitement des urgences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Forfait sécurité et environnement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Forfaits techniques pour scanners et IRM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Hospitalisations à domicile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rélèvements d’organ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Rétrocessions (ventes) de médicaments réservés aux hôpitaux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820000" y="115920"/>
            <a:ext cx="144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08000" y="3589200"/>
            <a:ext cx="1584360" cy="1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68360" y="4581360"/>
            <a:ext cx="496764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7640" y="115560"/>
            <a:ext cx="7129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Recueil de l’information médicale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08000" y="1341360"/>
            <a:ext cx="7128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a qualité, l’exhaustivité, la rapidité de fournitures des éléments et la structuration des codages du PMSI et de la CCAM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a maîtrise de la prescription, la demande d’examen complémentaire, la fluidité de la prise en charge du patient, etc.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a partage de l’information pour une meilleure compréhension collective de notre activité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ncrètement : déclarer et/ou coder son activité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De façon exhaustive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ans erreur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n temps réel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820000" y="115920"/>
            <a:ext cx="144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108000" y="3760920"/>
            <a:ext cx="1584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68360" y="4005360"/>
            <a:ext cx="6336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68360" y="2637000"/>
            <a:ext cx="6336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7640" y="115560"/>
            <a:ext cx="7129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Les acteur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08000" y="1341360"/>
            <a:ext cx="7128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5f5f5f"/>
                </a:solidFill>
                <a:uFillTx/>
                <a:latin typeface="Arial"/>
              </a:rPr>
              <a:t>Qui recueille l’information ?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Informations administratives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Bureau des Entrées ou des Admissions (logiciel de gestion administrative des patients ou de facturation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DAF (mêmes supports logiciels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ecrétariats médicaux (mêmes supports logiciels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Informations médicales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Médecin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Cadr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oignants (saisie sur papier ou logiciel de dossier médial informatisé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ecrétaires médicales (saisie sur papier ou logiciel de dossier médial informatisé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Manipulateurs radio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harmacien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820000" y="115920"/>
            <a:ext cx="144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108000" y="4084560"/>
            <a:ext cx="1584360" cy="1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7640" y="115560"/>
            <a:ext cx="7129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Les modalité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08000" y="1341360"/>
            <a:ext cx="7128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 u="sng">
                <a:solidFill>
                  <a:srgbClr val="5f5f5f"/>
                </a:solidFill>
                <a:uFillTx/>
                <a:latin typeface="Arial"/>
              </a:rPr>
              <a:t>Comment les informations sont-elles recueillies ?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Articulation des applicatifs informatiques administratifs, médicaux et de la pharmacie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Dispositif d’élaboration et de validation de la base facturable en GHS, les actes, la facturation des DMI et médicaments onéreux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0" y="1844640"/>
            <a:ext cx="3672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s administr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421000"/>
            <a:ext cx="865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entr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2421000"/>
            <a:ext cx="865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 entr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2421000"/>
            <a:ext cx="865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8360" y="2421000"/>
            <a:ext cx="865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40000" y="2781360"/>
            <a:ext cx="865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sor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2781360"/>
            <a:ext cx="865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 sor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11640" y="2781360"/>
            <a:ext cx="865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ate na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48360" y="2781360"/>
            <a:ext cx="865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um.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1844640"/>
            <a:ext cx="2737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s médi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27640" y="2421000"/>
            <a:ext cx="14414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nostic princ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2781360"/>
            <a:ext cx="14414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nostics reli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30920" y="3139920"/>
            <a:ext cx="14414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nostics associ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101080" y="2421000"/>
            <a:ext cx="863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40000" y="3213000"/>
            <a:ext cx="1295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ée de séj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11640" y="3213000"/>
            <a:ext cx="865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59280" y="3645000"/>
            <a:ext cx="2232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cours de so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4031640" y="2240640"/>
            <a:ext cx="287280" cy="3673440"/>
          </a:xfrm>
          <a:custGeom>
            <a:avLst/>
            <a:gdLst>
              <a:gd name="textAreaLeft" fmla="*/ 183600 w 287280"/>
              <a:gd name="textAreaRight" fmla="*/ 287640 w 28728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7452360" y="2708640"/>
            <a:ext cx="287280" cy="2737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16360" y="4437000"/>
            <a:ext cx="2519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Administrative des Mal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00720" y="4437000"/>
            <a:ext cx="2519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MSI, CCAM, NGAP, NAB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820000" y="115920"/>
            <a:ext cx="144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108000" y="4265640"/>
            <a:ext cx="1584360" cy="14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7640" y="115560"/>
            <a:ext cx="7129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Le DIM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908000" y="1341360"/>
            <a:ext cx="7128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 u="sng">
                <a:solidFill>
                  <a:srgbClr val="5f5f5f"/>
                </a:solidFill>
                <a:uFillTx/>
                <a:latin typeface="Arial"/>
              </a:rPr>
              <a:t>Le rôle du médecin DIM est de :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Informer et former les médecins aux règles de codage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Arial"/>
              </a:rPr>
              <a:t>Cf. le site de l’ATIH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atih.sante.fr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Arial"/>
              </a:rPr>
              <a:t>Le guide méthodologique de la production des résumés de séjours du PMSI en MCO (modifié le 28/02/06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Arial"/>
              </a:rPr>
              <a:t>CCAM guide de lecture et de codage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Diffuser les outils d’aide au codage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Arial"/>
              </a:rPr>
              <a:t>1 – Codage des diagnostics : le codage des diagnostics est réalisé selon la version 10 de la classification internationale des maladies (CIM-10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Arial"/>
              </a:rPr>
              <a:t>2 – Codage des actes : le codage des actes est réalisé selon la Classification Commune des Actes Médicaux (CCAM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Arial"/>
              </a:rPr>
              <a:t>Ces 2 nomenclatures font l’objet de révision régulières et le médecin du DIM est là pour en informer les clinicien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Aider à l’interprétation et à l’analyse des données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820000" y="115920"/>
            <a:ext cx="144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108000" y="4446720"/>
            <a:ext cx="1584360" cy="14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07640" y="115560"/>
            <a:ext cx="7129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Le DIM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08000" y="1341360"/>
            <a:ext cx="7128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ccueil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Vérification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Identité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Contexte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Financière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Inventaire services patients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ctes médicaux + prestations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Vérification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Contexte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Service patients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Inventaire activité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ortie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Vérification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Identité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Contexte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Service patient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Passerelle facturation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Régie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820000" y="115920"/>
            <a:ext cx="144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108000" y="4446720"/>
            <a:ext cx="1584360" cy="14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68360" y="2546280"/>
            <a:ext cx="6624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7640" y="115560"/>
            <a:ext cx="7129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Production de la facture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08000" y="1341360"/>
            <a:ext cx="7128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Maîtriser les règles de facturation (parts AMO, AMC, assurés et hôpital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L’accès aux soins des patients en situation précaire (PASS, CMU, AME, soins urgents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Les impacts de la réforme de l’Assurance Maladie : 1 euro, ticket modérateur de 18 euros, parcours coordonné de soin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ppliquer les différentes règles d’exonération (ALD, AT, maternité, invalidité) et apprécier les situations ne permettant pas une prise en charge standard (patients étrangers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Facturer l’activité externe : consultations, actes, urgences et parcours de soins, règles des cumuls ou d’association, des modificateurs, tiers payant et ticket modérateur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Facturation des transports et prestations inter établissement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Garantir une facturation exhaustive pour : séjours en GHS, suppléments, DMI et MO (liste et codes LPP), les soins externes, ATU, rétrocessions de médicaments, etc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820000" y="115920"/>
            <a:ext cx="144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4627440"/>
            <a:ext cx="1584360" cy="1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268360" y="2689200"/>
            <a:ext cx="6624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7640" y="115560"/>
            <a:ext cx="7129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Débiteur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908000" y="1341360"/>
            <a:ext cx="7128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Gérer les relations (facturation, télétransmissions) et paiements entre assurés, AMO, AMC et établissements de santé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La dématérialisation des factures, la relation avec le Trésor Public et l’élaboration des procédures de facturation en T2A et CCAM auprès des différents débiteur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Le rôle de la caisse Pivot et la relation avec les établissements de santé, les protocoles de facturation, télétransmissions et normes d’échanges électroniques et sécurisés (B2, NOEMIE, NOE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Établir des délais de facturation (production du soin et son paiement effectif) en fonction du niveau de recettes et la gestion de trésorerie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Traiter des relations entre bureau des entrées et  trésorerie (délias de règlements, le fonctionnement des régies, etc.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820000" y="115920"/>
            <a:ext cx="144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108000" y="4818240"/>
            <a:ext cx="1584360" cy="14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7640" y="115560"/>
            <a:ext cx="7129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La mobilisation générale pour établir une facture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08000" y="1341360"/>
            <a:ext cx="31816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Arial"/>
              </a:rPr>
              <a:t>Services de facturation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5f5f5f"/>
                </a:solidFill>
                <a:latin typeface="Arial"/>
              </a:rPr>
              <a:t>Informations concernant la facturation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5f5f5f"/>
                </a:solidFill>
                <a:latin typeface="Arial"/>
              </a:rPr>
              <a:t>Identification de l’établissement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5f5f5f"/>
                </a:solidFill>
                <a:latin typeface="Arial"/>
              </a:rPr>
              <a:t>N° lot, n° facture, n° entrée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Arial"/>
              </a:rPr>
              <a:t>Bureau des entrées, admissions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5f5f5f"/>
                </a:solidFill>
                <a:latin typeface="Arial"/>
              </a:rPr>
              <a:t>Informations administratives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5f5f5f"/>
                </a:solidFill>
                <a:latin typeface="Arial"/>
              </a:rPr>
              <a:t>Concernant le bénéficiaire des soins, et/ou l’assuré : nom de naissance, prénoms, n° de sécurité sociale, date de naissance, etc.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5f5f5f"/>
                </a:solidFill>
                <a:latin typeface="Arial"/>
              </a:rPr>
              <a:t>Informations concernant la prise en charge : AT, ALD, AHL, maternité, etc.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5f5f5f"/>
                </a:solidFill>
                <a:latin typeface="Arial"/>
              </a:rPr>
              <a:t>Informations concernant les débiteurs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Arial"/>
              </a:rPr>
              <a:t>Médecins et pharmaciens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5f5f5f"/>
                </a:solidFill>
                <a:latin typeface="Arial"/>
              </a:rPr>
              <a:t>Informations médicales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5f5f5f"/>
                </a:solidFill>
                <a:latin typeface="Arial"/>
              </a:rPr>
              <a:t>Produits de la LPP facturables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5f5f5f"/>
                </a:solidFill>
                <a:latin typeface="Arial"/>
              </a:rPr>
              <a:t>Spécialités pharmaceutiques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Arial"/>
              </a:rPr>
              <a:t>Médecins et paramédicaux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5f5f5f"/>
                </a:solidFill>
                <a:latin typeface="Arial"/>
              </a:rPr>
              <a:t>Relevé des honoraires médicaux, paramédicaux et actes de laboratoire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5f5f5f"/>
                </a:solidFill>
                <a:latin typeface="Arial"/>
              </a:rPr>
              <a:t>Codage des actes en temps réel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Arial"/>
              </a:rPr>
              <a:t>DIM et Bureau des entrées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5f5f5f"/>
                </a:solidFill>
                <a:latin typeface="Arial"/>
              </a:rPr>
              <a:t>Cohérence et complétude du dossier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42319" t="21645" r="24611" b="7478"/>
          <a:stretch/>
        </p:blipFill>
        <p:spPr>
          <a:xfrm>
            <a:off x="5722920" y="1504800"/>
            <a:ext cx="3243240" cy="4343400"/>
          </a:xfrm>
          <a:prstGeom prst="rect">
            <a:avLst/>
          </a:prstGeom>
          <a:ln w="12600">
            <a:solidFill>
              <a:srgbClr val="000066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5635800" y="1481040"/>
            <a:ext cx="3402000" cy="385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35800" y="1909800"/>
            <a:ext cx="3402000" cy="385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2338560"/>
            <a:ext cx="3402000" cy="1217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35800" y="3624120"/>
            <a:ext cx="1738080" cy="1217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03640" y="1428840"/>
            <a:ext cx="144720" cy="776160"/>
          </a:xfrm>
          <a:custGeom>
            <a:avLst/>
            <a:gdLst>
              <a:gd name="textAreaLeft" fmla="*/ 0 w 144720"/>
              <a:gd name="textAreaRight" fmla="*/ 52200 w 144720"/>
              <a:gd name="textAreaTop" fmla="*/ 20160 h 776160"/>
              <a:gd name="textAreaBottom" fmla="*/ 756000 h 7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03640" y="2349360"/>
            <a:ext cx="144720" cy="1584360"/>
          </a:xfrm>
          <a:custGeom>
            <a:avLst/>
            <a:gdLst>
              <a:gd name="textAreaLeft" fmla="*/ 0 w 144720"/>
              <a:gd name="textAreaRight" fmla="*/ 52200 w 14472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4149720"/>
            <a:ext cx="144720" cy="647640"/>
          </a:xfrm>
          <a:custGeom>
            <a:avLst/>
            <a:gdLst>
              <a:gd name="textAreaLeft" fmla="*/ 0 w 144720"/>
              <a:gd name="textAreaRight" fmla="*/ 5220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03640" y="5086440"/>
            <a:ext cx="144720" cy="647640"/>
          </a:xfrm>
          <a:custGeom>
            <a:avLst/>
            <a:gdLst>
              <a:gd name="textAreaLeft" fmla="*/ 0 w 144720"/>
              <a:gd name="textAreaRight" fmla="*/ 5220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"/>
          <p:cNvCxnSpPr>
            <a:stCxn id="177" idx="1"/>
            <a:endCxn id="173" idx="1"/>
          </p:cNvCxnSpPr>
          <p:nvPr/>
        </p:nvCxnSpPr>
        <p:spPr>
          <a:xfrm flipV="1">
            <a:off x="5160600" y="1674000"/>
            <a:ext cx="461160" cy="143640"/>
          </a:xfrm>
          <a:prstGeom prst="bentConnector3">
            <a:avLst>
              <a:gd name="adj1" fmla="val 50000"/>
            </a:avLst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78" idx="1"/>
            <a:endCxn id="174" idx="1"/>
          </p:cNvCxnSpPr>
          <p:nvPr/>
        </p:nvCxnSpPr>
        <p:spPr>
          <a:xfrm flipV="1">
            <a:off x="5160600" y="2103480"/>
            <a:ext cx="461160" cy="1038600"/>
          </a:xfrm>
          <a:prstGeom prst="bentConnector3">
            <a:avLst>
              <a:gd name="adj1" fmla="val 24453"/>
            </a:avLst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5" idx="1"/>
          </p:cNvCxnSpPr>
          <p:nvPr/>
        </p:nvCxnSpPr>
        <p:spPr>
          <a:xfrm flipV="1">
            <a:off x="5160600" y="2947680"/>
            <a:ext cx="461160" cy="1526400"/>
          </a:xfrm>
          <a:prstGeom prst="bentConnector3">
            <a:avLst>
              <a:gd name="adj1" fmla="val 50000"/>
            </a:avLst>
          </a:prstGeom>
          <a:ln w="9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0" idx="1"/>
            <a:endCxn id="176" idx="1"/>
          </p:cNvCxnSpPr>
          <p:nvPr/>
        </p:nvCxnSpPr>
        <p:spPr>
          <a:xfrm flipV="1">
            <a:off x="5160600" y="4233240"/>
            <a:ext cx="461160" cy="1176840"/>
          </a:xfrm>
          <a:prstGeom prst="bentConnector3">
            <a:avLst>
              <a:gd name="adj1" fmla="val 72031"/>
            </a:avLst>
          </a:prstGeom>
          <a:ln w="9360">
            <a:solidFill>
              <a:srgbClr val="cc99ff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108000" y="4998960"/>
            <a:ext cx="1584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075280" y="2563920"/>
            <a:ext cx="1079280" cy="115236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16809" y="5120"/>
                </a:moveTo>
                <a:arcTo wR="-8268" hR="-8268" stAng="-2603267" swAng="-19671418"/>
                <a:lnTo>
                  <a:pt x="207" y="12906"/>
                </a:lnTo>
                <a:arcTo wR="10800" hR="10800" stAng="10125315" swAng="19671418"/>
                <a:lnTo>
                  <a:pt x="989" y="20074"/>
                </a:lnTo>
                <a:lnTo>
                  <a:pt x="1147" y="14467"/>
                </a:lnTo>
                <a:lnTo>
                  <a:pt x="6754" y="14625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5229360"/>
            <a:ext cx="338328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07640" y="115560"/>
            <a:ext cx="7129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Une synthèse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08000" y="1341360"/>
            <a:ext cx="7128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Arial"/>
              </a:rPr>
              <a:t>Retard de paiement des recettes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  <a:ea typeface="Arial"/>
              </a:rPr>
              <a:t>Problèmes de trésorerie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Arial"/>
              </a:rPr>
              <a:t>Non paiement des recettes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  <a:ea typeface="Arial"/>
              </a:rPr>
              <a:t>Problèmes de financement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1628640"/>
            <a:ext cx="1944720" cy="72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N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VESTISS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4200" y="1628640"/>
            <a:ext cx="1944720" cy="72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43640" y="2779560"/>
            <a:ext cx="1944720" cy="72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FORM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DICALES 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MINISTR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41840" y="3932280"/>
            <a:ext cx="1944720" cy="72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3280" y="2779560"/>
            <a:ext cx="1944720" cy="72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ET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8000" y="5303880"/>
            <a:ext cx="1584360" cy="14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7640" y="115560"/>
            <a:ext cx="7129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La réforme de la tarification à l’activité (T2A)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8000" y="1341360"/>
            <a:ext cx="7128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a T2A est une réforme financière qui s’applique à l’ensemble des établissements de santé :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ublics (les hôpitaux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rivés à but lucratif (les cliniques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rivés à but lucratif et participants au service public hospitalier (établissements mutualistes, congrégations, etc.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lle modifie en profondeur l’allocation des ressources de ces établissements en harmonisant les règles de financement : pour tous les établissements, privés comme publics, les activités réalisées déterminent les moyens financiers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 ce titre, la réforme de la T2A a de forts impacts sur les organisations et la stratégie des hôpitaux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370160"/>
            <a:ext cx="1584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7640" y="115560"/>
            <a:ext cx="7129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Documentation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908000" y="1341360"/>
            <a:ext cx="7128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ites Internet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eah.sante.gouv.fr/meah/index.php?id=144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ante.gouv.fr/htm/dossiers/t2a/accueil.htm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reformes-hospitalieres.com/accueil/index.php?id=22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ameli.fr/l-assurance-maladie/documentation-technique/t2a-ccam-et-lpp/index.php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tih.fr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8000" y="5484960"/>
            <a:ext cx="1584360" cy="14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00360" y="5084640"/>
            <a:ext cx="4464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7640" y="115560"/>
            <a:ext cx="7129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Avant : la Dotation Globale de Financement (DGF)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8000" y="1341360"/>
            <a:ext cx="7128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3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Arial"/>
              </a:rPr>
              <a:t>De 1983 à 2004, les Établissements Publics de Santé (EPS) ont fonctionné en Dotation Globale de Financement (DGF) réévaluée chaque année par un taux d’évolution fixé par les députés et les sénateurs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Arial"/>
              </a:rPr>
              <a:t>La DGF était fixée pour l’année mais versée en fractions mensuelles par l’Assurance Maladie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Arial"/>
              </a:rPr>
              <a:t>Le budget de l’année suivante, demandé par les EPS, était soumis à approbation de la tutelle avant de pouvoir être mis en œuvre. Des modifications pouvaient intervenir en cours d’année mais le plus souvent assez marginalement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Arial"/>
              </a:rPr>
              <a:t>Peu de facturation était nécessaire : le niveau des activités effectuées était sans importance puisque n’existait aucun lien entre activités et moyens de l’EPS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5f5f5f"/>
                </a:solidFill>
                <a:latin typeface="Arial"/>
              </a:rPr>
              <a:t>Système peu sensible aux fluctuations d’activité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5f5f5f"/>
                </a:solidFill>
                <a:latin typeface="Arial"/>
              </a:rPr>
              <a:t>Prenant mal en compte la lourdeur des pathologies, l’impact des innovations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5f5f5f"/>
                </a:solidFill>
                <a:latin typeface="Arial"/>
              </a:rPr>
              <a:t>Finançant des structures et non des activités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Arial"/>
              </a:rPr>
              <a:t>Hier :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11640" y="5805360"/>
            <a:ext cx="1152360" cy="432000"/>
          </a:xfrm>
          <a:custGeom>
            <a:avLst/>
            <a:gdLst>
              <a:gd name="textAreaLeft" fmla="*/ 0 w 1152360"/>
              <a:gd name="textAreaRight" fmla="*/ 1152360 w 1152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lnTo>
                  <a:pt x="1964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ECET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2560" y="5805360"/>
            <a:ext cx="1152720" cy="43200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lnTo>
                  <a:pt x="1964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Y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15280" y="5805360"/>
            <a:ext cx="1152360" cy="432000"/>
          </a:xfrm>
          <a:custGeom>
            <a:avLst/>
            <a:gdLst>
              <a:gd name="textAreaLeft" fmla="*/ 0 w 1152360"/>
              <a:gd name="textAreaRight" fmla="*/ 1152360 w 1152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lnTo>
                  <a:pt x="1964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O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59280" y="5805360"/>
            <a:ext cx="1152360" cy="432000"/>
          </a:xfrm>
          <a:custGeom>
            <a:avLst/>
            <a:gdLst>
              <a:gd name="textAreaLeft" fmla="*/ 0 w 1152360"/>
              <a:gd name="textAreaRight" fmla="*/ 1152360 w 1152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lnTo>
                  <a:pt x="1964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1684440"/>
            <a:ext cx="1584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64000" y="5300640"/>
            <a:ext cx="4895640" cy="936720"/>
          </a:xfrm>
          <a:custGeom>
            <a:avLst/>
            <a:gdLst>
              <a:gd name="textAreaLeft" fmla="*/ 0 w 4895640"/>
              <a:gd name="textAreaRight" fmla="*/ 4896000 w 48956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18504" y="16072"/>
                </a:moveTo>
                <a:arcTo wR="-9335" hR="-9335" stAng="2063076" swAng="-20303022"/>
                <a:lnTo>
                  <a:pt x="4761" y="1846"/>
                </a:lnTo>
                <a:arcTo wR="10800" hR="10800" stAng="-7439946" swAng="20303022"/>
                <a:lnTo>
                  <a:pt x="-341" y="3176"/>
                </a:lnTo>
                <a:lnTo>
                  <a:pt x="4430" y="2282"/>
                </a:lnTo>
                <a:lnTo>
                  <a:pt x="5324" y="7053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4149720"/>
            <a:ext cx="4464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7640" y="115560"/>
            <a:ext cx="7129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f5f5f"/>
                </a:solidFill>
                <a:latin typeface="Arial"/>
              </a:rPr>
              <a:t>Désormais : la Tarification 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À</a:t>
            </a:r>
            <a:r>
              <a:rPr b="1" lang="fr-FR" sz="2400" spc="-1" strike="noStrike">
                <a:solidFill>
                  <a:srgbClr val="5f5f5f"/>
                </a:solidFill>
                <a:latin typeface="Arial"/>
              </a:rPr>
              <a:t> l’Activité (T2A)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8000" y="1341360"/>
            <a:ext cx="7128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Arial"/>
              </a:rPr>
              <a:t>La T2A représente par rapport au dispositif de la DGF une double révolution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Arial"/>
              </a:rPr>
              <a:t>Les activités déterminent directement les ressources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Arial"/>
              </a:rPr>
              <a:t>Les recettes correspondent à une approche médicalisée de l’activité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5f5f5f"/>
                </a:solidFill>
                <a:latin typeface="Arial"/>
              </a:rPr>
              <a:t>Activités de soins identifiées à partir du Programme de Médicalisation des Systèmes d’Information (PMSI)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5f5f5f"/>
                </a:solidFill>
                <a:latin typeface="Arial"/>
              </a:rPr>
              <a:t>Activités médico-techniques à partir de la Classification Commune des Actes Médicaux (CCAM) et de la NGAP (système des lettres-clés encore valide pour certaines activités non cotées en CCAM)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5f5f5f"/>
                </a:solidFill>
                <a:latin typeface="Arial"/>
              </a:rPr>
              <a:t>Mais aussi médicaments et dispositifs les plus onéreux, activités spécifiques aux CHU ou au Service Public, etc.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Arial"/>
              </a:rPr>
              <a:t>Le tout doit faire l’objet d’une facturation au fur et à mesure que l’activité s’effectue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5f5f5f"/>
                </a:solidFill>
                <a:latin typeface="Arial"/>
              </a:rPr>
              <a:t>Un mode de financement public / privé identique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5f5f5f"/>
                </a:solidFill>
                <a:latin typeface="Arial"/>
              </a:rPr>
              <a:t>La mesure de l’activité est faite sur la base de critères médicaux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5f5f5f"/>
                </a:solidFill>
                <a:latin typeface="Arial"/>
              </a:rPr>
              <a:t>Un financement fondé sur l’activité réellement réalisée et déclarée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5f5f5f"/>
                </a:solidFill>
                <a:latin typeface="Arial"/>
              </a:rPr>
              <a:t>La nécessité de facturer pour obtenir des ressources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Arial"/>
              </a:rPr>
              <a:t>Désormais :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352200">
            <a:off x="6156360" y="5157720"/>
            <a:ext cx="1152360" cy="432000"/>
          </a:xfrm>
          <a:custGeom>
            <a:avLst/>
            <a:gdLst>
              <a:gd name="textAreaLeft" fmla="*/ 0 w 1152360"/>
              <a:gd name="textAreaRight" fmla="*/ 1152360 w 1152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lnTo>
                  <a:pt x="1964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ECET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rot="228600">
            <a:off x="4788000" y="5950080"/>
            <a:ext cx="1152360" cy="432000"/>
          </a:xfrm>
          <a:custGeom>
            <a:avLst/>
            <a:gdLst>
              <a:gd name="textAreaLeft" fmla="*/ 0 w 1152360"/>
              <a:gd name="textAreaRight" fmla="*/ 1152360 w 1152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lnTo>
                  <a:pt x="1964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Y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rot="21144600">
            <a:off x="6155280" y="5950080"/>
            <a:ext cx="1152360" cy="431280"/>
          </a:xfrm>
          <a:custGeom>
            <a:avLst/>
            <a:gdLst>
              <a:gd name="textAreaLeft" fmla="*/ 0 w 1152360"/>
              <a:gd name="textAreaRight" fmla="*/ 1152360 w 1152360"/>
              <a:gd name="textAreaTop" fmla="*/ 0 h 431280"/>
              <a:gd name="textAreaBottom" fmla="*/ 431640 h 43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lnTo>
                  <a:pt x="1964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O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373800">
            <a:off x="4787640" y="5157720"/>
            <a:ext cx="1152360" cy="432000"/>
          </a:xfrm>
          <a:custGeom>
            <a:avLst/>
            <a:gdLst>
              <a:gd name="textAreaLeft" fmla="*/ 0 w 1152360"/>
              <a:gd name="textAreaRight" fmla="*/ 1152360 w 1152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lnTo>
                  <a:pt x="1964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1989000"/>
            <a:ext cx="1584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7640" y="115560"/>
            <a:ext cx="7129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4 réformes complémentaire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95640" y="1413000"/>
            <a:ext cx="26654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Certification 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our une amélioration continue de la qualité et de la sécuri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Gestion des ris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Évaluation des pratiques profession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mélioration de la qualité et de la sécuri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299280" y="3178080"/>
            <a:ext cx="2665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Nouvelle gouver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our rapprocher le médical, le personnel soignant et l’administrat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ilo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ccroître l’effi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Contractualisation inte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95640" y="4834080"/>
            <a:ext cx="2665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T2A / État Prévisionnel des Recettes et de Dépenses (EP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our une meilleure utilisation des res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Équilib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3178080"/>
            <a:ext cx="266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SROS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our un meilleur accès aux soins pour t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Territoire de san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Contrat d’objectifs et de moy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Coopé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0360" y="2060640"/>
            <a:ext cx="2016000" cy="172872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1600" h="21600">
                <a:moveTo>
                  <a:pt x="13929" y="17732"/>
                </a:moveTo>
                <a:arcTo wR="-7605" hR="-7605" stAng="3942378" swAng="-2789315"/>
                <a:lnTo>
                  <a:pt x="602" y="7245"/>
                </a:lnTo>
                <a:arcTo wR="10800" hR="10800" stAng="-9646937" swAng="2789315"/>
                <a:lnTo>
                  <a:pt x="5246" y="-1505"/>
                </a:lnTo>
                <a:lnTo>
                  <a:pt x="10931" y="644"/>
                </a:lnTo>
                <a:lnTo>
                  <a:pt x="8782" y="632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5939640" y="3571920"/>
            <a:ext cx="2016360" cy="1728720"/>
          </a:xfrm>
          <a:custGeom>
            <a:avLst/>
            <a:gdLst>
              <a:gd name="textAreaLeft" fmla="*/ -360 w 2016360"/>
              <a:gd name="textAreaRight" fmla="*/ 2016360 w 2016360"/>
              <a:gd name="textAreaTop" fmla="*/ 360 h 1728720"/>
              <a:gd name="textAreaBottom" fmla="*/ 1729440 h 1728720"/>
            </a:gdLst>
            <a:ahLst/>
            <a:rect l="textAreaLeft" t="textAreaTop" r="textAreaRight" b="textAreaBottom"/>
            <a:pathLst>
              <a:path w="21600" h="21600">
                <a:moveTo>
                  <a:pt x="13929" y="17732"/>
                </a:moveTo>
                <a:arcTo wR="-7605" hR="-7605" stAng="3942378" swAng="-2789315"/>
                <a:lnTo>
                  <a:pt x="602" y="7245"/>
                </a:lnTo>
                <a:arcTo wR="10800" hR="10800" stAng="-9646937" swAng="2789315"/>
                <a:lnTo>
                  <a:pt x="5246" y="-1505"/>
                </a:lnTo>
                <a:lnTo>
                  <a:pt x="10931" y="644"/>
                </a:lnTo>
                <a:lnTo>
                  <a:pt x="8782" y="632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5796720" y="2061360"/>
            <a:ext cx="2016000" cy="172872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1600" h="21600">
                <a:moveTo>
                  <a:pt x="13929" y="17732"/>
                </a:moveTo>
                <a:arcTo wR="-7605" hR="-7605" stAng="3942378" swAng="-2789315"/>
                <a:lnTo>
                  <a:pt x="602" y="7245"/>
                </a:lnTo>
                <a:arcTo wR="10800" hR="10800" stAng="-9646937" swAng="2789315"/>
                <a:lnTo>
                  <a:pt x="5246" y="-1505"/>
                </a:lnTo>
                <a:lnTo>
                  <a:pt x="10931" y="644"/>
                </a:lnTo>
                <a:lnTo>
                  <a:pt x="8782" y="632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 rot="5400000">
            <a:off x="2770560" y="3573360"/>
            <a:ext cx="2016360" cy="1728720"/>
          </a:xfrm>
          <a:custGeom>
            <a:avLst/>
            <a:gdLst>
              <a:gd name="textAreaLeft" fmla="*/ -360 w 2016360"/>
              <a:gd name="textAreaRight" fmla="*/ 2016360 w 2016360"/>
              <a:gd name="textAreaTop" fmla="*/ 360 h 1728720"/>
              <a:gd name="textAreaBottom" fmla="*/ 1729440 h 1728720"/>
            </a:gdLst>
            <a:ahLst/>
            <a:rect l="textAreaLeft" t="textAreaTop" r="textAreaRight" b="textAreaBottom"/>
            <a:pathLst>
              <a:path w="21600" h="21600">
                <a:moveTo>
                  <a:pt x="13929" y="17732"/>
                </a:moveTo>
                <a:arcTo wR="-7605" hR="-7605" stAng="3942378" swAng="-2789315"/>
                <a:lnTo>
                  <a:pt x="602" y="7245"/>
                </a:lnTo>
                <a:arcTo wR="10800" hR="10800" stAng="-9646937" swAng="2789315"/>
                <a:lnTo>
                  <a:pt x="5246" y="-1505"/>
                </a:lnTo>
                <a:lnTo>
                  <a:pt x="10931" y="644"/>
                </a:lnTo>
                <a:lnTo>
                  <a:pt x="8782" y="632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32360" y="3429000"/>
            <a:ext cx="8636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8000" y="2303640"/>
            <a:ext cx="1584360" cy="14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68360" y="4581360"/>
            <a:ext cx="669636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7640" y="115560"/>
            <a:ext cx="7129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La mobilisation de tou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8000" y="1341360"/>
            <a:ext cx="7128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haque personne devient partiellement responsable de la bonne marche de notre hôpital puisque toutes les fonctions sont interdépendantes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Le bon recueil des informations concernant l’identité du patient et sa couverture par l’Assurance Maladie (ses droits) ou sa mutuelle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La qualité, l’exhaustivité, la rapidité de déclaration et la structuration des codages du PMSI et de la CCAM (ou de la NGAP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La maîtrise de la prescription, la demande d’examen complémentaire, la fluidité de la prise en charge du patient qui constituent à la fois le coût de la production des soins… et l’image de marque de notre établissement !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Le partage de l’information pour une meilleure compréhension collective de notre activité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hacun d’entre nous est un acteur dans la mise en œuvre de cette réforme, dans sa pratique quotidienne et sa capacité à « faire bouger les choses » pour rendre l’établissement le plus performant possible, c’est-à-dire adapté aux attentes de la population desservie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8000" y="2494080"/>
            <a:ext cx="1584360" cy="14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7640" y="115560"/>
            <a:ext cx="7129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Une course de relais entre les acteurs de l’établissement de l’entrée du patient à sa sortie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79640" y="1503360"/>
            <a:ext cx="7164360" cy="4373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8000" y="2665440"/>
            <a:ext cx="1584360" cy="40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89440" y="2060640"/>
            <a:ext cx="4895640" cy="3024000"/>
          </a:xfrm>
          <a:custGeom>
            <a:avLst/>
            <a:gdLst>
              <a:gd name="textAreaLeft" fmla="*/ 0 w 4895640"/>
              <a:gd name="textAreaRight" fmla="*/ 4896000 w 4895640"/>
              <a:gd name="textAreaTop" fmla="*/ 0 h 3024000"/>
              <a:gd name="textAreaBottom" fmla="*/ 3024360 h 3024000"/>
            </a:gdLst>
            <a:ahLst/>
            <a:rect l="textAreaLeft" t="textAreaTop" r="textAreaRight" b="textAreaBottom"/>
            <a:pathLst>
              <a:path w="21600" h="21600">
                <a:moveTo>
                  <a:pt x="9511" y="1633"/>
                </a:moveTo>
                <a:arcTo wR="-9257" hR="-9257" stAng="-5880244" swAng="-18290797"/>
                <a:lnTo>
                  <a:pt x="2882" y="18145"/>
                </a:lnTo>
                <a:arcTo wR="10800" hR="10800" stAng="8228959" swAng="18290797"/>
                <a:lnTo>
                  <a:pt x="12680" y="24168"/>
                </a:lnTo>
                <a:lnTo>
                  <a:pt x="8759" y="21214"/>
                </a:lnTo>
                <a:lnTo>
                  <a:pt x="11713" y="17293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7640" y="115560"/>
            <a:ext cx="7129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La chaîne de facturation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08000" y="1341360"/>
            <a:ext cx="7128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Une information incomplète ou fausse empêchera une facturation valide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11280" y="4292640"/>
            <a:ext cx="165600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ueil Information administr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79640" y="3068640"/>
            <a:ext cx="165564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de so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71640" y="1987560"/>
            <a:ext cx="165600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ueil de l’information médi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59280" y="1628640"/>
            <a:ext cx="165600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tement de l’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04000" y="2205000"/>
            <a:ext cx="165564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de la f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37440" y="3429000"/>
            <a:ext cx="165564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ébit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00720" y="4508640"/>
            <a:ext cx="165600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uv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334040" y="4390920"/>
            <a:ext cx="814320" cy="838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484360" y="4292640"/>
            <a:ext cx="144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124000" y="3068640"/>
            <a:ext cx="14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916360" y="1989000"/>
            <a:ext cx="14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075280" y="1557360"/>
            <a:ext cx="14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093080" y="2133720"/>
            <a:ext cx="1443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451640" y="3429000"/>
            <a:ext cx="144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515280" y="4508640"/>
            <a:ext cx="1443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3103560"/>
            <a:ext cx="1584360" cy="1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7640" y="115560"/>
            <a:ext cx="7129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Recueil de l’information administrative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8000" y="1341360"/>
            <a:ext cx="48247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es informations concernant le patient : son identité (protocole de prise d’information, enregistrement complet dans le système d’information, moyen de faire valoir les droits et sécurité entre dossier administratif et dossier médical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es cas particuliers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ans papier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Cas d’urgence vitale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La demande d’anonymat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es éléments d’identité, supports de la qualité du soin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Nom (état-civil et ses variantes), prénom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exe, âge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Date et lieu de naissance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utres éléments : adresse, employeur (AT), couverture sociale, mutuelle, assurance, les proches (pour les mineurs), etc.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21150600">
            <a:off x="7524720" y="4262040"/>
            <a:ext cx="1079640" cy="679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 rot="265200">
            <a:off x="7667640" y="2420640"/>
            <a:ext cx="781200" cy="1152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 rot="21210000">
            <a:off x="7524360" y="1410840"/>
            <a:ext cx="1166760" cy="865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rcRect l="0" t="11628" r="0" b="0"/>
          <a:stretch/>
        </p:blipFill>
        <p:spPr>
          <a:xfrm>
            <a:off x="7667640" y="3686040"/>
            <a:ext cx="792000" cy="319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 rot="441000">
            <a:off x="6948000" y="5084280"/>
            <a:ext cx="2016360" cy="99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8820000" y="115920"/>
            <a:ext cx="144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3274920"/>
            <a:ext cx="1584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10:22:18Z</dcterms:created>
  <dc:creator>MEAH010</dc:creator>
  <dc:description/>
  <dc:language>en-US</dc:language>
  <cp:lastModifiedBy>MEAH010</cp:lastModifiedBy>
  <dcterms:modified xsi:type="dcterms:W3CDTF">2008-02-05T14:50:12Z</dcterms:modified>
  <cp:revision>23</cp:revision>
  <dc:subject/>
  <dc:title>Support de communication</dc:title>
</cp:coreProperties>
</file>