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33360" y="631800"/>
            <a:ext cx="619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 l’hôpital, votre </a:t>
            </a: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sécur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’est au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bien s'identif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33360" y="2432160"/>
            <a:ext cx="360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Vous devez nous fournir vos 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documents de couverture sociale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 (carte vitale, mutuelle, CMU, assurance privé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33360" y="3805200"/>
            <a:ext cx="3240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et nous présenter également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—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arte d’ident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— 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ou 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ass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— 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ou 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arte de sé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33360" y="5191200"/>
            <a:ext cx="61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Les données concernant votre identité restent confidentiel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624852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Increasing tour security: show your passport or identity card. Identity remains confident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689436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f5f5f"/>
                </a:solidFill>
                <a:latin typeface="Arial"/>
              </a:rPr>
              <a:t>Für Ihre Sicherheit : zeigen Sie Ihren pa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Arial"/>
              </a:rPr>
              <a:t>ß</a:t>
            </a:r>
            <a:r>
              <a:rPr b="0" lang="de-DE" sz="1000" spc="-1" strike="noStrike">
                <a:solidFill>
                  <a:srgbClr val="5f5f5f"/>
                </a:solidFill>
                <a:latin typeface="Arial"/>
              </a:rPr>
              <a:t> und Ihren Personalausweis. Die Identität bleibt vertraulic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754380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</a:rPr>
              <a:t>Per la vostra sicurezza : mostrare il vostro passaporto e vostra scheda d’identità. L’identità rimane confidenzia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814716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f5f5f"/>
                </a:solidFill>
                <a:latin typeface="Arial"/>
              </a:rPr>
              <a:t>Por su seguridad, presenta su pasaporte o carnet de identidad. Su identidad quedara confiden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5771" t="3838" r="6401" b="7036"/>
          <a:stretch/>
        </p:blipFill>
        <p:spPr>
          <a:xfrm rot="619800">
            <a:off x="4052880" y="2503080"/>
            <a:ext cx="1247760" cy="1873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1014400">
            <a:off x="4724280" y="3079800"/>
            <a:ext cx="1517760" cy="1123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29000" y="7615080"/>
            <a:ext cx="384120" cy="255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429000" y="6319800"/>
            <a:ext cx="384120" cy="1922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29000" y="8220240"/>
            <a:ext cx="360360" cy="239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429000" y="6966000"/>
            <a:ext cx="384120" cy="230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7"/>
          <a:srcRect l="0" t="10613" r="0" b="11511"/>
          <a:stretch/>
        </p:blipFill>
        <p:spPr>
          <a:xfrm>
            <a:off x="404640" y="5816520"/>
            <a:ext cx="2571840" cy="3168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4292640" y="3635280"/>
            <a:ext cx="1800360" cy="88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 rot="264600">
            <a:off x="4785840" y="4203720"/>
            <a:ext cx="130680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4:48:35Z</dcterms:created>
  <dc:creator>MEAH010</dc:creator>
  <dc:description/>
  <dc:language>en-US</dc:language>
  <cp:lastModifiedBy>MEAH010</cp:lastModifiedBy>
  <dcterms:modified xsi:type="dcterms:W3CDTF">2008-02-05T14:48:40Z</dcterms:modified>
  <cp:revision>6</cp:revision>
  <dc:subject/>
  <dc:title>Diapositive 1</dc:title>
</cp:coreProperties>
</file>