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0440" y="93240"/>
            <a:ext cx="5284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0440" y="666360"/>
            <a:ext cx="5284800" cy="88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6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9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12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15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18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21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24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27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30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33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36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39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42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45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48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51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54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57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60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63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66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69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72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75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78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81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84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87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90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93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96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99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102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105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108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111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114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117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120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123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126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129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132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135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138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141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144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147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150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153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156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159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162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165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168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06440" y="431496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06440" y="528804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06440" y="8344080"/>
            <a:ext cx="5975280" cy="117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1090440" y="8734320"/>
            <a:ext cx="5291280" cy="781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220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223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226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229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232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235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238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241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244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247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250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253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256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259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262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265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268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271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274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277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280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283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286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289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292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295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298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301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304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307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310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313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316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319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322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325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328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331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334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337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340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343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346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349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352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355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358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361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364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367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370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373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376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379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382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1125360" y="57783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/>
          <p:nvPr/>
        </p:nvSpPr>
        <p:spPr>
          <a:xfrm>
            <a:off x="1125360" y="6066000"/>
            <a:ext cx="524160" cy="18540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1125360" y="63547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1125360" y="664380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1125360" y="693252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1125360" y="72183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1125360" y="75074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1125360" y="77947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239760" y="144288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Princ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239760" y="48099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Objectif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239760" y="53402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239760" y="57834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Comment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239760" y="839952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and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195408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281772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368316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454644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541188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6275520" y="850896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991800" y="87310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1090440" y="855828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195588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368316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4546440" y="855828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541188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152244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238752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>
            <a:off x="3251160" y="8750160"/>
            <a:ext cx="0" cy="765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/>
          <p:nvPr/>
        </p:nvSpPr>
        <p:spPr>
          <a:xfrm>
            <a:off x="4114800" y="8750160"/>
            <a:ext cx="0" cy="765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/>
          <p:nvPr/>
        </p:nvSpPr>
        <p:spPr>
          <a:xfrm>
            <a:off x="4970520" y="871524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>
            <a:off x="584352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991800" y="805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991800" y="7761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991800" y="7475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991800" y="71866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991800" y="6899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991800" y="661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991800" y="6321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991800" y="6032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1125360" y="808344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5411880" y="480852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4546440" y="480996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1090440" y="4773600"/>
            <a:ext cx="1297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icat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546440" y="4773600"/>
            <a:ext cx="865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initia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239760" y="43689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o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239760" y="1009800"/>
            <a:ext cx="850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Bonne prat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3753000" y="3956040"/>
            <a:ext cx="612720" cy="3142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/>
          <p:nvPr/>
        </p:nvSpPr>
        <p:spPr>
          <a:xfrm>
            <a:off x="3119400" y="3956040"/>
            <a:ext cx="704880" cy="314280"/>
          </a:xfrm>
          <a:prstGeom prst="rightArrow">
            <a:avLst>
              <a:gd name="adj1" fmla="val 66833"/>
              <a:gd name="adj2" fmla="val 73245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Actio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368280" y="391968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Ci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5408640" y="4773600"/>
            <a:ext cx="865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cib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485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488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491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494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497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500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503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506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509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512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515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518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521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524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527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530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533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536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539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542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545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548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551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554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557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560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563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566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569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572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575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578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581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584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587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590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593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596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599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602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605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608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611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614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617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620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623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626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629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632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635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638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641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644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647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/>
          <p:nvPr/>
        </p:nvSpPr>
        <p:spPr>
          <a:xfrm>
            <a:off x="239760" y="144288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Princ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/>
          <p:nvPr/>
        </p:nvSpPr>
        <p:spPr>
          <a:xfrm>
            <a:off x="239760" y="1009800"/>
            <a:ext cx="850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Bonne prat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Ci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>
            <a:off x="406440" y="192888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/>
          <p:nvPr/>
        </p:nvSpPr>
        <p:spPr>
          <a:xfrm>
            <a:off x="406440" y="7435800"/>
            <a:ext cx="5975280" cy="2062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/>
          <p:nvPr/>
        </p:nvSpPr>
        <p:spPr>
          <a:xfrm>
            <a:off x="1090440" y="7826400"/>
            <a:ext cx="5291280" cy="1671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704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707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710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713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716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719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722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725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728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731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734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737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740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743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746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749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752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755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758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761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764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767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770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773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776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779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782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785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788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791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794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797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800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803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806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809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812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815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818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821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824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827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830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833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836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839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842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845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848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851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854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857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860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863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866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"/>
          <p:cNvSpPr/>
          <p:nvPr/>
        </p:nvSpPr>
        <p:spPr>
          <a:xfrm>
            <a:off x="1125360" y="2419200"/>
            <a:ext cx="524160" cy="18288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/>
          <p:nvPr/>
        </p:nvSpPr>
        <p:spPr>
          <a:xfrm>
            <a:off x="1125360" y="2779560"/>
            <a:ext cx="524160" cy="18288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1125360" y="313848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1125360" y="349884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1125360" y="38592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1125360" y="421956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>
            <a:off x="1125360" y="45799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/>
          <p:nvPr/>
        </p:nvSpPr>
        <p:spPr>
          <a:xfrm>
            <a:off x="1125360" y="49388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/>
          <p:nvPr/>
        </p:nvSpPr>
        <p:spPr>
          <a:xfrm>
            <a:off x="239760" y="14763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Objectif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"/>
          <p:cNvSpPr/>
          <p:nvPr/>
        </p:nvSpPr>
        <p:spPr>
          <a:xfrm>
            <a:off x="239760" y="20066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"/>
          <p:cNvSpPr/>
          <p:nvPr/>
        </p:nvSpPr>
        <p:spPr>
          <a:xfrm>
            <a:off x="239760" y="24494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Comment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/>
          <p:nvPr/>
        </p:nvSpPr>
        <p:spPr>
          <a:xfrm>
            <a:off x="239760" y="75168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and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"/>
          <p:cNvSpPr/>
          <p:nvPr/>
        </p:nvSpPr>
        <p:spPr>
          <a:xfrm>
            <a:off x="1954080" y="7616880"/>
            <a:ext cx="0" cy="1881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/>
          <p:nvPr/>
        </p:nvSpPr>
        <p:spPr>
          <a:xfrm>
            <a:off x="2817720" y="7616880"/>
            <a:ext cx="0" cy="1881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"/>
          <p:cNvSpPr/>
          <p:nvPr/>
        </p:nvSpPr>
        <p:spPr>
          <a:xfrm>
            <a:off x="3683160" y="7616880"/>
            <a:ext cx="0" cy="1898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/>
          <p:nvPr/>
        </p:nvSpPr>
        <p:spPr>
          <a:xfrm>
            <a:off x="4546440" y="7616880"/>
            <a:ext cx="0" cy="1881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/>
          <p:nvPr/>
        </p:nvSpPr>
        <p:spPr>
          <a:xfrm>
            <a:off x="5411880" y="7616880"/>
            <a:ext cx="0" cy="1898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/>
          <p:nvPr/>
        </p:nvSpPr>
        <p:spPr>
          <a:xfrm>
            <a:off x="6275520" y="7601040"/>
            <a:ext cx="0" cy="1914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991800" y="7823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/>
          <p:nvPr/>
        </p:nvSpPr>
        <p:spPr>
          <a:xfrm>
            <a:off x="1090440" y="765000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195588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"/>
          <p:cNvSpPr/>
          <p:nvPr/>
        </p:nvSpPr>
        <p:spPr>
          <a:xfrm>
            <a:off x="281952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/>
          <p:nvPr/>
        </p:nvSpPr>
        <p:spPr>
          <a:xfrm>
            <a:off x="368316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"/>
          <p:cNvSpPr/>
          <p:nvPr/>
        </p:nvSpPr>
        <p:spPr>
          <a:xfrm>
            <a:off x="4546440" y="765000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/>
          <p:nvPr/>
        </p:nvSpPr>
        <p:spPr>
          <a:xfrm>
            <a:off x="541188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/>
          <p:nvPr/>
        </p:nvSpPr>
        <p:spPr>
          <a:xfrm>
            <a:off x="1522440" y="7823160"/>
            <a:ext cx="0" cy="167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"/>
          <p:cNvSpPr/>
          <p:nvPr/>
        </p:nvSpPr>
        <p:spPr>
          <a:xfrm>
            <a:off x="2387520" y="7823160"/>
            <a:ext cx="0" cy="167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3251160" y="7842240"/>
            <a:ext cx="0" cy="165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7842240"/>
            <a:ext cx="0" cy="165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4970520" y="7807320"/>
            <a:ext cx="0" cy="1690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5843520" y="7823160"/>
            <a:ext cx="0" cy="167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991800" y="5267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991800" y="49068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991800" y="45464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991800" y="41878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991800" y="3827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991800" y="3467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991800" y="31100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991800" y="27464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"/>
          <p:cNvSpPr/>
          <p:nvPr/>
        </p:nvSpPr>
        <p:spPr>
          <a:xfrm>
            <a:off x="1125360" y="529920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5411880" y="144936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/>
          <p:nvPr/>
        </p:nvSpPr>
        <p:spPr>
          <a:xfrm>
            <a:off x="4546440" y="145080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"/>
          <p:cNvSpPr/>
          <p:nvPr/>
        </p:nvSpPr>
        <p:spPr>
          <a:xfrm>
            <a:off x="1090440" y="1417680"/>
            <a:ext cx="1297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icat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"/>
          <p:cNvSpPr/>
          <p:nvPr/>
        </p:nvSpPr>
        <p:spPr>
          <a:xfrm>
            <a:off x="4546440" y="1417680"/>
            <a:ext cx="865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initia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"/>
          <p:cNvSpPr/>
          <p:nvPr/>
        </p:nvSpPr>
        <p:spPr>
          <a:xfrm>
            <a:off x="239760" y="10098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o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A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"/>
          <p:cNvSpPr/>
          <p:nvPr/>
        </p:nvSpPr>
        <p:spPr>
          <a:xfrm>
            <a:off x="5408640" y="1417680"/>
            <a:ext cx="865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cib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"/>
          <p:cNvSpPr/>
          <p:nvPr/>
        </p:nvSpPr>
        <p:spPr>
          <a:xfrm>
            <a:off x="1125360" y="56689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"/>
          <p:cNvSpPr/>
          <p:nvPr/>
        </p:nvSpPr>
        <p:spPr>
          <a:xfrm>
            <a:off x="1125360" y="60278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1125360" y="639144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1125360" y="67500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1125360" y="710892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991800" y="7077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991800" y="6718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991800" y="63579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991800" y="5996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991800" y="56358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 flipH="1">
            <a:off x="420840" y="9561600"/>
            <a:ext cx="6248160" cy="2635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3141720" y="4730760"/>
            <a:ext cx="828720" cy="47448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 flipH="1">
            <a:off x="40428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40428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70392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579000" y="32040"/>
            <a:ext cx="269640" cy="132840"/>
            <a:chOff x="6579000" y="32040"/>
            <a:chExt cx="269640" cy="132840"/>
          </a:xfrm>
        </p:grpSpPr>
        <p:sp>
          <p:nvSpPr>
            <p:cNvPr id="973" name=""/>
            <p:cNvSpPr/>
            <p:nvPr/>
          </p:nvSpPr>
          <p:spPr>
            <a:xfrm rot="10800000">
              <a:off x="6579000" y="49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0800000">
              <a:off x="6615720" y="3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579000" y="211320"/>
            <a:ext cx="269640" cy="132840"/>
            <a:chOff x="6579000" y="211320"/>
            <a:chExt cx="269640" cy="132840"/>
          </a:xfrm>
        </p:grpSpPr>
        <p:sp>
          <p:nvSpPr>
            <p:cNvPr id="976" name=""/>
            <p:cNvSpPr/>
            <p:nvPr/>
          </p:nvSpPr>
          <p:spPr>
            <a:xfrm rot="10800000">
              <a:off x="6579000" y="22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0800000">
              <a:off x="6615720" y="21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6579000" y="390960"/>
            <a:ext cx="269640" cy="131400"/>
            <a:chOff x="6579000" y="390960"/>
            <a:chExt cx="269640" cy="131400"/>
          </a:xfrm>
        </p:grpSpPr>
        <p:sp>
          <p:nvSpPr>
            <p:cNvPr id="979" name=""/>
            <p:cNvSpPr/>
            <p:nvPr/>
          </p:nvSpPr>
          <p:spPr>
            <a:xfrm rot="10800000">
              <a:off x="6579000" y="40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0800000">
              <a:off x="6615720" y="39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579000" y="572040"/>
            <a:ext cx="269640" cy="131400"/>
            <a:chOff x="6579000" y="572040"/>
            <a:chExt cx="269640" cy="131400"/>
          </a:xfrm>
        </p:grpSpPr>
        <p:sp>
          <p:nvSpPr>
            <p:cNvPr id="982" name=""/>
            <p:cNvSpPr/>
            <p:nvPr/>
          </p:nvSpPr>
          <p:spPr>
            <a:xfrm rot="10800000">
              <a:off x="6579000" y="58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10800000">
              <a:off x="6615720" y="57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579000" y="749880"/>
            <a:ext cx="269640" cy="136080"/>
            <a:chOff x="6579000" y="749880"/>
            <a:chExt cx="269640" cy="136080"/>
          </a:xfrm>
        </p:grpSpPr>
        <p:sp>
          <p:nvSpPr>
            <p:cNvPr id="985" name=""/>
            <p:cNvSpPr/>
            <p:nvPr/>
          </p:nvSpPr>
          <p:spPr>
            <a:xfrm rot="10800000">
              <a:off x="6579000" y="767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6615720" y="74988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579000" y="930600"/>
            <a:ext cx="269640" cy="132840"/>
            <a:chOff x="6579000" y="930600"/>
            <a:chExt cx="269640" cy="132840"/>
          </a:xfrm>
        </p:grpSpPr>
        <p:sp>
          <p:nvSpPr>
            <p:cNvPr id="988" name=""/>
            <p:cNvSpPr/>
            <p:nvPr/>
          </p:nvSpPr>
          <p:spPr>
            <a:xfrm rot="10800000">
              <a:off x="6579000" y="94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0800000">
              <a:off x="6615720" y="93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579000" y="1109880"/>
            <a:ext cx="269640" cy="132840"/>
            <a:chOff x="6579000" y="1109880"/>
            <a:chExt cx="269640" cy="132840"/>
          </a:xfrm>
        </p:grpSpPr>
        <p:sp>
          <p:nvSpPr>
            <p:cNvPr id="991" name=""/>
            <p:cNvSpPr/>
            <p:nvPr/>
          </p:nvSpPr>
          <p:spPr>
            <a:xfrm rot="10800000">
              <a:off x="6579000" y="112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0800000">
              <a:off x="6615720" y="110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579000" y="1290960"/>
            <a:ext cx="269640" cy="132840"/>
            <a:chOff x="6579000" y="1290960"/>
            <a:chExt cx="269640" cy="132840"/>
          </a:xfrm>
        </p:grpSpPr>
        <p:sp>
          <p:nvSpPr>
            <p:cNvPr id="994" name=""/>
            <p:cNvSpPr/>
            <p:nvPr/>
          </p:nvSpPr>
          <p:spPr>
            <a:xfrm rot="10800000">
              <a:off x="6579000" y="130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0800000">
              <a:off x="6615720" y="129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6" name=""/>
          <p:cNvSpPr/>
          <p:nvPr/>
        </p:nvSpPr>
        <p:spPr>
          <a:xfrm rot="10800000">
            <a:off x="6576480" y="1487520"/>
            <a:ext cx="7164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 rot="10800000">
            <a:off x="6613920" y="1472040"/>
            <a:ext cx="23292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8" y="10993"/>
                </a:moveTo>
                <a:arcTo wR="10800" hR="10800" stAng="61535" swAng="16933966"/>
                <a:lnTo>
                  <a:pt x="10800" y="10800"/>
                </a:lnTo>
                <a:close/>
              </a:path>
              <a:path fill="none" w="21600" h="21600">
                <a:moveTo>
                  <a:pt x="21598" y="10993"/>
                </a:moveTo>
                <a:arcTo wR="10800" hR="10800" stAng="61535" swAng="16933966"/>
              </a:path>
            </a:pathLst>
          </a:custGeom>
          <a:noFill/>
          <a:ln w="9360">
            <a:solidFill>
              <a:srgbClr val="333333"/>
            </a:solidFill>
            <a:miter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579000" y="1651320"/>
            <a:ext cx="269640" cy="132840"/>
            <a:chOff x="6579000" y="1651320"/>
            <a:chExt cx="269640" cy="132840"/>
          </a:xfrm>
        </p:grpSpPr>
        <p:sp>
          <p:nvSpPr>
            <p:cNvPr id="999" name=""/>
            <p:cNvSpPr/>
            <p:nvPr/>
          </p:nvSpPr>
          <p:spPr>
            <a:xfrm rot="10800000">
              <a:off x="6579000" y="166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0800000">
              <a:off x="6615720" y="165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579000" y="1830600"/>
            <a:ext cx="269640" cy="131400"/>
            <a:chOff x="6579000" y="1830600"/>
            <a:chExt cx="269640" cy="131400"/>
          </a:xfrm>
        </p:grpSpPr>
        <p:sp>
          <p:nvSpPr>
            <p:cNvPr id="1002" name=""/>
            <p:cNvSpPr/>
            <p:nvPr/>
          </p:nvSpPr>
          <p:spPr>
            <a:xfrm rot="10800000">
              <a:off x="6579000" y="1848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0800000">
              <a:off x="6615720" y="1830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6579000" y="2011680"/>
            <a:ext cx="269640" cy="132840"/>
            <a:chOff x="6579000" y="2011680"/>
            <a:chExt cx="269640" cy="132840"/>
          </a:xfrm>
        </p:grpSpPr>
        <p:sp>
          <p:nvSpPr>
            <p:cNvPr id="1005" name=""/>
            <p:cNvSpPr/>
            <p:nvPr/>
          </p:nvSpPr>
          <p:spPr>
            <a:xfrm rot="10800000">
              <a:off x="6579000" y="202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0800000">
              <a:off x="6615720" y="201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6579000" y="2189520"/>
            <a:ext cx="269640" cy="135720"/>
            <a:chOff x="6579000" y="2189520"/>
            <a:chExt cx="269640" cy="135720"/>
          </a:xfrm>
        </p:grpSpPr>
        <p:sp>
          <p:nvSpPr>
            <p:cNvPr id="1008" name=""/>
            <p:cNvSpPr/>
            <p:nvPr/>
          </p:nvSpPr>
          <p:spPr>
            <a:xfrm rot="10800000">
              <a:off x="6579000" y="220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0800000">
              <a:off x="6615720" y="21895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579000" y="2372040"/>
            <a:ext cx="269640" cy="131400"/>
            <a:chOff x="6579000" y="2372040"/>
            <a:chExt cx="269640" cy="131400"/>
          </a:xfrm>
        </p:grpSpPr>
        <p:sp>
          <p:nvSpPr>
            <p:cNvPr id="1011" name=""/>
            <p:cNvSpPr/>
            <p:nvPr/>
          </p:nvSpPr>
          <p:spPr>
            <a:xfrm rot="10800000">
              <a:off x="6579000" y="238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0800000">
              <a:off x="6615720" y="237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579000" y="2549880"/>
            <a:ext cx="269640" cy="132840"/>
            <a:chOff x="6579000" y="2549880"/>
            <a:chExt cx="269640" cy="132840"/>
          </a:xfrm>
        </p:grpSpPr>
        <p:sp>
          <p:nvSpPr>
            <p:cNvPr id="1014" name=""/>
            <p:cNvSpPr/>
            <p:nvPr/>
          </p:nvSpPr>
          <p:spPr>
            <a:xfrm rot="10800000">
              <a:off x="6579000" y="256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0800000">
              <a:off x="6615720" y="254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579000" y="2730960"/>
            <a:ext cx="269640" cy="132840"/>
            <a:chOff x="6579000" y="2730960"/>
            <a:chExt cx="269640" cy="132840"/>
          </a:xfrm>
        </p:grpSpPr>
        <p:sp>
          <p:nvSpPr>
            <p:cNvPr id="1017" name=""/>
            <p:cNvSpPr/>
            <p:nvPr/>
          </p:nvSpPr>
          <p:spPr>
            <a:xfrm rot="10800000">
              <a:off x="6579000" y="274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0800000">
              <a:off x="6615720" y="273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579000" y="2911680"/>
            <a:ext cx="269640" cy="132840"/>
            <a:chOff x="6579000" y="2911680"/>
            <a:chExt cx="269640" cy="132840"/>
          </a:xfrm>
        </p:grpSpPr>
        <p:sp>
          <p:nvSpPr>
            <p:cNvPr id="1020" name=""/>
            <p:cNvSpPr/>
            <p:nvPr/>
          </p:nvSpPr>
          <p:spPr>
            <a:xfrm rot="10800000">
              <a:off x="6579000" y="292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0800000">
              <a:off x="6615720" y="291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579000" y="3091320"/>
            <a:ext cx="269640" cy="132840"/>
            <a:chOff x="6579000" y="3091320"/>
            <a:chExt cx="269640" cy="132840"/>
          </a:xfrm>
        </p:grpSpPr>
        <p:sp>
          <p:nvSpPr>
            <p:cNvPr id="1023" name=""/>
            <p:cNvSpPr/>
            <p:nvPr/>
          </p:nvSpPr>
          <p:spPr>
            <a:xfrm rot="10800000">
              <a:off x="6579000" y="310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0800000">
              <a:off x="6615720" y="309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6579000" y="3270600"/>
            <a:ext cx="269640" cy="132840"/>
            <a:chOff x="6579000" y="3270600"/>
            <a:chExt cx="269640" cy="132840"/>
          </a:xfrm>
        </p:grpSpPr>
        <p:sp>
          <p:nvSpPr>
            <p:cNvPr id="1026" name=""/>
            <p:cNvSpPr/>
            <p:nvPr/>
          </p:nvSpPr>
          <p:spPr>
            <a:xfrm rot="10800000">
              <a:off x="6579000" y="328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0800000">
              <a:off x="6615720" y="327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579000" y="3451680"/>
            <a:ext cx="269640" cy="132840"/>
            <a:chOff x="6579000" y="3451680"/>
            <a:chExt cx="269640" cy="132840"/>
          </a:xfrm>
        </p:grpSpPr>
        <p:sp>
          <p:nvSpPr>
            <p:cNvPr id="1029" name=""/>
            <p:cNvSpPr/>
            <p:nvPr/>
          </p:nvSpPr>
          <p:spPr>
            <a:xfrm rot="10800000">
              <a:off x="6579000" y="346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0800000">
              <a:off x="6615720" y="345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579000" y="3630960"/>
            <a:ext cx="269640" cy="131400"/>
            <a:chOff x="6579000" y="3630960"/>
            <a:chExt cx="269640" cy="131400"/>
          </a:xfrm>
        </p:grpSpPr>
        <p:sp>
          <p:nvSpPr>
            <p:cNvPr id="1032" name=""/>
            <p:cNvSpPr/>
            <p:nvPr/>
          </p:nvSpPr>
          <p:spPr>
            <a:xfrm rot="10800000">
              <a:off x="6579000" y="364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0800000">
              <a:off x="6615720" y="363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579000" y="3812040"/>
            <a:ext cx="269640" cy="131400"/>
            <a:chOff x="6579000" y="3812040"/>
            <a:chExt cx="269640" cy="131400"/>
          </a:xfrm>
        </p:grpSpPr>
        <p:sp>
          <p:nvSpPr>
            <p:cNvPr id="1035" name=""/>
            <p:cNvSpPr/>
            <p:nvPr/>
          </p:nvSpPr>
          <p:spPr>
            <a:xfrm rot="10800000">
              <a:off x="6579000" y="382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0800000">
              <a:off x="6615720" y="381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6580440" y="3989880"/>
            <a:ext cx="269640" cy="132840"/>
            <a:chOff x="6580440" y="3989880"/>
            <a:chExt cx="269640" cy="132840"/>
          </a:xfrm>
        </p:grpSpPr>
        <p:sp>
          <p:nvSpPr>
            <p:cNvPr id="1038" name=""/>
            <p:cNvSpPr/>
            <p:nvPr/>
          </p:nvSpPr>
          <p:spPr>
            <a:xfrm rot="10800000">
              <a:off x="6580440" y="400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0800000">
              <a:off x="6617160" y="398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580440" y="4170600"/>
            <a:ext cx="269640" cy="132840"/>
            <a:chOff x="6580440" y="4170600"/>
            <a:chExt cx="269640" cy="132840"/>
          </a:xfrm>
        </p:grpSpPr>
        <p:sp>
          <p:nvSpPr>
            <p:cNvPr id="1041" name=""/>
            <p:cNvSpPr/>
            <p:nvPr/>
          </p:nvSpPr>
          <p:spPr>
            <a:xfrm rot="10800000">
              <a:off x="6580440" y="418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10800000">
              <a:off x="6617160" y="417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6580440" y="4353120"/>
            <a:ext cx="269640" cy="131400"/>
            <a:chOff x="6580440" y="4353120"/>
            <a:chExt cx="269640" cy="131400"/>
          </a:xfrm>
        </p:grpSpPr>
        <p:sp>
          <p:nvSpPr>
            <p:cNvPr id="1044" name=""/>
            <p:cNvSpPr/>
            <p:nvPr/>
          </p:nvSpPr>
          <p:spPr>
            <a:xfrm rot="10800000">
              <a:off x="6580440" y="437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0800000">
              <a:off x="6617160" y="435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6580440" y="4530960"/>
            <a:ext cx="269640" cy="132840"/>
            <a:chOff x="6580440" y="4530960"/>
            <a:chExt cx="269640" cy="132840"/>
          </a:xfrm>
        </p:grpSpPr>
        <p:sp>
          <p:nvSpPr>
            <p:cNvPr id="1047" name=""/>
            <p:cNvSpPr/>
            <p:nvPr/>
          </p:nvSpPr>
          <p:spPr>
            <a:xfrm rot="10800000">
              <a:off x="6580440" y="454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0800000">
              <a:off x="6617160" y="453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6580440" y="4710600"/>
            <a:ext cx="269640" cy="132840"/>
            <a:chOff x="6580440" y="4710600"/>
            <a:chExt cx="269640" cy="132840"/>
          </a:xfrm>
        </p:grpSpPr>
        <p:sp>
          <p:nvSpPr>
            <p:cNvPr id="1050" name=""/>
            <p:cNvSpPr/>
            <p:nvPr/>
          </p:nvSpPr>
          <p:spPr>
            <a:xfrm rot="10800000">
              <a:off x="6580440" y="472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6617160" y="471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580440" y="4891320"/>
            <a:ext cx="269640" cy="132840"/>
            <a:chOff x="6580440" y="4891320"/>
            <a:chExt cx="269640" cy="132840"/>
          </a:xfrm>
        </p:grpSpPr>
        <p:sp>
          <p:nvSpPr>
            <p:cNvPr id="1053" name=""/>
            <p:cNvSpPr/>
            <p:nvPr/>
          </p:nvSpPr>
          <p:spPr>
            <a:xfrm rot="10800000">
              <a:off x="6580440" y="490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6617160" y="489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6580440" y="5070960"/>
            <a:ext cx="269640" cy="131400"/>
            <a:chOff x="6580440" y="5070960"/>
            <a:chExt cx="269640" cy="131400"/>
          </a:xfrm>
        </p:grpSpPr>
        <p:sp>
          <p:nvSpPr>
            <p:cNvPr id="1056" name=""/>
            <p:cNvSpPr/>
            <p:nvPr/>
          </p:nvSpPr>
          <p:spPr>
            <a:xfrm rot="10800000">
              <a:off x="6580440" y="508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6617160" y="507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580440" y="5248800"/>
            <a:ext cx="269640" cy="135720"/>
            <a:chOff x="6580440" y="5248800"/>
            <a:chExt cx="269640" cy="135720"/>
          </a:xfrm>
        </p:grpSpPr>
        <p:sp>
          <p:nvSpPr>
            <p:cNvPr id="1059" name=""/>
            <p:cNvSpPr/>
            <p:nvPr/>
          </p:nvSpPr>
          <p:spPr>
            <a:xfrm rot="10800000">
              <a:off x="6580440" y="52668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0800000">
              <a:off x="6617160" y="524880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6580440" y="5429520"/>
            <a:ext cx="269640" cy="132840"/>
            <a:chOff x="6580440" y="5429520"/>
            <a:chExt cx="269640" cy="132840"/>
          </a:xfrm>
        </p:grpSpPr>
        <p:sp>
          <p:nvSpPr>
            <p:cNvPr id="1062" name=""/>
            <p:cNvSpPr/>
            <p:nvPr/>
          </p:nvSpPr>
          <p:spPr>
            <a:xfrm rot="10800000">
              <a:off x="6580440" y="5446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0800000">
              <a:off x="6617160" y="5429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6580440" y="5612040"/>
            <a:ext cx="269640" cy="131400"/>
            <a:chOff x="6580440" y="5612040"/>
            <a:chExt cx="269640" cy="131400"/>
          </a:xfrm>
        </p:grpSpPr>
        <p:sp>
          <p:nvSpPr>
            <p:cNvPr id="1065" name=""/>
            <p:cNvSpPr/>
            <p:nvPr/>
          </p:nvSpPr>
          <p:spPr>
            <a:xfrm rot="10800000">
              <a:off x="6580440" y="562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0800000">
              <a:off x="6617160" y="561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580440" y="5793120"/>
            <a:ext cx="269640" cy="131400"/>
            <a:chOff x="6580440" y="5793120"/>
            <a:chExt cx="269640" cy="131400"/>
          </a:xfrm>
        </p:grpSpPr>
        <p:sp>
          <p:nvSpPr>
            <p:cNvPr id="1068" name=""/>
            <p:cNvSpPr/>
            <p:nvPr/>
          </p:nvSpPr>
          <p:spPr>
            <a:xfrm rot="10800000">
              <a:off x="6580440" y="581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0800000">
              <a:off x="6617160" y="579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6580440" y="5970960"/>
            <a:ext cx="269640" cy="132840"/>
            <a:chOff x="6580440" y="5970960"/>
            <a:chExt cx="269640" cy="132840"/>
          </a:xfrm>
        </p:grpSpPr>
        <p:sp>
          <p:nvSpPr>
            <p:cNvPr id="1071" name=""/>
            <p:cNvSpPr/>
            <p:nvPr/>
          </p:nvSpPr>
          <p:spPr>
            <a:xfrm rot="10800000">
              <a:off x="6580440" y="598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0800000">
              <a:off x="6617160" y="597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580440" y="6150240"/>
            <a:ext cx="269640" cy="132840"/>
            <a:chOff x="6580440" y="6150240"/>
            <a:chExt cx="269640" cy="132840"/>
          </a:xfrm>
        </p:grpSpPr>
        <p:sp>
          <p:nvSpPr>
            <p:cNvPr id="1074" name=""/>
            <p:cNvSpPr/>
            <p:nvPr/>
          </p:nvSpPr>
          <p:spPr>
            <a:xfrm rot="10800000">
              <a:off x="6580440" y="616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0800000">
              <a:off x="6617160" y="6150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580440" y="6331320"/>
            <a:ext cx="269640" cy="132840"/>
            <a:chOff x="6580440" y="6331320"/>
            <a:chExt cx="269640" cy="132840"/>
          </a:xfrm>
        </p:grpSpPr>
        <p:sp>
          <p:nvSpPr>
            <p:cNvPr id="1077" name=""/>
            <p:cNvSpPr/>
            <p:nvPr/>
          </p:nvSpPr>
          <p:spPr>
            <a:xfrm rot="10800000">
              <a:off x="6580440" y="634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0800000">
              <a:off x="6617160" y="633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580440" y="6510600"/>
            <a:ext cx="269640" cy="132840"/>
            <a:chOff x="6580440" y="6510600"/>
            <a:chExt cx="269640" cy="132840"/>
          </a:xfrm>
        </p:grpSpPr>
        <p:sp>
          <p:nvSpPr>
            <p:cNvPr id="1080" name=""/>
            <p:cNvSpPr/>
            <p:nvPr/>
          </p:nvSpPr>
          <p:spPr>
            <a:xfrm rot="10800000">
              <a:off x="6580440" y="652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0800000">
              <a:off x="6617160" y="651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580440" y="6688440"/>
            <a:ext cx="269640" cy="135720"/>
            <a:chOff x="6580440" y="6688440"/>
            <a:chExt cx="269640" cy="135720"/>
          </a:xfrm>
        </p:grpSpPr>
        <p:sp>
          <p:nvSpPr>
            <p:cNvPr id="1083" name=""/>
            <p:cNvSpPr/>
            <p:nvPr/>
          </p:nvSpPr>
          <p:spPr>
            <a:xfrm rot="10800000">
              <a:off x="6580440" y="6706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0800000">
              <a:off x="6617160" y="66884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6580440" y="6870960"/>
            <a:ext cx="269640" cy="131400"/>
            <a:chOff x="6580440" y="6870960"/>
            <a:chExt cx="269640" cy="131400"/>
          </a:xfrm>
        </p:grpSpPr>
        <p:sp>
          <p:nvSpPr>
            <p:cNvPr id="1086" name=""/>
            <p:cNvSpPr/>
            <p:nvPr/>
          </p:nvSpPr>
          <p:spPr>
            <a:xfrm rot="10800000">
              <a:off x="6580440" y="688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0800000">
              <a:off x="6617160" y="687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580440" y="7052040"/>
            <a:ext cx="269640" cy="131400"/>
            <a:chOff x="6580440" y="7052040"/>
            <a:chExt cx="269640" cy="131400"/>
          </a:xfrm>
        </p:grpSpPr>
        <p:sp>
          <p:nvSpPr>
            <p:cNvPr id="1089" name=""/>
            <p:cNvSpPr/>
            <p:nvPr/>
          </p:nvSpPr>
          <p:spPr>
            <a:xfrm rot="10800000">
              <a:off x="6580440" y="706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0800000">
              <a:off x="6617160" y="705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6580440" y="7229880"/>
            <a:ext cx="269640" cy="135720"/>
            <a:chOff x="6580440" y="7229880"/>
            <a:chExt cx="269640" cy="135720"/>
          </a:xfrm>
        </p:grpSpPr>
        <p:sp>
          <p:nvSpPr>
            <p:cNvPr id="1092" name=""/>
            <p:cNvSpPr/>
            <p:nvPr/>
          </p:nvSpPr>
          <p:spPr>
            <a:xfrm rot="10800000">
              <a:off x="6580440" y="724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0800000">
              <a:off x="6617160" y="722988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580440" y="7410960"/>
            <a:ext cx="269640" cy="132840"/>
            <a:chOff x="6580440" y="7410960"/>
            <a:chExt cx="269640" cy="132840"/>
          </a:xfrm>
        </p:grpSpPr>
        <p:sp>
          <p:nvSpPr>
            <p:cNvPr id="1095" name=""/>
            <p:cNvSpPr/>
            <p:nvPr/>
          </p:nvSpPr>
          <p:spPr>
            <a:xfrm rot="10800000">
              <a:off x="6580440" y="742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0800000">
              <a:off x="6617160" y="741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580440" y="7590240"/>
            <a:ext cx="269640" cy="132840"/>
            <a:chOff x="6580440" y="7590240"/>
            <a:chExt cx="269640" cy="132840"/>
          </a:xfrm>
        </p:grpSpPr>
        <p:sp>
          <p:nvSpPr>
            <p:cNvPr id="1098" name=""/>
            <p:cNvSpPr/>
            <p:nvPr/>
          </p:nvSpPr>
          <p:spPr>
            <a:xfrm rot="10800000">
              <a:off x="6580440" y="760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0800000">
              <a:off x="6617160" y="7590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580440" y="7771320"/>
            <a:ext cx="269640" cy="132840"/>
            <a:chOff x="6580440" y="7771320"/>
            <a:chExt cx="269640" cy="132840"/>
          </a:xfrm>
        </p:grpSpPr>
        <p:sp>
          <p:nvSpPr>
            <p:cNvPr id="1101" name=""/>
            <p:cNvSpPr/>
            <p:nvPr/>
          </p:nvSpPr>
          <p:spPr>
            <a:xfrm rot="10800000">
              <a:off x="6580440" y="778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0800000">
              <a:off x="6617160" y="777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6580440" y="7950600"/>
            <a:ext cx="269640" cy="132840"/>
            <a:chOff x="6580440" y="7950600"/>
            <a:chExt cx="269640" cy="132840"/>
          </a:xfrm>
        </p:grpSpPr>
        <p:sp>
          <p:nvSpPr>
            <p:cNvPr id="1104" name=""/>
            <p:cNvSpPr/>
            <p:nvPr/>
          </p:nvSpPr>
          <p:spPr>
            <a:xfrm rot="10800000">
              <a:off x="6580440" y="796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10800000">
              <a:off x="6617160" y="795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580440" y="8129880"/>
            <a:ext cx="269640" cy="131400"/>
            <a:chOff x="6580440" y="8129880"/>
            <a:chExt cx="269640" cy="131400"/>
          </a:xfrm>
        </p:grpSpPr>
        <p:sp>
          <p:nvSpPr>
            <p:cNvPr id="1107" name=""/>
            <p:cNvSpPr/>
            <p:nvPr/>
          </p:nvSpPr>
          <p:spPr>
            <a:xfrm rot="10800000">
              <a:off x="6580440" y="81475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0800000">
              <a:off x="6617160" y="81298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6580440" y="8310960"/>
            <a:ext cx="269640" cy="131400"/>
            <a:chOff x="6580440" y="8310960"/>
            <a:chExt cx="269640" cy="131400"/>
          </a:xfrm>
        </p:grpSpPr>
        <p:sp>
          <p:nvSpPr>
            <p:cNvPr id="1110" name=""/>
            <p:cNvSpPr/>
            <p:nvPr/>
          </p:nvSpPr>
          <p:spPr>
            <a:xfrm rot="10800000">
              <a:off x="6580440" y="832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0800000">
              <a:off x="6617160" y="831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580440" y="8488800"/>
            <a:ext cx="269640" cy="135720"/>
            <a:chOff x="6580440" y="8488800"/>
            <a:chExt cx="269640" cy="135720"/>
          </a:xfrm>
        </p:grpSpPr>
        <p:sp>
          <p:nvSpPr>
            <p:cNvPr id="1113" name=""/>
            <p:cNvSpPr/>
            <p:nvPr/>
          </p:nvSpPr>
          <p:spPr>
            <a:xfrm rot="10800000">
              <a:off x="6580440" y="85068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0800000">
              <a:off x="6617160" y="848880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6580440" y="8672760"/>
            <a:ext cx="269640" cy="132840"/>
            <a:chOff x="6580440" y="8672760"/>
            <a:chExt cx="269640" cy="132840"/>
          </a:xfrm>
        </p:grpSpPr>
        <p:sp>
          <p:nvSpPr>
            <p:cNvPr id="1116" name=""/>
            <p:cNvSpPr/>
            <p:nvPr/>
          </p:nvSpPr>
          <p:spPr>
            <a:xfrm rot="10800000">
              <a:off x="6580440" y="86900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0800000">
              <a:off x="6617160" y="86727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6580440" y="8853840"/>
            <a:ext cx="269640" cy="132840"/>
            <a:chOff x="6580440" y="8853840"/>
            <a:chExt cx="269640" cy="132840"/>
          </a:xfrm>
        </p:grpSpPr>
        <p:sp>
          <p:nvSpPr>
            <p:cNvPr id="1119" name=""/>
            <p:cNvSpPr/>
            <p:nvPr/>
          </p:nvSpPr>
          <p:spPr>
            <a:xfrm rot="10800000">
              <a:off x="6580440" y="88711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0800000">
              <a:off x="6617160" y="88538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580440" y="9033120"/>
            <a:ext cx="269640" cy="131400"/>
            <a:chOff x="6580440" y="9033120"/>
            <a:chExt cx="269640" cy="131400"/>
          </a:xfrm>
        </p:grpSpPr>
        <p:sp>
          <p:nvSpPr>
            <p:cNvPr id="1122" name=""/>
            <p:cNvSpPr/>
            <p:nvPr/>
          </p:nvSpPr>
          <p:spPr>
            <a:xfrm rot="10800000">
              <a:off x="6580440" y="905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0800000">
              <a:off x="6617160" y="903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6580440" y="9210960"/>
            <a:ext cx="269640" cy="135720"/>
            <a:chOff x="6580440" y="9210960"/>
            <a:chExt cx="269640" cy="135720"/>
          </a:xfrm>
        </p:grpSpPr>
        <p:sp>
          <p:nvSpPr>
            <p:cNvPr id="1125" name=""/>
            <p:cNvSpPr/>
            <p:nvPr/>
          </p:nvSpPr>
          <p:spPr>
            <a:xfrm rot="10800000">
              <a:off x="6580440" y="9228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0800000">
              <a:off x="6617160" y="92109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6580440" y="9392040"/>
            <a:ext cx="269640" cy="132840"/>
            <a:chOff x="6580440" y="9392040"/>
            <a:chExt cx="269640" cy="132840"/>
          </a:xfrm>
        </p:grpSpPr>
        <p:sp>
          <p:nvSpPr>
            <p:cNvPr id="1128" name=""/>
            <p:cNvSpPr/>
            <p:nvPr/>
          </p:nvSpPr>
          <p:spPr>
            <a:xfrm rot="10800000">
              <a:off x="6580440" y="9409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0800000">
              <a:off x="6617160" y="9392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6580440" y="9574560"/>
            <a:ext cx="269640" cy="131400"/>
            <a:chOff x="6580440" y="9574560"/>
            <a:chExt cx="269640" cy="131400"/>
          </a:xfrm>
        </p:grpSpPr>
        <p:sp>
          <p:nvSpPr>
            <p:cNvPr id="1131" name=""/>
            <p:cNvSpPr/>
            <p:nvPr/>
          </p:nvSpPr>
          <p:spPr>
            <a:xfrm rot="10800000">
              <a:off x="6580440" y="95922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0800000">
              <a:off x="6617160" y="95745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6580440" y="9752400"/>
            <a:ext cx="269640" cy="132840"/>
            <a:chOff x="6580440" y="9752400"/>
            <a:chExt cx="269640" cy="132840"/>
          </a:xfrm>
        </p:grpSpPr>
        <p:sp>
          <p:nvSpPr>
            <p:cNvPr id="1134" name=""/>
            <p:cNvSpPr/>
            <p:nvPr/>
          </p:nvSpPr>
          <p:spPr>
            <a:xfrm rot="10800000">
              <a:off x="6580440" y="9769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0800000">
              <a:off x="6617160" y="9752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3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87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eurs impactant ou influençant le déroulement du projet (fiche 1/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333360" y="1676520"/>
          <a:ext cx="6012000" cy="7943760"/>
        </p:xfrm>
        <a:graphic>
          <a:graphicData uri="http://schemas.openxmlformats.org/drawingml/2006/table">
            <a:tbl>
              <a:tblPr/>
              <a:tblGrid>
                <a:gridCol w="755640"/>
                <a:gridCol w="214200"/>
                <a:gridCol w="144720"/>
                <a:gridCol w="144360"/>
                <a:gridCol w="141120"/>
                <a:gridCol w="144720"/>
                <a:gridCol w="144360"/>
                <a:gridCol w="142920"/>
                <a:gridCol w="144360"/>
                <a:gridCol w="141480"/>
                <a:gridCol w="144360"/>
                <a:gridCol w="144360"/>
                <a:gridCol w="142920"/>
                <a:gridCol w="144360"/>
                <a:gridCol w="144720"/>
                <a:gridCol w="141120"/>
                <a:gridCol w="3032280"/>
              </a:tblGrid>
              <a:tr h="378000"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ption du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 vis-à-vis du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faire évoluer cet acteur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70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é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i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9" name=""/>
          <p:cNvSpPr/>
          <p:nvPr/>
        </p:nvSpPr>
        <p:spPr>
          <a:xfrm>
            <a:off x="4489560" y="2268360"/>
            <a:ext cx="631800" cy="632160"/>
          </a:xfrm>
          <a:custGeom>
            <a:avLst/>
            <a:gdLst>
              <a:gd name="textAreaLeft" fmla="*/ 0 w 631800"/>
              <a:gd name="textAreaRight" fmla="*/ 632160 w 631800"/>
              <a:gd name="textAreaTop" fmla="*/ 0 h 632160"/>
              <a:gd name="textAreaBottom" fmla="*/ 632520 h 632160"/>
            </a:gdLst>
            <a:ahLst/>
            <a:rect l="textAreaLeft" t="textAreaTop" r="textAreaRight" b="textAreaBottom"/>
            <a:pathLst>
              <a:path w="21600" h="21600">
                <a:moveTo>
                  <a:pt x="9101" y="15072"/>
                </a:moveTo>
                <a:arcTo wR="-4597" hR="-4597" stAng="6701280" swAng="-14811764"/>
                <a:lnTo>
                  <a:pt x="18460" y="18413"/>
                </a:lnTo>
                <a:arcTo wR="10800" hR="10800" stAng="2689516" swAng="14811764"/>
                <a:lnTo>
                  <a:pt x="15789" y="-1744"/>
                </a:lnTo>
                <a:lnTo>
                  <a:pt x="19036" y="5790"/>
                </a:lnTo>
                <a:lnTo>
                  <a:pt x="11501" y="90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3537000" y="3484440"/>
            <a:ext cx="2124000" cy="215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"/>
          <p:cNvSpPr/>
          <p:nvPr/>
        </p:nvSpPr>
        <p:spPr>
          <a:xfrm>
            <a:off x="3537000" y="5637240"/>
            <a:ext cx="2124000" cy="21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"/>
          <p:cNvSpPr/>
          <p:nvPr/>
        </p:nvSpPr>
        <p:spPr>
          <a:xfrm>
            <a:off x="1335240" y="3484440"/>
            <a:ext cx="2195280" cy="215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"/>
          <p:cNvSpPr/>
          <p:nvPr/>
        </p:nvSpPr>
        <p:spPr>
          <a:xfrm>
            <a:off x="1335240" y="5637240"/>
            <a:ext cx="2187360" cy="21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"/>
          <p:cNvSpPr/>
          <p:nvPr/>
        </p:nvSpPr>
        <p:spPr>
          <a:xfrm>
            <a:off x="1808280" y="3908520"/>
            <a:ext cx="3456000" cy="345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456000"/>
              <a:gd name="textAreaBottom" fmla="*/ 3456360 h 3456000"/>
            </a:gdLst>
            <a:ahLst/>
            <a:rect l="textAreaLeft" t="textAreaTop" r="textAreaRight" b="textAreaBottom"/>
            <a:pathLst>
              <a:path w="21600" h="21600">
                <a:moveTo>
                  <a:pt x="9101" y="15072"/>
                </a:moveTo>
                <a:arcTo wR="-4597" hR="-4597" stAng="6701280" swAng="-14811764"/>
                <a:lnTo>
                  <a:pt x="18460" y="18413"/>
                </a:lnTo>
                <a:arcTo wR="10800" hR="10800" stAng="2689516" swAng="14811764"/>
                <a:lnTo>
                  <a:pt x="15789" y="-1744"/>
                </a:lnTo>
                <a:lnTo>
                  <a:pt x="19036" y="5790"/>
                </a:lnTo>
                <a:lnTo>
                  <a:pt x="11501" y="90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09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eurs impactant ou influençant le déroulement du projet (fiche 2/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529080" y="2863440"/>
            <a:ext cx="7920" cy="525636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"/>
          <p:cNvSpPr/>
          <p:nvPr/>
        </p:nvSpPr>
        <p:spPr>
          <a:xfrm>
            <a:off x="1160640" y="5637240"/>
            <a:ext cx="5111640" cy="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3105000" y="3403080"/>
            <a:ext cx="504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22762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442880" y="3403080"/>
            <a:ext cx="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393192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475596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55828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334880" y="5205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334880" y="437688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334880" y="354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334880" y="603252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334880" y="6861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1334880" y="768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"/>
          <p:cNvSpPr/>
          <p:nvPr/>
        </p:nvSpPr>
        <p:spPr>
          <a:xfrm>
            <a:off x="5624640" y="5637240"/>
            <a:ext cx="8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titude vis-à-vis du pro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"/>
          <p:cNvSpPr/>
          <p:nvPr/>
        </p:nvSpPr>
        <p:spPr>
          <a:xfrm>
            <a:off x="3537000" y="2828880"/>
            <a:ext cx="10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rception du pro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"/>
          <p:cNvSpPr/>
          <p:nvPr/>
        </p:nvSpPr>
        <p:spPr>
          <a:xfrm>
            <a:off x="3500280" y="7624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"/>
          <p:cNvSpPr/>
          <p:nvPr/>
        </p:nvSpPr>
        <p:spPr>
          <a:xfrm>
            <a:off x="3500280" y="68245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"/>
          <p:cNvSpPr/>
          <p:nvPr/>
        </p:nvSpPr>
        <p:spPr>
          <a:xfrm>
            <a:off x="3500280" y="5996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"/>
          <p:cNvSpPr/>
          <p:nvPr/>
        </p:nvSpPr>
        <p:spPr>
          <a:xfrm>
            <a:off x="3500280" y="5176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"/>
          <p:cNvSpPr/>
          <p:nvPr/>
        </p:nvSpPr>
        <p:spPr>
          <a:xfrm>
            <a:off x="3500280" y="43480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"/>
          <p:cNvSpPr/>
          <p:nvPr/>
        </p:nvSpPr>
        <p:spPr>
          <a:xfrm>
            <a:off x="3500280" y="34844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"/>
          <p:cNvSpPr/>
          <p:nvPr/>
        </p:nvSpPr>
        <p:spPr>
          <a:xfrm>
            <a:off x="119700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/>
          <p:nvPr/>
        </p:nvSpPr>
        <p:spPr>
          <a:xfrm>
            <a:off x="206064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"/>
          <p:cNvSpPr/>
          <p:nvPr/>
        </p:nvSpPr>
        <p:spPr>
          <a:xfrm>
            <a:off x="288756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/>
          <p:nvPr/>
        </p:nvSpPr>
        <p:spPr>
          <a:xfrm>
            <a:off x="371628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"/>
          <p:cNvSpPr/>
          <p:nvPr/>
        </p:nvSpPr>
        <p:spPr>
          <a:xfrm>
            <a:off x="454356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"/>
          <p:cNvSpPr/>
          <p:nvPr/>
        </p:nvSpPr>
        <p:spPr>
          <a:xfrm>
            <a:off x="537228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"/>
          <p:cNvSpPr/>
          <p:nvPr/>
        </p:nvSpPr>
        <p:spPr>
          <a:xfrm>
            <a:off x="116064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ésitants, attentist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/>
          <p:nvPr/>
        </p:nvSpPr>
        <p:spPr>
          <a:xfrm>
            <a:off x="497520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Engagés, pionni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"/>
          <p:cNvSpPr/>
          <p:nvPr/>
        </p:nvSpPr>
        <p:spPr>
          <a:xfrm>
            <a:off x="1160640" y="7796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Sceptiqu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"/>
          <p:cNvSpPr/>
          <p:nvPr/>
        </p:nvSpPr>
        <p:spPr>
          <a:xfrm>
            <a:off x="4975200" y="779616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Opposants, hosti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"/>
          <p:cNvSpPr/>
          <p:nvPr/>
        </p:nvSpPr>
        <p:spPr>
          <a:xfrm>
            <a:off x="1287360" y="2416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"/>
          <p:cNvSpPr/>
          <p:nvPr/>
        </p:nvSpPr>
        <p:spPr>
          <a:xfrm>
            <a:off x="2293920" y="2378160"/>
            <a:ext cx="111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"/>
          <p:cNvSpPr/>
          <p:nvPr/>
        </p:nvSpPr>
        <p:spPr>
          <a:xfrm>
            <a:off x="211608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"/>
          <p:cNvSpPr/>
          <p:nvPr/>
        </p:nvSpPr>
        <p:spPr>
          <a:xfrm>
            <a:off x="2116080" y="2379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60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ions du projet (fiche 1/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873000" y="1676520"/>
          <a:ext cx="5472360" cy="7943760"/>
        </p:xfrm>
        <a:graphic>
          <a:graphicData uri="http://schemas.openxmlformats.org/drawingml/2006/table">
            <a:tbl>
              <a:tblPr/>
              <a:tblGrid>
                <a:gridCol w="216000"/>
                <a:gridCol w="3246480"/>
                <a:gridCol w="144360"/>
                <a:gridCol w="144720"/>
                <a:gridCol w="141120"/>
                <a:gridCol w="144360"/>
                <a:gridCol w="144720"/>
                <a:gridCol w="142560"/>
                <a:gridCol w="144720"/>
                <a:gridCol w="141120"/>
                <a:gridCol w="144360"/>
                <a:gridCol w="144720"/>
                <a:gridCol w="142920"/>
                <a:gridCol w="144360"/>
                <a:gridCol w="144360"/>
                <a:gridCol w="141480"/>
              </a:tblGrid>
              <a:tr h="415800"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acité de l’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sabilité de l’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rt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ér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i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9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9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262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3537000" y="3484440"/>
            <a:ext cx="2124000" cy="215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"/>
          <p:cNvSpPr/>
          <p:nvPr/>
        </p:nvSpPr>
        <p:spPr>
          <a:xfrm>
            <a:off x="3537000" y="5637240"/>
            <a:ext cx="2124000" cy="21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"/>
          <p:cNvSpPr/>
          <p:nvPr/>
        </p:nvSpPr>
        <p:spPr>
          <a:xfrm>
            <a:off x="1335240" y="3484440"/>
            <a:ext cx="2195280" cy="215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"/>
          <p:cNvSpPr/>
          <p:nvPr/>
        </p:nvSpPr>
        <p:spPr>
          <a:xfrm>
            <a:off x="1335240" y="5637240"/>
            <a:ext cx="2187360" cy="21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0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ions du projet (fiche 2/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529080" y="2863440"/>
            <a:ext cx="7920" cy="525636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"/>
          <p:cNvSpPr/>
          <p:nvPr/>
        </p:nvSpPr>
        <p:spPr>
          <a:xfrm>
            <a:off x="1160640" y="5637240"/>
            <a:ext cx="5111640" cy="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"/>
          <p:cNvSpPr/>
          <p:nvPr/>
        </p:nvSpPr>
        <p:spPr>
          <a:xfrm flipH="1" flipV="1">
            <a:off x="3105000" y="3403080"/>
            <a:ext cx="504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22762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42880" y="3403080"/>
            <a:ext cx="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"/>
          <p:cNvSpPr/>
          <p:nvPr/>
        </p:nvSpPr>
        <p:spPr>
          <a:xfrm flipH="1" flipV="1">
            <a:off x="393192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475596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55828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1334880" y="5205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1334880" y="437688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334880" y="354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1334880" y="603252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1334880" y="6861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1334880" y="768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"/>
          <p:cNvSpPr/>
          <p:nvPr/>
        </p:nvSpPr>
        <p:spPr>
          <a:xfrm>
            <a:off x="5624640" y="563724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isabilité de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"/>
          <p:cNvSpPr/>
          <p:nvPr/>
        </p:nvSpPr>
        <p:spPr>
          <a:xfrm>
            <a:off x="3537000" y="2828880"/>
            <a:ext cx="10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icacité de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"/>
          <p:cNvSpPr/>
          <p:nvPr/>
        </p:nvSpPr>
        <p:spPr>
          <a:xfrm>
            <a:off x="3500280" y="7624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"/>
          <p:cNvSpPr/>
          <p:nvPr/>
        </p:nvSpPr>
        <p:spPr>
          <a:xfrm>
            <a:off x="3500280" y="68245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"/>
          <p:cNvSpPr/>
          <p:nvPr/>
        </p:nvSpPr>
        <p:spPr>
          <a:xfrm>
            <a:off x="3500280" y="5996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"/>
          <p:cNvSpPr/>
          <p:nvPr/>
        </p:nvSpPr>
        <p:spPr>
          <a:xfrm>
            <a:off x="3500280" y="5176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"/>
          <p:cNvSpPr/>
          <p:nvPr/>
        </p:nvSpPr>
        <p:spPr>
          <a:xfrm>
            <a:off x="3500280" y="43480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"/>
          <p:cNvSpPr/>
          <p:nvPr/>
        </p:nvSpPr>
        <p:spPr>
          <a:xfrm>
            <a:off x="3500280" y="34844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"/>
          <p:cNvSpPr/>
          <p:nvPr/>
        </p:nvSpPr>
        <p:spPr>
          <a:xfrm>
            <a:off x="119700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"/>
          <p:cNvSpPr/>
          <p:nvPr/>
        </p:nvSpPr>
        <p:spPr>
          <a:xfrm>
            <a:off x="206064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"/>
          <p:cNvSpPr/>
          <p:nvPr/>
        </p:nvSpPr>
        <p:spPr>
          <a:xfrm>
            <a:off x="288756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"/>
          <p:cNvSpPr/>
          <p:nvPr/>
        </p:nvSpPr>
        <p:spPr>
          <a:xfrm>
            <a:off x="371628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"/>
          <p:cNvSpPr/>
          <p:nvPr/>
        </p:nvSpPr>
        <p:spPr>
          <a:xfrm>
            <a:off x="454356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"/>
          <p:cNvSpPr/>
          <p:nvPr/>
        </p:nvSpPr>
        <p:spPr>
          <a:xfrm>
            <a:off x="537228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"/>
          <p:cNvSpPr/>
          <p:nvPr/>
        </p:nvSpPr>
        <p:spPr>
          <a:xfrm>
            <a:off x="116064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étudier, simplifi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"/>
          <p:cNvSpPr/>
          <p:nvPr/>
        </p:nvSpPr>
        <p:spPr>
          <a:xfrm>
            <a:off x="497520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faire en priorit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"/>
          <p:cNvSpPr/>
          <p:nvPr/>
        </p:nvSpPr>
        <p:spPr>
          <a:xfrm>
            <a:off x="1160640" y="779616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reformul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"/>
          <p:cNvSpPr/>
          <p:nvPr/>
        </p:nvSpPr>
        <p:spPr>
          <a:xfrm>
            <a:off x="4832280" y="77961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tester à petite échel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"/>
          <p:cNvSpPr/>
          <p:nvPr/>
        </p:nvSpPr>
        <p:spPr>
          <a:xfrm>
            <a:off x="1287360" y="2416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él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"/>
          <p:cNvSpPr/>
          <p:nvPr/>
        </p:nvSpPr>
        <p:spPr>
          <a:xfrm>
            <a:off x="2293920" y="2378160"/>
            <a:ext cx="111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api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"/>
          <p:cNvSpPr/>
          <p:nvPr/>
        </p:nvSpPr>
        <p:spPr>
          <a:xfrm>
            <a:off x="211608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"/>
          <p:cNvSpPr/>
          <p:nvPr/>
        </p:nvSpPr>
        <p:spPr>
          <a:xfrm>
            <a:off x="2116080" y="2379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1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truire un plan de communication pertinent et adaptés aux différents publ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404640" y="1676520"/>
          <a:ext cx="5905800" cy="7645320"/>
        </p:xfrm>
        <a:graphic>
          <a:graphicData uri="http://schemas.openxmlformats.org/drawingml/2006/table">
            <a:tbl>
              <a:tblPr/>
              <a:tblGrid>
                <a:gridCol w="689040"/>
                <a:gridCol w="520920"/>
                <a:gridCol w="523800"/>
                <a:gridCol w="523800"/>
                <a:gridCol w="519120"/>
                <a:gridCol w="522360"/>
                <a:gridCol w="522360"/>
                <a:gridCol w="519120"/>
                <a:gridCol w="517320"/>
                <a:gridCol w="509760"/>
                <a:gridCol w="538200"/>
              </a:tblGrid>
              <a:tr h="19202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abliss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s soignantes du bl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s médic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ission des utilisateurs de bl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il de bl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16720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type de communicat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formation / suivi / arbitrage / décis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quo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05452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objectif / message à faire passer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o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576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 est le responsable de la communicat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1196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quel lieu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occas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ù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7928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date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fréquence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d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324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forme ou vecteur utilisé ? (réunion, dossier, affiches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333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 rot="5400000">
            <a:off x="-129960" y="2878200"/>
            <a:ext cx="7731000" cy="527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49" name=""/>
          <p:cNvSpPr/>
          <p:nvPr/>
        </p:nvSpPr>
        <p:spPr>
          <a:xfrm>
            <a:off x="1162080" y="10303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tablir un diagramme de GANT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"/>
          <p:cNvSpPr/>
          <p:nvPr/>
        </p:nvSpPr>
        <p:spPr>
          <a:xfrm>
            <a:off x="620640" y="2043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h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991800" y="2038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991800" y="23256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"/>
          <p:cNvSpPr/>
          <p:nvPr/>
        </p:nvSpPr>
        <p:spPr>
          <a:xfrm>
            <a:off x="620640" y="29084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h4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991800" y="2903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"/>
          <p:cNvSpPr/>
          <p:nvPr/>
        </p:nvSpPr>
        <p:spPr>
          <a:xfrm>
            <a:off x="620640" y="37702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991800" y="3765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/>
          <p:nvPr/>
        </p:nvSpPr>
        <p:spPr>
          <a:xfrm>
            <a:off x="620640" y="46339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991800" y="4629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"/>
          <p:cNvSpPr/>
          <p:nvPr/>
        </p:nvSpPr>
        <p:spPr>
          <a:xfrm>
            <a:off x="620640" y="5499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991800" y="5494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"/>
          <p:cNvSpPr/>
          <p:nvPr/>
        </p:nvSpPr>
        <p:spPr>
          <a:xfrm>
            <a:off x="620640" y="63626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4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1800" y="63579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"/>
          <p:cNvSpPr/>
          <p:nvPr/>
        </p:nvSpPr>
        <p:spPr>
          <a:xfrm>
            <a:off x="620640" y="72248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991800" y="7221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"/>
          <p:cNvSpPr/>
          <p:nvPr/>
        </p:nvSpPr>
        <p:spPr>
          <a:xfrm>
            <a:off x="620640" y="80913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991800" y="80884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"/>
          <p:cNvSpPr/>
          <p:nvPr/>
        </p:nvSpPr>
        <p:spPr>
          <a:xfrm>
            <a:off x="620640" y="8955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991800" y="895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991800" y="26146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991800" y="31878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991800" y="3476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991800" y="40514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991800" y="434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991800" y="4916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991800" y="5205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991800" y="578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991800" y="60688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991800" y="66438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991800" y="6932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991800" y="75103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991800" y="77994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991800" y="8372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991800" y="8661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991800" y="92394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991800" y="17542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"/>
          <p:cNvSpPr/>
          <p:nvPr/>
        </p:nvSpPr>
        <p:spPr>
          <a:xfrm>
            <a:off x="3765600" y="1639800"/>
            <a:ext cx="565200" cy="468360"/>
          </a:xfrm>
          <a:prstGeom prst="roundRect">
            <a:avLst>
              <a:gd name="adj" fmla="val 414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"/>
          <p:cNvSpPr/>
          <p:nvPr/>
        </p:nvSpPr>
        <p:spPr>
          <a:xfrm>
            <a:off x="3122640" y="1639800"/>
            <a:ext cx="566640" cy="468360"/>
          </a:xfrm>
          <a:prstGeom prst="roundRect">
            <a:avLst>
              <a:gd name="adj" fmla="val 414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"/>
          <p:cNvSpPr/>
          <p:nvPr/>
        </p:nvSpPr>
        <p:spPr>
          <a:xfrm>
            <a:off x="2481120" y="1639800"/>
            <a:ext cx="565200" cy="468360"/>
          </a:xfrm>
          <a:prstGeom prst="roundRect">
            <a:avLst>
              <a:gd name="adj" fmla="val 4142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"/>
          <p:cNvSpPr/>
          <p:nvPr/>
        </p:nvSpPr>
        <p:spPr>
          <a:xfrm>
            <a:off x="1197000" y="1639800"/>
            <a:ext cx="617400" cy="468360"/>
          </a:xfrm>
          <a:prstGeom prst="parallelogram">
            <a:avLst>
              <a:gd name="adj" fmla="val 163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181440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45736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3098880" y="1892160"/>
            <a:ext cx="0" cy="73821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374184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38300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502452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566748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"/>
          <p:cNvSpPr/>
          <p:nvPr/>
        </p:nvSpPr>
        <p:spPr>
          <a:xfrm>
            <a:off x="1839960" y="1639800"/>
            <a:ext cx="617400" cy="468360"/>
          </a:xfrm>
          <a:prstGeom prst="parallelogram">
            <a:avLst>
              <a:gd name="adj" fmla="val 163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"/>
          <p:cNvSpPr/>
          <p:nvPr/>
        </p:nvSpPr>
        <p:spPr>
          <a:xfrm>
            <a:off x="4406760" y="1639800"/>
            <a:ext cx="617760" cy="468360"/>
          </a:xfrm>
          <a:prstGeom prst="parallelogram">
            <a:avLst>
              <a:gd name="adj" fmla="val 163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"/>
          <p:cNvSpPr/>
          <p:nvPr/>
        </p:nvSpPr>
        <p:spPr>
          <a:xfrm>
            <a:off x="5049720" y="1639800"/>
            <a:ext cx="617760" cy="468360"/>
          </a:xfrm>
          <a:prstGeom prst="parallelogram">
            <a:avLst>
              <a:gd name="adj" fmla="val 163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"/>
          <p:cNvSpPr/>
          <p:nvPr/>
        </p:nvSpPr>
        <p:spPr>
          <a:xfrm>
            <a:off x="5692680" y="1639800"/>
            <a:ext cx="617760" cy="468360"/>
          </a:xfrm>
          <a:prstGeom prst="parallelogram">
            <a:avLst>
              <a:gd name="adj" fmla="val 163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9:45:21Z</dcterms:created>
  <dc:creator>Céline</dc:creator>
  <dc:description/>
  <dc:language>en-US</dc:language>
  <cp:lastModifiedBy>pehaas</cp:lastModifiedBy>
  <dcterms:modified xsi:type="dcterms:W3CDTF">2011-08-22T09:34:28Z</dcterms:modified>
  <cp:revision>220</cp:revision>
  <dc:subject/>
  <dc:title>Diapositive 1</dc:title>
</cp:coreProperties>
</file>