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592280" y="93240"/>
            <a:ext cx="478296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1592280" y="93240"/>
            <a:ext cx="478296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1592280" y="93240"/>
            <a:ext cx="478296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1592280" y="93240"/>
            <a:ext cx="478296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592280" y="93240"/>
            <a:ext cx="478296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0440" y="93240"/>
            <a:ext cx="52848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0440" y="666360"/>
            <a:ext cx="5284800" cy="88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68440" indent="-198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7632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84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79244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5" marL="179244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6" marL="179244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33360" y="154080"/>
            <a:ext cx="584280" cy="3348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89000" y="9561600"/>
            <a:ext cx="624816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228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9740880"/>
            <a:ext cx="269640" cy="132840"/>
            <a:chOff x="6480" y="9740880"/>
            <a:chExt cx="269640" cy="132840"/>
          </a:xfrm>
        </p:grpSpPr>
        <p:sp>
          <p:nvSpPr>
            <p:cNvPr id="6" name=""/>
            <p:cNvSpPr/>
            <p:nvPr/>
          </p:nvSpPr>
          <p:spPr>
            <a:xfrm>
              <a:off x="204840" y="978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80" y="974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6480" y="9561600"/>
            <a:ext cx="269640" cy="132840"/>
            <a:chOff x="6480" y="9561600"/>
            <a:chExt cx="269640" cy="132840"/>
          </a:xfrm>
        </p:grpSpPr>
        <p:sp>
          <p:nvSpPr>
            <p:cNvPr id="9" name=""/>
            <p:cNvSpPr/>
            <p:nvPr/>
          </p:nvSpPr>
          <p:spPr>
            <a:xfrm>
              <a:off x="204840" y="960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480" y="956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6480" y="9383760"/>
            <a:ext cx="269640" cy="131400"/>
            <a:chOff x="6480" y="9383760"/>
            <a:chExt cx="269640" cy="131400"/>
          </a:xfrm>
        </p:grpSpPr>
        <p:sp>
          <p:nvSpPr>
            <p:cNvPr id="12" name=""/>
            <p:cNvSpPr/>
            <p:nvPr/>
          </p:nvSpPr>
          <p:spPr>
            <a:xfrm>
              <a:off x="204840" y="942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480" y="938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6480" y="9202680"/>
            <a:ext cx="269640" cy="131400"/>
            <a:chOff x="6480" y="9202680"/>
            <a:chExt cx="269640" cy="131400"/>
          </a:xfrm>
        </p:grpSpPr>
        <p:sp>
          <p:nvSpPr>
            <p:cNvPr id="15" name=""/>
            <p:cNvSpPr/>
            <p:nvPr/>
          </p:nvSpPr>
          <p:spPr>
            <a:xfrm>
              <a:off x="204840" y="92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480" y="92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6480" y="9020160"/>
            <a:ext cx="269640" cy="135720"/>
            <a:chOff x="6480" y="9020160"/>
            <a:chExt cx="269640" cy="135720"/>
          </a:xfrm>
        </p:grpSpPr>
        <p:sp>
          <p:nvSpPr>
            <p:cNvPr id="18" name=""/>
            <p:cNvSpPr/>
            <p:nvPr/>
          </p:nvSpPr>
          <p:spPr>
            <a:xfrm>
              <a:off x="204840" y="906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480" y="902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" name=""/>
          <p:cNvGrpSpPr/>
          <p:nvPr/>
        </p:nvGrpSpPr>
        <p:grpSpPr>
          <a:xfrm>
            <a:off x="6480" y="8842320"/>
            <a:ext cx="269640" cy="132840"/>
            <a:chOff x="6480" y="8842320"/>
            <a:chExt cx="269640" cy="132840"/>
          </a:xfrm>
        </p:grpSpPr>
        <p:sp>
          <p:nvSpPr>
            <p:cNvPr id="21" name=""/>
            <p:cNvSpPr/>
            <p:nvPr/>
          </p:nvSpPr>
          <p:spPr>
            <a:xfrm>
              <a:off x="204840" y="88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480" y="88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6480" y="8663040"/>
            <a:ext cx="269640" cy="132840"/>
            <a:chOff x="6480" y="8663040"/>
            <a:chExt cx="269640" cy="132840"/>
          </a:xfrm>
        </p:grpSpPr>
        <p:sp>
          <p:nvSpPr>
            <p:cNvPr id="24" name=""/>
            <p:cNvSpPr/>
            <p:nvPr/>
          </p:nvSpPr>
          <p:spPr>
            <a:xfrm>
              <a:off x="204840" y="870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480" y="866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6480" y="8481960"/>
            <a:ext cx="269640" cy="132840"/>
            <a:chOff x="6480" y="8481960"/>
            <a:chExt cx="269640" cy="132840"/>
          </a:xfrm>
        </p:grpSpPr>
        <p:sp>
          <p:nvSpPr>
            <p:cNvPr id="27" name=""/>
            <p:cNvSpPr/>
            <p:nvPr/>
          </p:nvSpPr>
          <p:spPr>
            <a:xfrm>
              <a:off x="204840" y="85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480" y="84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6480" y="8300880"/>
            <a:ext cx="269640" cy="132840"/>
            <a:chOff x="6480" y="8300880"/>
            <a:chExt cx="269640" cy="132840"/>
          </a:xfrm>
        </p:grpSpPr>
        <p:sp>
          <p:nvSpPr>
            <p:cNvPr id="30" name=""/>
            <p:cNvSpPr/>
            <p:nvPr/>
          </p:nvSpPr>
          <p:spPr>
            <a:xfrm>
              <a:off x="204840" y="834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480" y="830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" name=""/>
          <p:cNvGrpSpPr/>
          <p:nvPr/>
        </p:nvGrpSpPr>
        <p:grpSpPr>
          <a:xfrm>
            <a:off x="6480" y="8121600"/>
            <a:ext cx="269640" cy="132840"/>
            <a:chOff x="6480" y="8121600"/>
            <a:chExt cx="269640" cy="132840"/>
          </a:xfrm>
        </p:grpSpPr>
        <p:sp>
          <p:nvSpPr>
            <p:cNvPr id="33" name=""/>
            <p:cNvSpPr/>
            <p:nvPr/>
          </p:nvSpPr>
          <p:spPr>
            <a:xfrm>
              <a:off x="204840" y="81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480" y="81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" name=""/>
          <p:cNvGrpSpPr/>
          <p:nvPr/>
        </p:nvGrpSpPr>
        <p:grpSpPr>
          <a:xfrm>
            <a:off x="6480" y="7943760"/>
            <a:ext cx="269640" cy="131400"/>
            <a:chOff x="6480" y="7943760"/>
            <a:chExt cx="269640" cy="131400"/>
          </a:xfrm>
        </p:grpSpPr>
        <p:sp>
          <p:nvSpPr>
            <p:cNvPr id="36" name=""/>
            <p:cNvSpPr/>
            <p:nvPr/>
          </p:nvSpPr>
          <p:spPr>
            <a:xfrm>
              <a:off x="204840" y="79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6480" y="79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6480" y="7761240"/>
            <a:ext cx="269640" cy="132840"/>
            <a:chOff x="6480" y="7761240"/>
            <a:chExt cx="269640" cy="132840"/>
          </a:xfrm>
        </p:grpSpPr>
        <p:sp>
          <p:nvSpPr>
            <p:cNvPr id="39" name=""/>
            <p:cNvSpPr/>
            <p:nvPr/>
          </p:nvSpPr>
          <p:spPr>
            <a:xfrm>
              <a:off x="204840" y="78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480" y="77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6480" y="7580160"/>
            <a:ext cx="269640" cy="136080"/>
            <a:chOff x="6480" y="7580160"/>
            <a:chExt cx="269640" cy="136080"/>
          </a:xfrm>
        </p:grpSpPr>
        <p:sp>
          <p:nvSpPr>
            <p:cNvPr id="42" name=""/>
            <p:cNvSpPr/>
            <p:nvPr/>
          </p:nvSpPr>
          <p:spPr>
            <a:xfrm>
              <a:off x="204840" y="762552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80" y="758016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6480" y="7402680"/>
            <a:ext cx="269640" cy="131400"/>
            <a:chOff x="6480" y="7402680"/>
            <a:chExt cx="269640" cy="131400"/>
          </a:xfrm>
        </p:grpSpPr>
        <p:sp>
          <p:nvSpPr>
            <p:cNvPr id="45" name=""/>
            <p:cNvSpPr/>
            <p:nvPr/>
          </p:nvSpPr>
          <p:spPr>
            <a:xfrm>
              <a:off x="204840" y="74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80" y="74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480" y="7223040"/>
            <a:ext cx="269640" cy="132840"/>
            <a:chOff x="6480" y="7223040"/>
            <a:chExt cx="269640" cy="132840"/>
          </a:xfrm>
        </p:grpSpPr>
        <p:sp>
          <p:nvSpPr>
            <p:cNvPr id="48" name=""/>
            <p:cNvSpPr/>
            <p:nvPr/>
          </p:nvSpPr>
          <p:spPr>
            <a:xfrm>
              <a:off x="204840" y="726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80" y="722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480" y="7042320"/>
            <a:ext cx="269640" cy="132840"/>
            <a:chOff x="6480" y="7042320"/>
            <a:chExt cx="269640" cy="132840"/>
          </a:xfrm>
        </p:grpSpPr>
        <p:sp>
          <p:nvSpPr>
            <p:cNvPr id="51" name=""/>
            <p:cNvSpPr/>
            <p:nvPr/>
          </p:nvSpPr>
          <p:spPr>
            <a:xfrm>
              <a:off x="204840" y="70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80" y="70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480" y="6861240"/>
            <a:ext cx="269640" cy="132840"/>
            <a:chOff x="6480" y="6861240"/>
            <a:chExt cx="269640" cy="132840"/>
          </a:xfrm>
        </p:grpSpPr>
        <p:sp>
          <p:nvSpPr>
            <p:cNvPr id="54" name=""/>
            <p:cNvSpPr/>
            <p:nvPr/>
          </p:nvSpPr>
          <p:spPr>
            <a:xfrm>
              <a:off x="204840" y="69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80" y="68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480" y="6681960"/>
            <a:ext cx="269640" cy="132840"/>
            <a:chOff x="6480" y="6681960"/>
            <a:chExt cx="269640" cy="132840"/>
          </a:xfrm>
        </p:grpSpPr>
        <p:sp>
          <p:nvSpPr>
            <p:cNvPr id="57" name=""/>
            <p:cNvSpPr/>
            <p:nvPr/>
          </p:nvSpPr>
          <p:spPr>
            <a:xfrm>
              <a:off x="204840" y="67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0" y="66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480" y="6502320"/>
            <a:ext cx="269640" cy="132840"/>
            <a:chOff x="6480" y="6502320"/>
            <a:chExt cx="269640" cy="132840"/>
          </a:xfrm>
        </p:grpSpPr>
        <p:sp>
          <p:nvSpPr>
            <p:cNvPr id="60" name=""/>
            <p:cNvSpPr/>
            <p:nvPr/>
          </p:nvSpPr>
          <p:spPr>
            <a:xfrm>
              <a:off x="204840" y="65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80" y="65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480" y="6321600"/>
            <a:ext cx="269640" cy="132840"/>
            <a:chOff x="6480" y="6321600"/>
            <a:chExt cx="269640" cy="132840"/>
          </a:xfrm>
        </p:grpSpPr>
        <p:sp>
          <p:nvSpPr>
            <p:cNvPr id="63" name=""/>
            <p:cNvSpPr/>
            <p:nvPr/>
          </p:nvSpPr>
          <p:spPr>
            <a:xfrm>
              <a:off x="204840" y="63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0" y="63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480" y="6143760"/>
            <a:ext cx="269640" cy="131400"/>
            <a:chOff x="6480" y="6143760"/>
            <a:chExt cx="269640" cy="131400"/>
          </a:xfrm>
        </p:grpSpPr>
        <p:sp>
          <p:nvSpPr>
            <p:cNvPr id="66" name=""/>
            <p:cNvSpPr/>
            <p:nvPr/>
          </p:nvSpPr>
          <p:spPr>
            <a:xfrm>
              <a:off x="204840" y="61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80" y="61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480" y="5962680"/>
            <a:ext cx="269640" cy="131400"/>
            <a:chOff x="6480" y="5962680"/>
            <a:chExt cx="269640" cy="131400"/>
          </a:xfrm>
        </p:grpSpPr>
        <p:sp>
          <p:nvSpPr>
            <p:cNvPr id="69" name=""/>
            <p:cNvSpPr/>
            <p:nvPr/>
          </p:nvSpPr>
          <p:spPr>
            <a:xfrm>
              <a:off x="204840" y="600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80" y="596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480" y="5783400"/>
            <a:ext cx="269640" cy="132840"/>
            <a:chOff x="6480" y="5783400"/>
            <a:chExt cx="269640" cy="132840"/>
          </a:xfrm>
        </p:grpSpPr>
        <p:sp>
          <p:nvSpPr>
            <p:cNvPr id="72" name=""/>
            <p:cNvSpPr/>
            <p:nvPr/>
          </p:nvSpPr>
          <p:spPr>
            <a:xfrm>
              <a:off x="204840" y="582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80" y="578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80" y="5602320"/>
            <a:ext cx="269640" cy="132840"/>
            <a:chOff x="6480" y="5602320"/>
            <a:chExt cx="269640" cy="132840"/>
          </a:xfrm>
        </p:grpSpPr>
        <p:sp>
          <p:nvSpPr>
            <p:cNvPr id="75" name=""/>
            <p:cNvSpPr/>
            <p:nvPr/>
          </p:nvSpPr>
          <p:spPr>
            <a:xfrm>
              <a:off x="204840" y="56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80" y="56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480" y="5421240"/>
            <a:ext cx="269640" cy="131400"/>
            <a:chOff x="6480" y="5421240"/>
            <a:chExt cx="269640" cy="131400"/>
          </a:xfrm>
        </p:grpSpPr>
        <p:sp>
          <p:nvSpPr>
            <p:cNvPr id="78" name=""/>
            <p:cNvSpPr/>
            <p:nvPr/>
          </p:nvSpPr>
          <p:spPr>
            <a:xfrm>
              <a:off x="204840" y="546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80" y="542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480" y="5241960"/>
            <a:ext cx="269640" cy="132840"/>
            <a:chOff x="6480" y="5241960"/>
            <a:chExt cx="269640" cy="132840"/>
          </a:xfrm>
        </p:grpSpPr>
        <p:sp>
          <p:nvSpPr>
            <p:cNvPr id="81" name=""/>
            <p:cNvSpPr/>
            <p:nvPr/>
          </p:nvSpPr>
          <p:spPr>
            <a:xfrm>
              <a:off x="204840" y="528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80" y="524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480" y="5062680"/>
            <a:ext cx="269640" cy="132840"/>
            <a:chOff x="6480" y="5062680"/>
            <a:chExt cx="269640" cy="132840"/>
          </a:xfrm>
        </p:grpSpPr>
        <p:sp>
          <p:nvSpPr>
            <p:cNvPr id="84" name=""/>
            <p:cNvSpPr/>
            <p:nvPr/>
          </p:nvSpPr>
          <p:spPr>
            <a:xfrm>
              <a:off x="204840" y="510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80" y="506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480" y="4881600"/>
            <a:ext cx="269640" cy="132840"/>
            <a:chOff x="6480" y="4881600"/>
            <a:chExt cx="269640" cy="132840"/>
          </a:xfrm>
        </p:grpSpPr>
        <p:sp>
          <p:nvSpPr>
            <p:cNvPr id="87" name=""/>
            <p:cNvSpPr/>
            <p:nvPr/>
          </p:nvSpPr>
          <p:spPr>
            <a:xfrm>
              <a:off x="204840" y="492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80" y="488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480" y="4703760"/>
            <a:ext cx="269640" cy="131400"/>
            <a:chOff x="6480" y="4703760"/>
            <a:chExt cx="269640" cy="131400"/>
          </a:xfrm>
        </p:grpSpPr>
        <p:sp>
          <p:nvSpPr>
            <p:cNvPr id="90" name=""/>
            <p:cNvSpPr/>
            <p:nvPr/>
          </p:nvSpPr>
          <p:spPr>
            <a:xfrm>
              <a:off x="204840" y="474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0" y="470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80" y="4521240"/>
            <a:ext cx="269640" cy="135720"/>
            <a:chOff x="6480" y="4521240"/>
            <a:chExt cx="269640" cy="135720"/>
          </a:xfrm>
        </p:grpSpPr>
        <p:sp>
          <p:nvSpPr>
            <p:cNvPr id="93" name=""/>
            <p:cNvSpPr/>
            <p:nvPr/>
          </p:nvSpPr>
          <p:spPr>
            <a:xfrm>
              <a:off x="204840" y="456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80" y="452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480" y="4343400"/>
            <a:ext cx="269640" cy="132840"/>
            <a:chOff x="6480" y="4343400"/>
            <a:chExt cx="269640" cy="132840"/>
          </a:xfrm>
        </p:grpSpPr>
        <p:sp>
          <p:nvSpPr>
            <p:cNvPr id="96" name=""/>
            <p:cNvSpPr/>
            <p:nvPr/>
          </p:nvSpPr>
          <p:spPr>
            <a:xfrm>
              <a:off x="204840" y="438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80" y="434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480" y="4162320"/>
            <a:ext cx="269640" cy="131400"/>
            <a:chOff x="6480" y="4162320"/>
            <a:chExt cx="269640" cy="131400"/>
          </a:xfrm>
        </p:grpSpPr>
        <p:sp>
          <p:nvSpPr>
            <p:cNvPr id="99" name=""/>
            <p:cNvSpPr/>
            <p:nvPr/>
          </p:nvSpPr>
          <p:spPr>
            <a:xfrm>
              <a:off x="204840" y="42058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80" y="41623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480" y="3981600"/>
            <a:ext cx="269640" cy="131400"/>
            <a:chOff x="6480" y="3981600"/>
            <a:chExt cx="269640" cy="131400"/>
          </a:xfrm>
        </p:grpSpPr>
        <p:sp>
          <p:nvSpPr>
            <p:cNvPr id="102" name=""/>
            <p:cNvSpPr/>
            <p:nvPr/>
          </p:nvSpPr>
          <p:spPr>
            <a:xfrm>
              <a:off x="204840" y="40251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80" y="39816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480" y="3801960"/>
            <a:ext cx="269640" cy="132840"/>
            <a:chOff x="6480" y="3801960"/>
            <a:chExt cx="269640" cy="132840"/>
          </a:xfrm>
        </p:grpSpPr>
        <p:sp>
          <p:nvSpPr>
            <p:cNvPr id="105" name=""/>
            <p:cNvSpPr/>
            <p:nvPr/>
          </p:nvSpPr>
          <p:spPr>
            <a:xfrm>
              <a:off x="204840" y="38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0" y="38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480" y="3622680"/>
            <a:ext cx="269640" cy="132840"/>
            <a:chOff x="6480" y="3622680"/>
            <a:chExt cx="269640" cy="132840"/>
          </a:xfrm>
        </p:grpSpPr>
        <p:sp>
          <p:nvSpPr>
            <p:cNvPr id="108" name=""/>
            <p:cNvSpPr/>
            <p:nvPr/>
          </p:nvSpPr>
          <p:spPr>
            <a:xfrm>
              <a:off x="204840" y="366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80" y="362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480" y="3441600"/>
            <a:ext cx="269640" cy="132840"/>
            <a:chOff x="6480" y="3441600"/>
            <a:chExt cx="269640" cy="132840"/>
          </a:xfrm>
        </p:grpSpPr>
        <p:sp>
          <p:nvSpPr>
            <p:cNvPr id="111" name=""/>
            <p:cNvSpPr/>
            <p:nvPr/>
          </p:nvSpPr>
          <p:spPr>
            <a:xfrm>
              <a:off x="204840" y="348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80" y="344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480" y="3262320"/>
            <a:ext cx="269640" cy="132840"/>
            <a:chOff x="6480" y="3262320"/>
            <a:chExt cx="269640" cy="132840"/>
          </a:xfrm>
        </p:grpSpPr>
        <p:sp>
          <p:nvSpPr>
            <p:cNvPr id="114" name=""/>
            <p:cNvSpPr/>
            <p:nvPr/>
          </p:nvSpPr>
          <p:spPr>
            <a:xfrm>
              <a:off x="204840" y="33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0" y="32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480" y="3081240"/>
            <a:ext cx="269640" cy="136080"/>
            <a:chOff x="6480" y="3081240"/>
            <a:chExt cx="269640" cy="136080"/>
          </a:xfrm>
        </p:grpSpPr>
        <p:sp>
          <p:nvSpPr>
            <p:cNvPr id="117" name=""/>
            <p:cNvSpPr/>
            <p:nvPr/>
          </p:nvSpPr>
          <p:spPr>
            <a:xfrm>
              <a:off x="204840" y="312660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80" y="308124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480" y="2903400"/>
            <a:ext cx="269640" cy="131400"/>
            <a:chOff x="6480" y="2903400"/>
            <a:chExt cx="269640" cy="131400"/>
          </a:xfrm>
        </p:grpSpPr>
        <p:sp>
          <p:nvSpPr>
            <p:cNvPr id="120" name=""/>
            <p:cNvSpPr/>
            <p:nvPr/>
          </p:nvSpPr>
          <p:spPr>
            <a:xfrm>
              <a:off x="204840" y="29469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80" y="29034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480" y="2722680"/>
            <a:ext cx="269640" cy="131400"/>
            <a:chOff x="6480" y="2722680"/>
            <a:chExt cx="269640" cy="131400"/>
          </a:xfrm>
        </p:grpSpPr>
        <p:sp>
          <p:nvSpPr>
            <p:cNvPr id="123" name=""/>
            <p:cNvSpPr/>
            <p:nvPr/>
          </p:nvSpPr>
          <p:spPr>
            <a:xfrm>
              <a:off x="204840" y="276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80" y="272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480" y="2540160"/>
            <a:ext cx="269640" cy="135720"/>
            <a:chOff x="6480" y="2540160"/>
            <a:chExt cx="269640" cy="135720"/>
          </a:xfrm>
        </p:grpSpPr>
        <p:sp>
          <p:nvSpPr>
            <p:cNvPr id="126" name=""/>
            <p:cNvSpPr/>
            <p:nvPr/>
          </p:nvSpPr>
          <p:spPr>
            <a:xfrm>
              <a:off x="204840" y="258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80" y="254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480" y="2362320"/>
            <a:ext cx="269640" cy="132840"/>
            <a:chOff x="6480" y="2362320"/>
            <a:chExt cx="269640" cy="132840"/>
          </a:xfrm>
        </p:grpSpPr>
        <p:sp>
          <p:nvSpPr>
            <p:cNvPr id="129" name=""/>
            <p:cNvSpPr/>
            <p:nvPr/>
          </p:nvSpPr>
          <p:spPr>
            <a:xfrm>
              <a:off x="204840" y="24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80" y="23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480" y="2182680"/>
            <a:ext cx="269640" cy="132840"/>
            <a:chOff x="6480" y="2182680"/>
            <a:chExt cx="269640" cy="132840"/>
          </a:xfrm>
        </p:grpSpPr>
        <p:sp>
          <p:nvSpPr>
            <p:cNvPr id="132" name=""/>
            <p:cNvSpPr/>
            <p:nvPr/>
          </p:nvSpPr>
          <p:spPr>
            <a:xfrm>
              <a:off x="204840" y="222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80" y="218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480" y="2001960"/>
            <a:ext cx="269640" cy="132840"/>
            <a:chOff x="6480" y="2001960"/>
            <a:chExt cx="269640" cy="132840"/>
          </a:xfrm>
        </p:grpSpPr>
        <p:sp>
          <p:nvSpPr>
            <p:cNvPr id="135" name=""/>
            <p:cNvSpPr/>
            <p:nvPr/>
          </p:nvSpPr>
          <p:spPr>
            <a:xfrm>
              <a:off x="204840" y="20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80" y="20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80" y="1822320"/>
            <a:ext cx="269640" cy="132840"/>
            <a:chOff x="6480" y="1822320"/>
            <a:chExt cx="269640" cy="132840"/>
          </a:xfrm>
        </p:grpSpPr>
        <p:sp>
          <p:nvSpPr>
            <p:cNvPr id="138" name=""/>
            <p:cNvSpPr/>
            <p:nvPr/>
          </p:nvSpPr>
          <p:spPr>
            <a:xfrm>
              <a:off x="204840" y="186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80" y="182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480" y="1644480"/>
            <a:ext cx="269640" cy="131400"/>
            <a:chOff x="6480" y="1644480"/>
            <a:chExt cx="269640" cy="131400"/>
          </a:xfrm>
        </p:grpSpPr>
        <p:sp>
          <p:nvSpPr>
            <p:cNvPr id="141" name=""/>
            <p:cNvSpPr/>
            <p:nvPr/>
          </p:nvSpPr>
          <p:spPr>
            <a:xfrm>
              <a:off x="204840" y="16880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80" y="16444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480" y="1463760"/>
            <a:ext cx="269640" cy="131400"/>
            <a:chOff x="6480" y="1463760"/>
            <a:chExt cx="269640" cy="131400"/>
          </a:xfrm>
        </p:grpSpPr>
        <p:sp>
          <p:nvSpPr>
            <p:cNvPr id="144" name=""/>
            <p:cNvSpPr/>
            <p:nvPr/>
          </p:nvSpPr>
          <p:spPr>
            <a:xfrm>
              <a:off x="204840" y="150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80" y="146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480" y="1281240"/>
            <a:ext cx="269640" cy="135720"/>
            <a:chOff x="6480" y="1281240"/>
            <a:chExt cx="269640" cy="135720"/>
          </a:xfrm>
        </p:grpSpPr>
        <p:sp>
          <p:nvSpPr>
            <p:cNvPr id="147" name=""/>
            <p:cNvSpPr/>
            <p:nvPr/>
          </p:nvSpPr>
          <p:spPr>
            <a:xfrm>
              <a:off x="204840" y="132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80" y="128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480" y="1100160"/>
            <a:ext cx="269640" cy="132840"/>
            <a:chOff x="6480" y="1100160"/>
            <a:chExt cx="269640" cy="132840"/>
          </a:xfrm>
        </p:grpSpPr>
        <p:sp>
          <p:nvSpPr>
            <p:cNvPr id="150" name=""/>
            <p:cNvSpPr/>
            <p:nvPr/>
          </p:nvSpPr>
          <p:spPr>
            <a:xfrm>
              <a:off x="204840" y="11444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80" y="11001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480" y="919080"/>
            <a:ext cx="269640" cy="132840"/>
            <a:chOff x="6480" y="919080"/>
            <a:chExt cx="269640" cy="132840"/>
          </a:xfrm>
        </p:grpSpPr>
        <p:sp>
          <p:nvSpPr>
            <p:cNvPr id="153" name=""/>
            <p:cNvSpPr/>
            <p:nvPr/>
          </p:nvSpPr>
          <p:spPr>
            <a:xfrm>
              <a:off x="204840" y="9633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80" y="9190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480" y="741240"/>
            <a:ext cx="269640" cy="131400"/>
            <a:chOff x="6480" y="741240"/>
            <a:chExt cx="269640" cy="131400"/>
          </a:xfrm>
        </p:grpSpPr>
        <p:sp>
          <p:nvSpPr>
            <p:cNvPr id="156" name=""/>
            <p:cNvSpPr/>
            <p:nvPr/>
          </p:nvSpPr>
          <p:spPr>
            <a:xfrm>
              <a:off x="204840" y="78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0" y="74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480" y="558720"/>
            <a:ext cx="269640" cy="135720"/>
            <a:chOff x="6480" y="558720"/>
            <a:chExt cx="269640" cy="135720"/>
          </a:xfrm>
        </p:grpSpPr>
        <p:sp>
          <p:nvSpPr>
            <p:cNvPr id="159" name=""/>
            <p:cNvSpPr/>
            <p:nvPr/>
          </p:nvSpPr>
          <p:spPr>
            <a:xfrm>
              <a:off x="204840" y="603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80" y="55872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480" y="380880"/>
            <a:ext cx="269640" cy="132840"/>
            <a:chOff x="6480" y="380880"/>
            <a:chExt cx="269640" cy="132840"/>
          </a:xfrm>
        </p:grpSpPr>
        <p:sp>
          <p:nvSpPr>
            <p:cNvPr id="162" name=""/>
            <p:cNvSpPr/>
            <p:nvPr/>
          </p:nvSpPr>
          <p:spPr>
            <a:xfrm>
              <a:off x="204840" y="42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80" y="38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480" y="200160"/>
            <a:ext cx="269640" cy="131400"/>
            <a:chOff x="6480" y="200160"/>
            <a:chExt cx="269640" cy="131400"/>
          </a:xfrm>
        </p:grpSpPr>
        <p:sp>
          <p:nvSpPr>
            <p:cNvPr id="165" name=""/>
            <p:cNvSpPr/>
            <p:nvPr/>
          </p:nvSpPr>
          <p:spPr>
            <a:xfrm>
              <a:off x="204840" y="2437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80" y="2001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480" y="20520"/>
            <a:ext cx="269640" cy="132840"/>
            <a:chOff x="6480" y="20520"/>
            <a:chExt cx="269640" cy="132840"/>
          </a:xfrm>
        </p:grpSpPr>
        <p:sp>
          <p:nvSpPr>
            <p:cNvPr id="168" name=""/>
            <p:cNvSpPr/>
            <p:nvPr/>
          </p:nvSpPr>
          <p:spPr>
            <a:xfrm>
              <a:off x="204840" y="648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80" y="205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H="1">
            <a:off x="151920" y="2052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51920" y="988524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368280" y="55872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06440" y="955800"/>
            <a:ext cx="5975280" cy="46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406440" y="4314960"/>
            <a:ext cx="5975280" cy="458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06440" y="5288040"/>
            <a:ext cx="5975280" cy="458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06440" y="8344080"/>
            <a:ext cx="5975280" cy="1171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1090440" y="8734320"/>
            <a:ext cx="5291280" cy="781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33360" y="154080"/>
            <a:ext cx="584280" cy="334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89000" y="9561600"/>
            <a:ext cx="6248160" cy="263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5228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480" y="9740880"/>
            <a:ext cx="269640" cy="132840"/>
            <a:chOff x="6480" y="9740880"/>
            <a:chExt cx="269640" cy="132840"/>
          </a:xfrm>
        </p:grpSpPr>
        <p:sp>
          <p:nvSpPr>
            <p:cNvPr id="220" name=""/>
            <p:cNvSpPr/>
            <p:nvPr/>
          </p:nvSpPr>
          <p:spPr>
            <a:xfrm>
              <a:off x="204840" y="978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80" y="974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480" y="9561600"/>
            <a:ext cx="269640" cy="132840"/>
            <a:chOff x="6480" y="9561600"/>
            <a:chExt cx="269640" cy="132840"/>
          </a:xfrm>
        </p:grpSpPr>
        <p:sp>
          <p:nvSpPr>
            <p:cNvPr id="223" name=""/>
            <p:cNvSpPr/>
            <p:nvPr/>
          </p:nvSpPr>
          <p:spPr>
            <a:xfrm>
              <a:off x="204840" y="960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80" y="956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480" y="9383760"/>
            <a:ext cx="269640" cy="131400"/>
            <a:chOff x="6480" y="9383760"/>
            <a:chExt cx="269640" cy="131400"/>
          </a:xfrm>
        </p:grpSpPr>
        <p:sp>
          <p:nvSpPr>
            <p:cNvPr id="226" name=""/>
            <p:cNvSpPr/>
            <p:nvPr/>
          </p:nvSpPr>
          <p:spPr>
            <a:xfrm>
              <a:off x="204840" y="942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80" y="938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480" y="9202680"/>
            <a:ext cx="269640" cy="131400"/>
            <a:chOff x="6480" y="9202680"/>
            <a:chExt cx="269640" cy="131400"/>
          </a:xfrm>
        </p:grpSpPr>
        <p:sp>
          <p:nvSpPr>
            <p:cNvPr id="229" name=""/>
            <p:cNvSpPr/>
            <p:nvPr/>
          </p:nvSpPr>
          <p:spPr>
            <a:xfrm>
              <a:off x="204840" y="92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80" y="92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480" y="9020160"/>
            <a:ext cx="269640" cy="135720"/>
            <a:chOff x="6480" y="9020160"/>
            <a:chExt cx="269640" cy="135720"/>
          </a:xfrm>
        </p:grpSpPr>
        <p:sp>
          <p:nvSpPr>
            <p:cNvPr id="232" name=""/>
            <p:cNvSpPr/>
            <p:nvPr/>
          </p:nvSpPr>
          <p:spPr>
            <a:xfrm>
              <a:off x="204840" y="906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80" y="902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480" y="8842320"/>
            <a:ext cx="269640" cy="132840"/>
            <a:chOff x="6480" y="8842320"/>
            <a:chExt cx="269640" cy="132840"/>
          </a:xfrm>
        </p:grpSpPr>
        <p:sp>
          <p:nvSpPr>
            <p:cNvPr id="235" name=""/>
            <p:cNvSpPr/>
            <p:nvPr/>
          </p:nvSpPr>
          <p:spPr>
            <a:xfrm>
              <a:off x="204840" y="88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0" y="88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480" y="8663040"/>
            <a:ext cx="269640" cy="132840"/>
            <a:chOff x="6480" y="8663040"/>
            <a:chExt cx="269640" cy="132840"/>
          </a:xfrm>
        </p:grpSpPr>
        <p:sp>
          <p:nvSpPr>
            <p:cNvPr id="238" name=""/>
            <p:cNvSpPr/>
            <p:nvPr/>
          </p:nvSpPr>
          <p:spPr>
            <a:xfrm>
              <a:off x="204840" y="870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80" y="866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480" y="8481960"/>
            <a:ext cx="269640" cy="132840"/>
            <a:chOff x="6480" y="8481960"/>
            <a:chExt cx="269640" cy="132840"/>
          </a:xfrm>
        </p:grpSpPr>
        <p:sp>
          <p:nvSpPr>
            <p:cNvPr id="241" name=""/>
            <p:cNvSpPr/>
            <p:nvPr/>
          </p:nvSpPr>
          <p:spPr>
            <a:xfrm>
              <a:off x="204840" y="85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80" y="84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480" y="8300880"/>
            <a:ext cx="269640" cy="132840"/>
            <a:chOff x="6480" y="8300880"/>
            <a:chExt cx="269640" cy="132840"/>
          </a:xfrm>
        </p:grpSpPr>
        <p:sp>
          <p:nvSpPr>
            <p:cNvPr id="244" name=""/>
            <p:cNvSpPr/>
            <p:nvPr/>
          </p:nvSpPr>
          <p:spPr>
            <a:xfrm>
              <a:off x="204840" y="834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80" y="830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480" y="8121600"/>
            <a:ext cx="269640" cy="132840"/>
            <a:chOff x="6480" y="8121600"/>
            <a:chExt cx="269640" cy="132840"/>
          </a:xfrm>
        </p:grpSpPr>
        <p:sp>
          <p:nvSpPr>
            <p:cNvPr id="247" name=""/>
            <p:cNvSpPr/>
            <p:nvPr/>
          </p:nvSpPr>
          <p:spPr>
            <a:xfrm>
              <a:off x="204840" y="81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80" y="81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480" y="7943760"/>
            <a:ext cx="269640" cy="131400"/>
            <a:chOff x="6480" y="7943760"/>
            <a:chExt cx="269640" cy="131400"/>
          </a:xfrm>
        </p:grpSpPr>
        <p:sp>
          <p:nvSpPr>
            <p:cNvPr id="250" name=""/>
            <p:cNvSpPr/>
            <p:nvPr/>
          </p:nvSpPr>
          <p:spPr>
            <a:xfrm>
              <a:off x="204840" y="79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80" y="79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480" y="7761240"/>
            <a:ext cx="269640" cy="132840"/>
            <a:chOff x="6480" y="7761240"/>
            <a:chExt cx="269640" cy="132840"/>
          </a:xfrm>
        </p:grpSpPr>
        <p:sp>
          <p:nvSpPr>
            <p:cNvPr id="253" name=""/>
            <p:cNvSpPr/>
            <p:nvPr/>
          </p:nvSpPr>
          <p:spPr>
            <a:xfrm>
              <a:off x="204840" y="78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0" y="77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480" y="7580160"/>
            <a:ext cx="269640" cy="136080"/>
            <a:chOff x="6480" y="7580160"/>
            <a:chExt cx="269640" cy="136080"/>
          </a:xfrm>
        </p:grpSpPr>
        <p:sp>
          <p:nvSpPr>
            <p:cNvPr id="256" name=""/>
            <p:cNvSpPr/>
            <p:nvPr/>
          </p:nvSpPr>
          <p:spPr>
            <a:xfrm>
              <a:off x="204840" y="762552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80" y="758016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480" y="7402680"/>
            <a:ext cx="269640" cy="131400"/>
            <a:chOff x="6480" y="7402680"/>
            <a:chExt cx="269640" cy="131400"/>
          </a:xfrm>
        </p:grpSpPr>
        <p:sp>
          <p:nvSpPr>
            <p:cNvPr id="259" name=""/>
            <p:cNvSpPr/>
            <p:nvPr/>
          </p:nvSpPr>
          <p:spPr>
            <a:xfrm>
              <a:off x="204840" y="74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80" y="74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480" y="7223040"/>
            <a:ext cx="269640" cy="132840"/>
            <a:chOff x="6480" y="7223040"/>
            <a:chExt cx="269640" cy="132840"/>
          </a:xfrm>
        </p:grpSpPr>
        <p:sp>
          <p:nvSpPr>
            <p:cNvPr id="262" name=""/>
            <p:cNvSpPr/>
            <p:nvPr/>
          </p:nvSpPr>
          <p:spPr>
            <a:xfrm>
              <a:off x="204840" y="726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80" y="722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480" y="7042320"/>
            <a:ext cx="269640" cy="132840"/>
            <a:chOff x="6480" y="7042320"/>
            <a:chExt cx="269640" cy="132840"/>
          </a:xfrm>
        </p:grpSpPr>
        <p:sp>
          <p:nvSpPr>
            <p:cNvPr id="265" name=""/>
            <p:cNvSpPr/>
            <p:nvPr/>
          </p:nvSpPr>
          <p:spPr>
            <a:xfrm>
              <a:off x="204840" y="70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80" y="70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480" y="6861240"/>
            <a:ext cx="269640" cy="132840"/>
            <a:chOff x="6480" y="6861240"/>
            <a:chExt cx="269640" cy="132840"/>
          </a:xfrm>
        </p:grpSpPr>
        <p:sp>
          <p:nvSpPr>
            <p:cNvPr id="268" name=""/>
            <p:cNvSpPr/>
            <p:nvPr/>
          </p:nvSpPr>
          <p:spPr>
            <a:xfrm>
              <a:off x="204840" y="69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80" y="68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480" y="6681960"/>
            <a:ext cx="269640" cy="132840"/>
            <a:chOff x="6480" y="6681960"/>
            <a:chExt cx="269640" cy="132840"/>
          </a:xfrm>
        </p:grpSpPr>
        <p:sp>
          <p:nvSpPr>
            <p:cNvPr id="271" name=""/>
            <p:cNvSpPr/>
            <p:nvPr/>
          </p:nvSpPr>
          <p:spPr>
            <a:xfrm>
              <a:off x="204840" y="67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80" y="66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480" y="6502320"/>
            <a:ext cx="269640" cy="132840"/>
            <a:chOff x="6480" y="6502320"/>
            <a:chExt cx="269640" cy="132840"/>
          </a:xfrm>
        </p:grpSpPr>
        <p:sp>
          <p:nvSpPr>
            <p:cNvPr id="274" name=""/>
            <p:cNvSpPr/>
            <p:nvPr/>
          </p:nvSpPr>
          <p:spPr>
            <a:xfrm>
              <a:off x="204840" y="65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80" y="65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480" y="6321600"/>
            <a:ext cx="269640" cy="132840"/>
            <a:chOff x="6480" y="6321600"/>
            <a:chExt cx="269640" cy="132840"/>
          </a:xfrm>
        </p:grpSpPr>
        <p:sp>
          <p:nvSpPr>
            <p:cNvPr id="277" name=""/>
            <p:cNvSpPr/>
            <p:nvPr/>
          </p:nvSpPr>
          <p:spPr>
            <a:xfrm>
              <a:off x="204840" y="63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80" y="63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480" y="6143760"/>
            <a:ext cx="269640" cy="131400"/>
            <a:chOff x="6480" y="6143760"/>
            <a:chExt cx="269640" cy="131400"/>
          </a:xfrm>
        </p:grpSpPr>
        <p:sp>
          <p:nvSpPr>
            <p:cNvPr id="280" name=""/>
            <p:cNvSpPr/>
            <p:nvPr/>
          </p:nvSpPr>
          <p:spPr>
            <a:xfrm>
              <a:off x="204840" y="61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0" y="61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480" y="5962680"/>
            <a:ext cx="269640" cy="131400"/>
            <a:chOff x="6480" y="5962680"/>
            <a:chExt cx="269640" cy="131400"/>
          </a:xfrm>
        </p:grpSpPr>
        <p:sp>
          <p:nvSpPr>
            <p:cNvPr id="283" name=""/>
            <p:cNvSpPr/>
            <p:nvPr/>
          </p:nvSpPr>
          <p:spPr>
            <a:xfrm>
              <a:off x="204840" y="600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80" y="596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480" y="5783400"/>
            <a:ext cx="269640" cy="132840"/>
            <a:chOff x="6480" y="5783400"/>
            <a:chExt cx="269640" cy="132840"/>
          </a:xfrm>
        </p:grpSpPr>
        <p:sp>
          <p:nvSpPr>
            <p:cNvPr id="286" name=""/>
            <p:cNvSpPr/>
            <p:nvPr/>
          </p:nvSpPr>
          <p:spPr>
            <a:xfrm>
              <a:off x="204840" y="582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80" y="578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480" y="5602320"/>
            <a:ext cx="269640" cy="132840"/>
            <a:chOff x="6480" y="5602320"/>
            <a:chExt cx="269640" cy="132840"/>
          </a:xfrm>
        </p:grpSpPr>
        <p:sp>
          <p:nvSpPr>
            <p:cNvPr id="289" name=""/>
            <p:cNvSpPr/>
            <p:nvPr/>
          </p:nvSpPr>
          <p:spPr>
            <a:xfrm>
              <a:off x="204840" y="56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80" y="56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480" y="5421240"/>
            <a:ext cx="269640" cy="131400"/>
            <a:chOff x="6480" y="5421240"/>
            <a:chExt cx="269640" cy="131400"/>
          </a:xfrm>
        </p:grpSpPr>
        <p:sp>
          <p:nvSpPr>
            <p:cNvPr id="292" name=""/>
            <p:cNvSpPr/>
            <p:nvPr/>
          </p:nvSpPr>
          <p:spPr>
            <a:xfrm>
              <a:off x="204840" y="546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80" y="542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480" y="5241960"/>
            <a:ext cx="269640" cy="132840"/>
            <a:chOff x="6480" y="5241960"/>
            <a:chExt cx="269640" cy="132840"/>
          </a:xfrm>
        </p:grpSpPr>
        <p:sp>
          <p:nvSpPr>
            <p:cNvPr id="295" name=""/>
            <p:cNvSpPr/>
            <p:nvPr/>
          </p:nvSpPr>
          <p:spPr>
            <a:xfrm>
              <a:off x="204840" y="528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80" y="524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480" y="5062680"/>
            <a:ext cx="269640" cy="132840"/>
            <a:chOff x="6480" y="5062680"/>
            <a:chExt cx="269640" cy="132840"/>
          </a:xfrm>
        </p:grpSpPr>
        <p:sp>
          <p:nvSpPr>
            <p:cNvPr id="298" name=""/>
            <p:cNvSpPr/>
            <p:nvPr/>
          </p:nvSpPr>
          <p:spPr>
            <a:xfrm>
              <a:off x="204840" y="510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0" y="506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480" y="4881600"/>
            <a:ext cx="269640" cy="132840"/>
            <a:chOff x="6480" y="4881600"/>
            <a:chExt cx="269640" cy="132840"/>
          </a:xfrm>
        </p:grpSpPr>
        <p:sp>
          <p:nvSpPr>
            <p:cNvPr id="301" name=""/>
            <p:cNvSpPr/>
            <p:nvPr/>
          </p:nvSpPr>
          <p:spPr>
            <a:xfrm>
              <a:off x="204840" y="492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80" y="488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480" y="4703760"/>
            <a:ext cx="269640" cy="131400"/>
            <a:chOff x="6480" y="4703760"/>
            <a:chExt cx="269640" cy="131400"/>
          </a:xfrm>
        </p:grpSpPr>
        <p:sp>
          <p:nvSpPr>
            <p:cNvPr id="304" name=""/>
            <p:cNvSpPr/>
            <p:nvPr/>
          </p:nvSpPr>
          <p:spPr>
            <a:xfrm>
              <a:off x="204840" y="474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80" y="470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480" y="4521240"/>
            <a:ext cx="269640" cy="135720"/>
            <a:chOff x="6480" y="4521240"/>
            <a:chExt cx="269640" cy="135720"/>
          </a:xfrm>
        </p:grpSpPr>
        <p:sp>
          <p:nvSpPr>
            <p:cNvPr id="307" name=""/>
            <p:cNvSpPr/>
            <p:nvPr/>
          </p:nvSpPr>
          <p:spPr>
            <a:xfrm>
              <a:off x="204840" y="456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80" y="452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480" y="4343400"/>
            <a:ext cx="269640" cy="132840"/>
            <a:chOff x="6480" y="4343400"/>
            <a:chExt cx="269640" cy="132840"/>
          </a:xfrm>
        </p:grpSpPr>
        <p:sp>
          <p:nvSpPr>
            <p:cNvPr id="310" name=""/>
            <p:cNvSpPr/>
            <p:nvPr/>
          </p:nvSpPr>
          <p:spPr>
            <a:xfrm>
              <a:off x="204840" y="438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80" y="434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80" y="4162320"/>
            <a:ext cx="269640" cy="131400"/>
            <a:chOff x="6480" y="4162320"/>
            <a:chExt cx="269640" cy="131400"/>
          </a:xfrm>
        </p:grpSpPr>
        <p:sp>
          <p:nvSpPr>
            <p:cNvPr id="313" name=""/>
            <p:cNvSpPr/>
            <p:nvPr/>
          </p:nvSpPr>
          <p:spPr>
            <a:xfrm>
              <a:off x="204840" y="42058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80" y="41623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480" y="3981600"/>
            <a:ext cx="269640" cy="131400"/>
            <a:chOff x="6480" y="3981600"/>
            <a:chExt cx="269640" cy="131400"/>
          </a:xfrm>
        </p:grpSpPr>
        <p:sp>
          <p:nvSpPr>
            <p:cNvPr id="316" name=""/>
            <p:cNvSpPr/>
            <p:nvPr/>
          </p:nvSpPr>
          <p:spPr>
            <a:xfrm>
              <a:off x="204840" y="40251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80" y="39816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480" y="3801960"/>
            <a:ext cx="269640" cy="132840"/>
            <a:chOff x="6480" y="3801960"/>
            <a:chExt cx="269640" cy="132840"/>
          </a:xfrm>
        </p:grpSpPr>
        <p:sp>
          <p:nvSpPr>
            <p:cNvPr id="319" name=""/>
            <p:cNvSpPr/>
            <p:nvPr/>
          </p:nvSpPr>
          <p:spPr>
            <a:xfrm>
              <a:off x="204840" y="38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80" y="38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480" y="3622680"/>
            <a:ext cx="269640" cy="132840"/>
            <a:chOff x="6480" y="3622680"/>
            <a:chExt cx="269640" cy="132840"/>
          </a:xfrm>
        </p:grpSpPr>
        <p:sp>
          <p:nvSpPr>
            <p:cNvPr id="322" name=""/>
            <p:cNvSpPr/>
            <p:nvPr/>
          </p:nvSpPr>
          <p:spPr>
            <a:xfrm>
              <a:off x="204840" y="366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80" y="362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480" y="3441600"/>
            <a:ext cx="269640" cy="132840"/>
            <a:chOff x="6480" y="3441600"/>
            <a:chExt cx="269640" cy="132840"/>
          </a:xfrm>
        </p:grpSpPr>
        <p:sp>
          <p:nvSpPr>
            <p:cNvPr id="325" name=""/>
            <p:cNvSpPr/>
            <p:nvPr/>
          </p:nvSpPr>
          <p:spPr>
            <a:xfrm>
              <a:off x="204840" y="348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80" y="344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480" y="3262320"/>
            <a:ext cx="269640" cy="132840"/>
            <a:chOff x="6480" y="3262320"/>
            <a:chExt cx="269640" cy="132840"/>
          </a:xfrm>
        </p:grpSpPr>
        <p:sp>
          <p:nvSpPr>
            <p:cNvPr id="328" name=""/>
            <p:cNvSpPr/>
            <p:nvPr/>
          </p:nvSpPr>
          <p:spPr>
            <a:xfrm>
              <a:off x="204840" y="33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80" y="32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480" y="3081240"/>
            <a:ext cx="269640" cy="136080"/>
            <a:chOff x="6480" y="3081240"/>
            <a:chExt cx="269640" cy="136080"/>
          </a:xfrm>
        </p:grpSpPr>
        <p:sp>
          <p:nvSpPr>
            <p:cNvPr id="331" name=""/>
            <p:cNvSpPr/>
            <p:nvPr/>
          </p:nvSpPr>
          <p:spPr>
            <a:xfrm>
              <a:off x="204840" y="312660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0" y="308124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480" y="2903400"/>
            <a:ext cx="269640" cy="131400"/>
            <a:chOff x="6480" y="2903400"/>
            <a:chExt cx="269640" cy="131400"/>
          </a:xfrm>
        </p:grpSpPr>
        <p:sp>
          <p:nvSpPr>
            <p:cNvPr id="334" name=""/>
            <p:cNvSpPr/>
            <p:nvPr/>
          </p:nvSpPr>
          <p:spPr>
            <a:xfrm>
              <a:off x="204840" y="29469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0" y="29034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480" y="2722680"/>
            <a:ext cx="269640" cy="131400"/>
            <a:chOff x="6480" y="2722680"/>
            <a:chExt cx="269640" cy="131400"/>
          </a:xfrm>
        </p:grpSpPr>
        <p:sp>
          <p:nvSpPr>
            <p:cNvPr id="337" name=""/>
            <p:cNvSpPr/>
            <p:nvPr/>
          </p:nvSpPr>
          <p:spPr>
            <a:xfrm>
              <a:off x="204840" y="276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80" y="272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480" y="2540160"/>
            <a:ext cx="269640" cy="135720"/>
            <a:chOff x="6480" y="2540160"/>
            <a:chExt cx="269640" cy="135720"/>
          </a:xfrm>
        </p:grpSpPr>
        <p:sp>
          <p:nvSpPr>
            <p:cNvPr id="340" name=""/>
            <p:cNvSpPr/>
            <p:nvPr/>
          </p:nvSpPr>
          <p:spPr>
            <a:xfrm>
              <a:off x="204840" y="258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80" y="254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480" y="2362320"/>
            <a:ext cx="269640" cy="132840"/>
            <a:chOff x="6480" y="2362320"/>
            <a:chExt cx="269640" cy="132840"/>
          </a:xfrm>
        </p:grpSpPr>
        <p:sp>
          <p:nvSpPr>
            <p:cNvPr id="343" name=""/>
            <p:cNvSpPr/>
            <p:nvPr/>
          </p:nvSpPr>
          <p:spPr>
            <a:xfrm>
              <a:off x="204840" y="24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80" y="23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480" y="2182680"/>
            <a:ext cx="269640" cy="132840"/>
            <a:chOff x="6480" y="2182680"/>
            <a:chExt cx="269640" cy="132840"/>
          </a:xfrm>
        </p:grpSpPr>
        <p:sp>
          <p:nvSpPr>
            <p:cNvPr id="346" name=""/>
            <p:cNvSpPr/>
            <p:nvPr/>
          </p:nvSpPr>
          <p:spPr>
            <a:xfrm>
              <a:off x="204840" y="222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80" y="218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480" y="2001960"/>
            <a:ext cx="269640" cy="132840"/>
            <a:chOff x="6480" y="2001960"/>
            <a:chExt cx="269640" cy="132840"/>
          </a:xfrm>
        </p:grpSpPr>
        <p:sp>
          <p:nvSpPr>
            <p:cNvPr id="349" name=""/>
            <p:cNvSpPr/>
            <p:nvPr/>
          </p:nvSpPr>
          <p:spPr>
            <a:xfrm>
              <a:off x="204840" y="20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80" y="20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480" y="1822320"/>
            <a:ext cx="269640" cy="132840"/>
            <a:chOff x="6480" y="1822320"/>
            <a:chExt cx="269640" cy="132840"/>
          </a:xfrm>
        </p:grpSpPr>
        <p:sp>
          <p:nvSpPr>
            <p:cNvPr id="352" name=""/>
            <p:cNvSpPr/>
            <p:nvPr/>
          </p:nvSpPr>
          <p:spPr>
            <a:xfrm>
              <a:off x="204840" y="186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80" y="182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480" y="1644480"/>
            <a:ext cx="269640" cy="131400"/>
            <a:chOff x="6480" y="1644480"/>
            <a:chExt cx="269640" cy="131400"/>
          </a:xfrm>
        </p:grpSpPr>
        <p:sp>
          <p:nvSpPr>
            <p:cNvPr id="355" name=""/>
            <p:cNvSpPr/>
            <p:nvPr/>
          </p:nvSpPr>
          <p:spPr>
            <a:xfrm>
              <a:off x="204840" y="16880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80" y="16444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480" y="1463760"/>
            <a:ext cx="269640" cy="131400"/>
            <a:chOff x="6480" y="1463760"/>
            <a:chExt cx="269640" cy="131400"/>
          </a:xfrm>
        </p:grpSpPr>
        <p:sp>
          <p:nvSpPr>
            <p:cNvPr id="358" name=""/>
            <p:cNvSpPr/>
            <p:nvPr/>
          </p:nvSpPr>
          <p:spPr>
            <a:xfrm>
              <a:off x="204840" y="150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80" y="146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6480" y="1281240"/>
            <a:ext cx="269640" cy="135720"/>
            <a:chOff x="6480" y="1281240"/>
            <a:chExt cx="269640" cy="135720"/>
          </a:xfrm>
        </p:grpSpPr>
        <p:sp>
          <p:nvSpPr>
            <p:cNvPr id="361" name=""/>
            <p:cNvSpPr/>
            <p:nvPr/>
          </p:nvSpPr>
          <p:spPr>
            <a:xfrm>
              <a:off x="204840" y="132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80" y="128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480" y="1100160"/>
            <a:ext cx="269640" cy="132840"/>
            <a:chOff x="6480" y="1100160"/>
            <a:chExt cx="269640" cy="132840"/>
          </a:xfrm>
        </p:grpSpPr>
        <p:sp>
          <p:nvSpPr>
            <p:cNvPr id="364" name=""/>
            <p:cNvSpPr/>
            <p:nvPr/>
          </p:nvSpPr>
          <p:spPr>
            <a:xfrm>
              <a:off x="204840" y="11444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80" y="11001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480" y="919080"/>
            <a:ext cx="269640" cy="132840"/>
            <a:chOff x="6480" y="919080"/>
            <a:chExt cx="269640" cy="132840"/>
          </a:xfrm>
        </p:grpSpPr>
        <p:sp>
          <p:nvSpPr>
            <p:cNvPr id="367" name=""/>
            <p:cNvSpPr/>
            <p:nvPr/>
          </p:nvSpPr>
          <p:spPr>
            <a:xfrm>
              <a:off x="204840" y="9633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80" y="9190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480" y="741240"/>
            <a:ext cx="269640" cy="131400"/>
            <a:chOff x="6480" y="741240"/>
            <a:chExt cx="269640" cy="131400"/>
          </a:xfrm>
        </p:grpSpPr>
        <p:sp>
          <p:nvSpPr>
            <p:cNvPr id="370" name=""/>
            <p:cNvSpPr/>
            <p:nvPr/>
          </p:nvSpPr>
          <p:spPr>
            <a:xfrm>
              <a:off x="204840" y="78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80" y="74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480" y="558720"/>
            <a:ext cx="269640" cy="135720"/>
            <a:chOff x="6480" y="558720"/>
            <a:chExt cx="269640" cy="135720"/>
          </a:xfrm>
        </p:grpSpPr>
        <p:sp>
          <p:nvSpPr>
            <p:cNvPr id="373" name=""/>
            <p:cNvSpPr/>
            <p:nvPr/>
          </p:nvSpPr>
          <p:spPr>
            <a:xfrm>
              <a:off x="204840" y="603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80" y="55872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480" y="380880"/>
            <a:ext cx="269640" cy="132840"/>
            <a:chOff x="6480" y="380880"/>
            <a:chExt cx="269640" cy="132840"/>
          </a:xfrm>
        </p:grpSpPr>
        <p:sp>
          <p:nvSpPr>
            <p:cNvPr id="376" name=""/>
            <p:cNvSpPr/>
            <p:nvPr/>
          </p:nvSpPr>
          <p:spPr>
            <a:xfrm>
              <a:off x="204840" y="42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80" y="38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480" y="200160"/>
            <a:ext cx="269640" cy="131400"/>
            <a:chOff x="6480" y="200160"/>
            <a:chExt cx="269640" cy="131400"/>
          </a:xfrm>
        </p:grpSpPr>
        <p:sp>
          <p:nvSpPr>
            <p:cNvPr id="379" name=""/>
            <p:cNvSpPr/>
            <p:nvPr/>
          </p:nvSpPr>
          <p:spPr>
            <a:xfrm>
              <a:off x="204840" y="2437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80" y="2001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480" y="20520"/>
            <a:ext cx="269640" cy="132840"/>
            <a:chOff x="6480" y="20520"/>
            <a:chExt cx="269640" cy="132840"/>
          </a:xfrm>
        </p:grpSpPr>
        <p:sp>
          <p:nvSpPr>
            <p:cNvPr id="382" name=""/>
            <p:cNvSpPr/>
            <p:nvPr/>
          </p:nvSpPr>
          <p:spPr>
            <a:xfrm>
              <a:off x="204840" y="648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80" y="205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"/>
          <p:cNvSpPr/>
          <p:nvPr/>
        </p:nvSpPr>
        <p:spPr>
          <a:xfrm flipH="1">
            <a:off x="151920" y="2052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51920" y="988524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/>
          <p:nvPr/>
        </p:nvSpPr>
        <p:spPr>
          <a:xfrm>
            <a:off x="368280" y="55872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1125360" y="577836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/>
          <p:nvPr/>
        </p:nvSpPr>
        <p:spPr>
          <a:xfrm>
            <a:off x="1125360" y="6066000"/>
            <a:ext cx="524160" cy="185400"/>
          </a:xfrm>
          <a:custGeom>
            <a:avLst/>
            <a:gdLst>
              <a:gd name="textAreaLeft" fmla="*/ 0 w 524160"/>
              <a:gd name="textAreaRight" fmla="*/ 524520 w 52416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1125360" y="6354720"/>
            <a:ext cx="524160" cy="1857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1125360" y="6643800"/>
            <a:ext cx="524160" cy="1825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/>
          <p:nvPr/>
        </p:nvSpPr>
        <p:spPr>
          <a:xfrm>
            <a:off x="1125360" y="6932520"/>
            <a:ext cx="524160" cy="1825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/>
          <p:nvPr/>
        </p:nvSpPr>
        <p:spPr>
          <a:xfrm>
            <a:off x="1125360" y="721836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1125360" y="7507440"/>
            <a:ext cx="524160" cy="1839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/>
          <p:nvPr/>
        </p:nvSpPr>
        <p:spPr>
          <a:xfrm>
            <a:off x="1125360" y="7794720"/>
            <a:ext cx="524160" cy="1857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239760" y="144288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Princ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239760" y="480996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Objectif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239760" y="534024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i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/>
          <p:nvPr/>
        </p:nvSpPr>
        <p:spPr>
          <a:xfrm>
            <a:off x="239760" y="578340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Comment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239760" y="839952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and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Espace réservé du titre 1"/>
          <p:cNvSpPr/>
          <p:nvPr/>
        </p:nvSpPr>
        <p:spPr>
          <a:xfrm>
            <a:off x="1087560" y="93600"/>
            <a:ext cx="612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Axe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/>
          <p:nvPr/>
        </p:nvSpPr>
        <p:spPr>
          <a:xfrm>
            <a:off x="1954080" y="852480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2817720" y="852480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/>
          <p:nvPr/>
        </p:nvSpPr>
        <p:spPr>
          <a:xfrm>
            <a:off x="3683160" y="852480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/>
          <p:nvPr/>
        </p:nvSpPr>
        <p:spPr>
          <a:xfrm>
            <a:off x="4546440" y="852480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5411880" y="852480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/>
          <p:nvPr/>
        </p:nvSpPr>
        <p:spPr>
          <a:xfrm>
            <a:off x="6275520" y="8508960"/>
            <a:ext cx="0" cy="973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991800" y="873108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1090440" y="8558280"/>
            <a:ext cx="613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1955880" y="855828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855828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/>
          <p:nvPr/>
        </p:nvSpPr>
        <p:spPr>
          <a:xfrm>
            <a:off x="3683160" y="855828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4546440" y="8558280"/>
            <a:ext cx="613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/>
          <p:nvPr/>
        </p:nvSpPr>
        <p:spPr>
          <a:xfrm>
            <a:off x="5411880" y="855828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1522440" y="8731080"/>
            <a:ext cx="0" cy="766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/>
          <p:nvPr/>
        </p:nvSpPr>
        <p:spPr>
          <a:xfrm>
            <a:off x="2387520" y="8731080"/>
            <a:ext cx="0" cy="766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/>
          <p:nvPr/>
        </p:nvSpPr>
        <p:spPr>
          <a:xfrm>
            <a:off x="3251160" y="8750160"/>
            <a:ext cx="0" cy="765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/>
          <p:nvPr/>
        </p:nvSpPr>
        <p:spPr>
          <a:xfrm>
            <a:off x="4114800" y="8750160"/>
            <a:ext cx="0" cy="765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/>
          <p:nvPr/>
        </p:nvSpPr>
        <p:spPr>
          <a:xfrm>
            <a:off x="4970520" y="8715240"/>
            <a:ext cx="0" cy="766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/>
          <p:nvPr/>
        </p:nvSpPr>
        <p:spPr>
          <a:xfrm>
            <a:off x="5843520" y="8731080"/>
            <a:ext cx="0" cy="766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991800" y="80503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991800" y="77612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991800" y="74754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991800" y="718668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991800" y="68994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991800" y="66103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991800" y="63216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991800" y="60325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/>
          <p:nvPr/>
        </p:nvSpPr>
        <p:spPr>
          <a:xfrm>
            <a:off x="1125360" y="8083440"/>
            <a:ext cx="524160" cy="1825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/>
          <p:nvPr/>
        </p:nvSpPr>
        <p:spPr>
          <a:xfrm>
            <a:off x="5411880" y="4808520"/>
            <a:ext cx="0" cy="468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/>
          <p:nvPr/>
        </p:nvSpPr>
        <p:spPr>
          <a:xfrm>
            <a:off x="4546440" y="4809960"/>
            <a:ext cx="0" cy="468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/>
          <p:nvPr/>
        </p:nvSpPr>
        <p:spPr>
          <a:xfrm>
            <a:off x="1090440" y="4773600"/>
            <a:ext cx="1297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dicateur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/>
          <p:nvPr/>
        </p:nvSpPr>
        <p:spPr>
          <a:xfrm>
            <a:off x="4546440" y="4773600"/>
            <a:ext cx="865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eur initiale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239760" y="436896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oi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239760" y="1009800"/>
            <a:ext cx="850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Bonne prat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3753000" y="3956040"/>
            <a:ext cx="612720" cy="314280"/>
          </a:xfrm>
          <a:prstGeom prst="ellipse">
            <a:avLst/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/>
          <p:nvPr/>
        </p:nvSpPr>
        <p:spPr>
          <a:xfrm>
            <a:off x="3119400" y="3956040"/>
            <a:ext cx="704880" cy="314280"/>
          </a:xfrm>
          <a:prstGeom prst="rightArrow">
            <a:avLst>
              <a:gd name="adj1" fmla="val 66833"/>
              <a:gd name="adj2" fmla="val 73245"/>
            </a:avLst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Action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/>
          <p:nvPr/>
        </p:nvSpPr>
        <p:spPr>
          <a:xfrm>
            <a:off x="368280" y="391968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/>
          <p:nvPr/>
        </p:nvSpPr>
        <p:spPr>
          <a:xfrm>
            <a:off x="3753000" y="596880"/>
            <a:ext cx="612720" cy="316080"/>
          </a:xfrm>
          <a:prstGeom prst="ellipse">
            <a:avLst/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Cib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/>
          <p:nvPr/>
        </p:nvSpPr>
        <p:spPr>
          <a:xfrm>
            <a:off x="3119400" y="596880"/>
            <a:ext cx="704880" cy="316080"/>
          </a:xfrm>
          <a:prstGeom prst="rightArrow">
            <a:avLst>
              <a:gd name="adj1" fmla="val 66833"/>
              <a:gd name="adj2" fmla="val 72828"/>
            </a:avLst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/>
          <p:nvPr/>
        </p:nvSpPr>
        <p:spPr>
          <a:xfrm>
            <a:off x="5408640" y="4773600"/>
            <a:ext cx="865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eur cible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68440" indent="-1987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7632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1384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4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5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6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06440" y="955800"/>
            <a:ext cx="5975280" cy="46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33360" y="154080"/>
            <a:ext cx="584280" cy="3348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189000" y="9561600"/>
            <a:ext cx="6248160" cy="2635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5228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6480" y="9740880"/>
            <a:ext cx="269640" cy="132840"/>
            <a:chOff x="6480" y="9740880"/>
            <a:chExt cx="269640" cy="132840"/>
          </a:xfrm>
        </p:grpSpPr>
        <p:sp>
          <p:nvSpPr>
            <p:cNvPr id="485" name=""/>
            <p:cNvSpPr/>
            <p:nvPr/>
          </p:nvSpPr>
          <p:spPr>
            <a:xfrm>
              <a:off x="204840" y="978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80" y="974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480" y="9561600"/>
            <a:ext cx="269640" cy="132840"/>
            <a:chOff x="6480" y="9561600"/>
            <a:chExt cx="269640" cy="132840"/>
          </a:xfrm>
        </p:grpSpPr>
        <p:sp>
          <p:nvSpPr>
            <p:cNvPr id="488" name=""/>
            <p:cNvSpPr/>
            <p:nvPr/>
          </p:nvSpPr>
          <p:spPr>
            <a:xfrm>
              <a:off x="204840" y="960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480" y="956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480" y="9383760"/>
            <a:ext cx="269640" cy="131400"/>
            <a:chOff x="6480" y="9383760"/>
            <a:chExt cx="269640" cy="131400"/>
          </a:xfrm>
        </p:grpSpPr>
        <p:sp>
          <p:nvSpPr>
            <p:cNvPr id="491" name=""/>
            <p:cNvSpPr/>
            <p:nvPr/>
          </p:nvSpPr>
          <p:spPr>
            <a:xfrm>
              <a:off x="204840" y="942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0" y="938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480" y="9202680"/>
            <a:ext cx="269640" cy="131400"/>
            <a:chOff x="6480" y="9202680"/>
            <a:chExt cx="269640" cy="131400"/>
          </a:xfrm>
        </p:grpSpPr>
        <p:sp>
          <p:nvSpPr>
            <p:cNvPr id="494" name=""/>
            <p:cNvSpPr/>
            <p:nvPr/>
          </p:nvSpPr>
          <p:spPr>
            <a:xfrm>
              <a:off x="204840" y="92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80" y="92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480" y="9020160"/>
            <a:ext cx="269640" cy="135720"/>
            <a:chOff x="6480" y="9020160"/>
            <a:chExt cx="269640" cy="135720"/>
          </a:xfrm>
        </p:grpSpPr>
        <p:sp>
          <p:nvSpPr>
            <p:cNvPr id="497" name=""/>
            <p:cNvSpPr/>
            <p:nvPr/>
          </p:nvSpPr>
          <p:spPr>
            <a:xfrm>
              <a:off x="204840" y="906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80" y="902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480" y="8842320"/>
            <a:ext cx="269640" cy="132840"/>
            <a:chOff x="6480" y="8842320"/>
            <a:chExt cx="269640" cy="132840"/>
          </a:xfrm>
        </p:grpSpPr>
        <p:sp>
          <p:nvSpPr>
            <p:cNvPr id="500" name=""/>
            <p:cNvSpPr/>
            <p:nvPr/>
          </p:nvSpPr>
          <p:spPr>
            <a:xfrm>
              <a:off x="204840" y="88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80" y="88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6480" y="8663040"/>
            <a:ext cx="269640" cy="132840"/>
            <a:chOff x="6480" y="8663040"/>
            <a:chExt cx="269640" cy="132840"/>
          </a:xfrm>
        </p:grpSpPr>
        <p:sp>
          <p:nvSpPr>
            <p:cNvPr id="503" name=""/>
            <p:cNvSpPr/>
            <p:nvPr/>
          </p:nvSpPr>
          <p:spPr>
            <a:xfrm>
              <a:off x="204840" y="870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80" y="866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480" y="8481960"/>
            <a:ext cx="269640" cy="132840"/>
            <a:chOff x="6480" y="8481960"/>
            <a:chExt cx="269640" cy="132840"/>
          </a:xfrm>
        </p:grpSpPr>
        <p:sp>
          <p:nvSpPr>
            <p:cNvPr id="506" name=""/>
            <p:cNvSpPr/>
            <p:nvPr/>
          </p:nvSpPr>
          <p:spPr>
            <a:xfrm>
              <a:off x="204840" y="85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80" y="84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480" y="8300880"/>
            <a:ext cx="269640" cy="132840"/>
            <a:chOff x="6480" y="8300880"/>
            <a:chExt cx="269640" cy="132840"/>
          </a:xfrm>
        </p:grpSpPr>
        <p:sp>
          <p:nvSpPr>
            <p:cNvPr id="509" name=""/>
            <p:cNvSpPr/>
            <p:nvPr/>
          </p:nvSpPr>
          <p:spPr>
            <a:xfrm>
              <a:off x="204840" y="834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80" y="830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480" y="8121600"/>
            <a:ext cx="269640" cy="132840"/>
            <a:chOff x="6480" y="8121600"/>
            <a:chExt cx="269640" cy="132840"/>
          </a:xfrm>
        </p:grpSpPr>
        <p:sp>
          <p:nvSpPr>
            <p:cNvPr id="512" name=""/>
            <p:cNvSpPr/>
            <p:nvPr/>
          </p:nvSpPr>
          <p:spPr>
            <a:xfrm>
              <a:off x="204840" y="81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80" y="81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480" y="7943760"/>
            <a:ext cx="269640" cy="131400"/>
            <a:chOff x="6480" y="7943760"/>
            <a:chExt cx="269640" cy="131400"/>
          </a:xfrm>
        </p:grpSpPr>
        <p:sp>
          <p:nvSpPr>
            <p:cNvPr id="515" name=""/>
            <p:cNvSpPr/>
            <p:nvPr/>
          </p:nvSpPr>
          <p:spPr>
            <a:xfrm>
              <a:off x="204840" y="79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80" y="79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6480" y="7761240"/>
            <a:ext cx="269640" cy="132840"/>
            <a:chOff x="6480" y="7761240"/>
            <a:chExt cx="269640" cy="132840"/>
          </a:xfrm>
        </p:grpSpPr>
        <p:sp>
          <p:nvSpPr>
            <p:cNvPr id="518" name=""/>
            <p:cNvSpPr/>
            <p:nvPr/>
          </p:nvSpPr>
          <p:spPr>
            <a:xfrm>
              <a:off x="204840" y="78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80" y="77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480" y="7580160"/>
            <a:ext cx="269640" cy="136080"/>
            <a:chOff x="6480" y="7580160"/>
            <a:chExt cx="269640" cy="136080"/>
          </a:xfrm>
        </p:grpSpPr>
        <p:sp>
          <p:nvSpPr>
            <p:cNvPr id="521" name=""/>
            <p:cNvSpPr/>
            <p:nvPr/>
          </p:nvSpPr>
          <p:spPr>
            <a:xfrm>
              <a:off x="204840" y="762552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80" y="758016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480" y="7402680"/>
            <a:ext cx="269640" cy="131400"/>
            <a:chOff x="6480" y="7402680"/>
            <a:chExt cx="269640" cy="131400"/>
          </a:xfrm>
        </p:grpSpPr>
        <p:sp>
          <p:nvSpPr>
            <p:cNvPr id="524" name=""/>
            <p:cNvSpPr/>
            <p:nvPr/>
          </p:nvSpPr>
          <p:spPr>
            <a:xfrm>
              <a:off x="204840" y="74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80" y="74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6480" y="7223040"/>
            <a:ext cx="269640" cy="132840"/>
            <a:chOff x="6480" y="7223040"/>
            <a:chExt cx="269640" cy="132840"/>
          </a:xfrm>
        </p:grpSpPr>
        <p:sp>
          <p:nvSpPr>
            <p:cNvPr id="527" name=""/>
            <p:cNvSpPr/>
            <p:nvPr/>
          </p:nvSpPr>
          <p:spPr>
            <a:xfrm>
              <a:off x="204840" y="726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80" y="722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480" y="7042320"/>
            <a:ext cx="269640" cy="132840"/>
            <a:chOff x="6480" y="7042320"/>
            <a:chExt cx="269640" cy="132840"/>
          </a:xfrm>
        </p:grpSpPr>
        <p:sp>
          <p:nvSpPr>
            <p:cNvPr id="530" name=""/>
            <p:cNvSpPr/>
            <p:nvPr/>
          </p:nvSpPr>
          <p:spPr>
            <a:xfrm>
              <a:off x="204840" y="70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80" y="70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480" y="6861240"/>
            <a:ext cx="269640" cy="132840"/>
            <a:chOff x="6480" y="6861240"/>
            <a:chExt cx="269640" cy="132840"/>
          </a:xfrm>
        </p:grpSpPr>
        <p:sp>
          <p:nvSpPr>
            <p:cNvPr id="533" name=""/>
            <p:cNvSpPr/>
            <p:nvPr/>
          </p:nvSpPr>
          <p:spPr>
            <a:xfrm>
              <a:off x="204840" y="69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480" y="68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6480" y="6681960"/>
            <a:ext cx="269640" cy="132840"/>
            <a:chOff x="6480" y="6681960"/>
            <a:chExt cx="269640" cy="132840"/>
          </a:xfrm>
        </p:grpSpPr>
        <p:sp>
          <p:nvSpPr>
            <p:cNvPr id="536" name=""/>
            <p:cNvSpPr/>
            <p:nvPr/>
          </p:nvSpPr>
          <p:spPr>
            <a:xfrm>
              <a:off x="204840" y="67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80" y="66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480" y="6502320"/>
            <a:ext cx="269640" cy="132840"/>
            <a:chOff x="6480" y="6502320"/>
            <a:chExt cx="269640" cy="132840"/>
          </a:xfrm>
        </p:grpSpPr>
        <p:sp>
          <p:nvSpPr>
            <p:cNvPr id="539" name=""/>
            <p:cNvSpPr/>
            <p:nvPr/>
          </p:nvSpPr>
          <p:spPr>
            <a:xfrm>
              <a:off x="204840" y="65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80" y="65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6480" y="6321600"/>
            <a:ext cx="269640" cy="132840"/>
            <a:chOff x="6480" y="6321600"/>
            <a:chExt cx="269640" cy="132840"/>
          </a:xfrm>
        </p:grpSpPr>
        <p:sp>
          <p:nvSpPr>
            <p:cNvPr id="542" name=""/>
            <p:cNvSpPr/>
            <p:nvPr/>
          </p:nvSpPr>
          <p:spPr>
            <a:xfrm>
              <a:off x="204840" y="63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80" y="63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480" y="6143760"/>
            <a:ext cx="269640" cy="131400"/>
            <a:chOff x="6480" y="6143760"/>
            <a:chExt cx="269640" cy="131400"/>
          </a:xfrm>
        </p:grpSpPr>
        <p:sp>
          <p:nvSpPr>
            <p:cNvPr id="545" name=""/>
            <p:cNvSpPr/>
            <p:nvPr/>
          </p:nvSpPr>
          <p:spPr>
            <a:xfrm>
              <a:off x="204840" y="61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80" y="61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480" y="5962680"/>
            <a:ext cx="269640" cy="131400"/>
            <a:chOff x="6480" y="5962680"/>
            <a:chExt cx="269640" cy="131400"/>
          </a:xfrm>
        </p:grpSpPr>
        <p:sp>
          <p:nvSpPr>
            <p:cNvPr id="548" name=""/>
            <p:cNvSpPr/>
            <p:nvPr/>
          </p:nvSpPr>
          <p:spPr>
            <a:xfrm>
              <a:off x="204840" y="600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80" y="596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480" y="5783400"/>
            <a:ext cx="269640" cy="132840"/>
            <a:chOff x="6480" y="5783400"/>
            <a:chExt cx="269640" cy="132840"/>
          </a:xfrm>
        </p:grpSpPr>
        <p:sp>
          <p:nvSpPr>
            <p:cNvPr id="551" name=""/>
            <p:cNvSpPr/>
            <p:nvPr/>
          </p:nvSpPr>
          <p:spPr>
            <a:xfrm>
              <a:off x="204840" y="582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80" y="578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480" y="5602320"/>
            <a:ext cx="269640" cy="132840"/>
            <a:chOff x="6480" y="5602320"/>
            <a:chExt cx="269640" cy="132840"/>
          </a:xfrm>
        </p:grpSpPr>
        <p:sp>
          <p:nvSpPr>
            <p:cNvPr id="554" name=""/>
            <p:cNvSpPr/>
            <p:nvPr/>
          </p:nvSpPr>
          <p:spPr>
            <a:xfrm>
              <a:off x="204840" y="56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80" y="56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80" y="5421240"/>
            <a:ext cx="269640" cy="131400"/>
            <a:chOff x="6480" y="5421240"/>
            <a:chExt cx="269640" cy="131400"/>
          </a:xfrm>
        </p:grpSpPr>
        <p:sp>
          <p:nvSpPr>
            <p:cNvPr id="557" name=""/>
            <p:cNvSpPr/>
            <p:nvPr/>
          </p:nvSpPr>
          <p:spPr>
            <a:xfrm>
              <a:off x="204840" y="546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80" y="542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480" y="5241960"/>
            <a:ext cx="269640" cy="132840"/>
            <a:chOff x="6480" y="5241960"/>
            <a:chExt cx="269640" cy="132840"/>
          </a:xfrm>
        </p:grpSpPr>
        <p:sp>
          <p:nvSpPr>
            <p:cNvPr id="560" name=""/>
            <p:cNvSpPr/>
            <p:nvPr/>
          </p:nvSpPr>
          <p:spPr>
            <a:xfrm>
              <a:off x="204840" y="528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480" y="524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480" y="5062680"/>
            <a:ext cx="269640" cy="132840"/>
            <a:chOff x="6480" y="5062680"/>
            <a:chExt cx="269640" cy="132840"/>
          </a:xfrm>
        </p:grpSpPr>
        <p:sp>
          <p:nvSpPr>
            <p:cNvPr id="563" name=""/>
            <p:cNvSpPr/>
            <p:nvPr/>
          </p:nvSpPr>
          <p:spPr>
            <a:xfrm>
              <a:off x="204840" y="510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80" y="506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480" y="4881600"/>
            <a:ext cx="269640" cy="132840"/>
            <a:chOff x="6480" y="4881600"/>
            <a:chExt cx="269640" cy="132840"/>
          </a:xfrm>
        </p:grpSpPr>
        <p:sp>
          <p:nvSpPr>
            <p:cNvPr id="566" name=""/>
            <p:cNvSpPr/>
            <p:nvPr/>
          </p:nvSpPr>
          <p:spPr>
            <a:xfrm>
              <a:off x="204840" y="492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80" y="488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6480" y="4703760"/>
            <a:ext cx="269640" cy="131400"/>
            <a:chOff x="6480" y="4703760"/>
            <a:chExt cx="269640" cy="131400"/>
          </a:xfrm>
        </p:grpSpPr>
        <p:sp>
          <p:nvSpPr>
            <p:cNvPr id="569" name=""/>
            <p:cNvSpPr/>
            <p:nvPr/>
          </p:nvSpPr>
          <p:spPr>
            <a:xfrm>
              <a:off x="204840" y="474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80" y="470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480" y="4521240"/>
            <a:ext cx="269640" cy="135720"/>
            <a:chOff x="6480" y="4521240"/>
            <a:chExt cx="269640" cy="135720"/>
          </a:xfrm>
        </p:grpSpPr>
        <p:sp>
          <p:nvSpPr>
            <p:cNvPr id="572" name=""/>
            <p:cNvSpPr/>
            <p:nvPr/>
          </p:nvSpPr>
          <p:spPr>
            <a:xfrm>
              <a:off x="204840" y="456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80" y="452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480" y="4343400"/>
            <a:ext cx="269640" cy="132840"/>
            <a:chOff x="6480" y="4343400"/>
            <a:chExt cx="269640" cy="132840"/>
          </a:xfrm>
        </p:grpSpPr>
        <p:sp>
          <p:nvSpPr>
            <p:cNvPr id="575" name=""/>
            <p:cNvSpPr/>
            <p:nvPr/>
          </p:nvSpPr>
          <p:spPr>
            <a:xfrm>
              <a:off x="204840" y="438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80" y="434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6480" y="4162320"/>
            <a:ext cx="269640" cy="131400"/>
            <a:chOff x="6480" y="4162320"/>
            <a:chExt cx="269640" cy="131400"/>
          </a:xfrm>
        </p:grpSpPr>
        <p:sp>
          <p:nvSpPr>
            <p:cNvPr id="578" name=""/>
            <p:cNvSpPr/>
            <p:nvPr/>
          </p:nvSpPr>
          <p:spPr>
            <a:xfrm>
              <a:off x="204840" y="42058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480" y="41623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480" y="3981600"/>
            <a:ext cx="269640" cy="131400"/>
            <a:chOff x="6480" y="3981600"/>
            <a:chExt cx="269640" cy="131400"/>
          </a:xfrm>
        </p:grpSpPr>
        <p:sp>
          <p:nvSpPr>
            <p:cNvPr id="581" name=""/>
            <p:cNvSpPr/>
            <p:nvPr/>
          </p:nvSpPr>
          <p:spPr>
            <a:xfrm>
              <a:off x="204840" y="40251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480" y="39816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480" y="3801960"/>
            <a:ext cx="269640" cy="132840"/>
            <a:chOff x="6480" y="3801960"/>
            <a:chExt cx="269640" cy="132840"/>
          </a:xfrm>
        </p:grpSpPr>
        <p:sp>
          <p:nvSpPr>
            <p:cNvPr id="584" name=""/>
            <p:cNvSpPr/>
            <p:nvPr/>
          </p:nvSpPr>
          <p:spPr>
            <a:xfrm>
              <a:off x="204840" y="38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80" y="38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480" y="3622680"/>
            <a:ext cx="269640" cy="132840"/>
            <a:chOff x="6480" y="3622680"/>
            <a:chExt cx="269640" cy="132840"/>
          </a:xfrm>
        </p:grpSpPr>
        <p:sp>
          <p:nvSpPr>
            <p:cNvPr id="587" name=""/>
            <p:cNvSpPr/>
            <p:nvPr/>
          </p:nvSpPr>
          <p:spPr>
            <a:xfrm>
              <a:off x="204840" y="366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80" y="362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6480" y="3441600"/>
            <a:ext cx="269640" cy="132840"/>
            <a:chOff x="6480" y="3441600"/>
            <a:chExt cx="269640" cy="132840"/>
          </a:xfrm>
        </p:grpSpPr>
        <p:sp>
          <p:nvSpPr>
            <p:cNvPr id="590" name=""/>
            <p:cNvSpPr/>
            <p:nvPr/>
          </p:nvSpPr>
          <p:spPr>
            <a:xfrm>
              <a:off x="204840" y="348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80" y="344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480" y="3262320"/>
            <a:ext cx="269640" cy="132840"/>
            <a:chOff x="6480" y="3262320"/>
            <a:chExt cx="269640" cy="132840"/>
          </a:xfrm>
        </p:grpSpPr>
        <p:sp>
          <p:nvSpPr>
            <p:cNvPr id="593" name=""/>
            <p:cNvSpPr/>
            <p:nvPr/>
          </p:nvSpPr>
          <p:spPr>
            <a:xfrm>
              <a:off x="204840" y="33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80" y="32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480" y="3081240"/>
            <a:ext cx="269640" cy="136080"/>
            <a:chOff x="6480" y="3081240"/>
            <a:chExt cx="269640" cy="136080"/>
          </a:xfrm>
        </p:grpSpPr>
        <p:sp>
          <p:nvSpPr>
            <p:cNvPr id="596" name=""/>
            <p:cNvSpPr/>
            <p:nvPr/>
          </p:nvSpPr>
          <p:spPr>
            <a:xfrm>
              <a:off x="204840" y="312660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80" y="308124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480" y="2903400"/>
            <a:ext cx="269640" cy="131400"/>
            <a:chOff x="6480" y="2903400"/>
            <a:chExt cx="269640" cy="131400"/>
          </a:xfrm>
        </p:grpSpPr>
        <p:sp>
          <p:nvSpPr>
            <p:cNvPr id="599" name=""/>
            <p:cNvSpPr/>
            <p:nvPr/>
          </p:nvSpPr>
          <p:spPr>
            <a:xfrm>
              <a:off x="204840" y="29469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80" y="29034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480" y="2722680"/>
            <a:ext cx="269640" cy="131400"/>
            <a:chOff x="6480" y="2722680"/>
            <a:chExt cx="269640" cy="131400"/>
          </a:xfrm>
        </p:grpSpPr>
        <p:sp>
          <p:nvSpPr>
            <p:cNvPr id="602" name=""/>
            <p:cNvSpPr/>
            <p:nvPr/>
          </p:nvSpPr>
          <p:spPr>
            <a:xfrm>
              <a:off x="204840" y="276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480" y="272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6480" y="2540160"/>
            <a:ext cx="269640" cy="135720"/>
            <a:chOff x="6480" y="2540160"/>
            <a:chExt cx="269640" cy="135720"/>
          </a:xfrm>
        </p:grpSpPr>
        <p:sp>
          <p:nvSpPr>
            <p:cNvPr id="605" name=""/>
            <p:cNvSpPr/>
            <p:nvPr/>
          </p:nvSpPr>
          <p:spPr>
            <a:xfrm>
              <a:off x="204840" y="258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80" y="254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6480" y="2362320"/>
            <a:ext cx="269640" cy="132840"/>
            <a:chOff x="6480" y="2362320"/>
            <a:chExt cx="269640" cy="132840"/>
          </a:xfrm>
        </p:grpSpPr>
        <p:sp>
          <p:nvSpPr>
            <p:cNvPr id="608" name=""/>
            <p:cNvSpPr/>
            <p:nvPr/>
          </p:nvSpPr>
          <p:spPr>
            <a:xfrm>
              <a:off x="204840" y="24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80" y="23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6480" y="2182680"/>
            <a:ext cx="269640" cy="132840"/>
            <a:chOff x="6480" y="2182680"/>
            <a:chExt cx="269640" cy="132840"/>
          </a:xfrm>
        </p:grpSpPr>
        <p:sp>
          <p:nvSpPr>
            <p:cNvPr id="611" name=""/>
            <p:cNvSpPr/>
            <p:nvPr/>
          </p:nvSpPr>
          <p:spPr>
            <a:xfrm>
              <a:off x="204840" y="222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80" y="218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6480" y="2001960"/>
            <a:ext cx="269640" cy="132840"/>
            <a:chOff x="6480" y="2001960"/>
            <a:chExt cx="269640" cy="132840"/>
          </a:xfrm>
        </p:grpSpPr>
        <p:sp>
          <p:nvSpPr>
            <p:cNvPr id="614" name=""/>
            <p:cNvSpPr/>
            <p:nvPr/>
          </p:nvSpPr>
          <p:spPr>
            <a:xfrm>
              <a:off x="204840" y="20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80" y="20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6480" y="1822320"/>
            <a:ext cx="269640" cy="132840"/>
            <a:chOff x="6480" y="1822320"/>
            <a:chExt cx="269640" cy="132840"/>
          </a:xfrm>
        </p:grpSpPr>
        <p:sp>
          <p:nvSpPr>
            <p:cNvPr id="617" name=""/>
            <p:cNvSpPr/>
            <p:nvPr/>
          </p:nvSpPr>
          <p:spPr>
            <a:xfrm>
              <a:off x="204840" y="186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80" y="182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6480" y="1644480"/>
            <a:ext cx="269640" cy="131400"/>
            <a:chOff x="6480" y="1644480"/>
            <a:chExt cx="269640" cy="131400"/>
          </a:xfrm>
        </p:grpSpPr>
        <p:sp>
          <p:nvSpPr>
            <p:cNvPr id="620" name=""/>
            <p:cNvSpPr/>
            <p:nvPr/>
          </p:nvSpPr>
          <p:spPr>
            <a:xfrm>
              <a:off x="204840" y="16880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80" y="16444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6480" y="1463760"/>
            <a:ext cx="269640" cy="131400"/>
            <a:chOff x="6480" y="1463760"/>
            <a:chExt cx="269640" cy="131400"/>
          </a:xfrm>
        </p:grpSpPr>
        <p:sp>
          <p:nvSpPr>
            <p:cNvPr id="623" name=""/>
            <p:cNvSpPr/>
            <p:nvPr/>
          </p:nvSpPr>
          <p:spPr>
            <a:xfrm>
              <a:off x="204840" y="150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80" y="146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480" y="1281240"/>
            <a:ext cx="269640" cy="135720"/>
            <a:chOff x="6480" y="1281240"/>
            <a:chExt cx="269640" cy="135720"/>
          </a:xfrm>
        </p:grpSpPr>
        <p:sp>
          <p:nvSpPr>
            <p:cNvPr id="626" name=""/>
            <p:cNvSpPr/>
            <p:nvPr/>
          </p:nvSpPr>
          <p:spPr>
            <a:xfrm>
              <a:off x="204840" y="132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80" y="128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6480" y="1100160"/>
            <a:ext cx="269640" cy="132840"/>
            <a:chOff x="6480" y="1100160"/>
            <a:chExt cx="269640" cy="132840"/>
          </a:xfrm>
        </p:grpSpPr>
        <p:sp>
          <p:nvSpPr>
            <p:cNvPr id="629" name=""/>
            <p:cNvSpPr/>
            <p:nvPr/>
          </p:nvSpPr>
          <p:spPr>
            <a:xfrm>
              <a:off x="204840" y="11444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480" y="11001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6480" y="919080"/>
            <a:ext cx="269640" cy="132840"/>
            <a:chOff x="6480" y="919080"/>
            <a:chExt cx="269640" cy="132840"/>
          </a:xfrm>
        </p:grpSpPr>
        <p:sp>
          <p:nvSpPr>
            <p:cNvPr id="632" name=""/>
            <p:cNvSpPr/>
            <p:nvPr/>
          </p:nvSpPr>
          <p:spPr>
            <a:xfrm>
              <a:off x="204840" y="9633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80" y="9190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480" y="741240"/>
            <a:ext cx="269640" cy="131400"/>
            <a:chOff x="6480" y="741240"/>
            <a:chExt cx="269640" cy="131400"/>
          </a:xfrm>
        </p:grpSpPr>
        <p:sp>
          <p:nvSpPr>
            <p:cNvPr id="635" name=""/>
            <p:cNvSpPr/>
            <p:nvPr/>
          </p:nvSpPr>
          <p:spPr>
            <a:xfrm>
              <a:off x="204840" y="78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80" y="74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480" y="558720"/>
            <a:ext cx="269640" cy="135720"/>
            <a:chOff x="6480" y="558720"/>
            <a:chExt cx="269640" cy="135720"/>
          </a:xfrm>
        </p:grpSpPr>
        <p:sp>
          <p:nvSpPr>
            <p:cNvPr id="638" name=""/>
            <p:cNvSpPr/>
            <p:nvPr/>
          </p:nvSpPr>
          <p:spPr>
            <a:xfrm>
              <a:off x="204840" y="603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0" y="55872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6480" y="380880"/>
            <a:ext cx="269640" cy="132840"/>
            <a:chOff x="6480" y="380880"/>
            <a:chExt cx="269640" cy="132840"/>
          </a:xfrm>
        </p:grpSpPr>
        <p:sp>
          <p:nvSpPr>
            <p:cNvPr id="641" name=""/>
            <p:cNvSpPr/>
            <p:nvPr/>
          </p:nvSpPr>
          <p:spPr>
            <a:xfrm>
              <a:off x="204840" y="42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480" y="38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480" y="200160"/>
            <a:ext cx="269640" cy="131400"/>
            <a:chOff x="6480" y="200160"/>
            <a:chExt cx="269640" cy="131400"/>
          </a:xfrm>
        </p:grpSpPr>
        <p:sp>
          <p:nvSpPr>
            <p:cNvPr id="644" name=""/>
            <p:cNvSpPr/>
            <p:nvPr/>
          </p:nvSpPr>
          <p:spPr>
            <a:xfrm>
              <a:off x="204840" y="2437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80" y="2001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480" y="20520"/>
            <a:ext cx="269640" cy="132840"/>
            <a:chOff x="6480" y="20520"/>
            <a:chExt cx="269640" cy="132840"/>
          </a:xfrm>
        </p:grpSpPr>
        <p:sp>
          <p:nvSpPr>
            <p:cNvPr id="647" name=""/>
            <p:cNvSpPr/>
            <p:nvPr/>
          </p:nvSpPr>
          <p:spPr>
            <a:xfrm>
              <a:off x="204840" y="648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480" y="205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9" name=""/>
          <p:cNvSpPr/>
          <p:nvPr/>
        </p:nvSpPr>
        <p:spPr>
          <a:xfrm flipH="1">
            <a:off x="151920" y="2052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151920" y="988524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/>
          <p:nvPr/>
        </p:nvSpPr>
        <p:spPr>
          <a:xfrm>
            <a:off x="368280" y="55872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/>
          <p:nvPr/>
        </p:nvSpPr>
        <p:spPr>
          <a:xfrm>
            <a:off x="239760" y="144288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Princip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Espace réservé du titre 1"/>
          <p:cNvSpPr/>
          <p:nvPr/>
        </p:nvSpPr>
        <p:spPr>
          <a:xfrm>
            <a:off x="1087560" y="93600"/>
            <a:ext cx="612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Axe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/>
          <p:nvPr/>
        </p:nvSpPr>
        <p:spPr>
          <a:xfrm>
            <a:off x="239760" y="1009800"/>
            <a:ext cx="850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Bonne prat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"/>
          <p:cNvSpPr/>
          <p:nvPr/>
        </p:nvSpPr>
        <p:spPr>
          <a:xfrm>
            <a:off x="3753000" y="596880"/>
            <a:ext cx="612720" cy="316080"/>
          </a:xfrm>
          <a:prstGeom prst="ellipse">
            <a:avLst/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Cib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"/>
          <p:cNvSpPr/>
          <p:nvPr/>
        </p:nvSpPr>
        <p:spPr>
          <a:xfrm>
            <a:off x="3119400" y="596880"/>
            <a:ext cx="704880" cy="316080"/>
          </a:xfrm>
          <a:prstGeom prst="rightArrow">
            <a:avLst>
              <a:gd name="adj1" fmla="val 66833"/>
              <a:gd name="adj2" fmla="val 72828"/>
            </a:avLst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68440" indent="-1987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7632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3" marL="1384200" indent="-22860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4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5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6" marL="179244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406440" y="955800"/>
            <a:ext cx="5975280" cy="461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"/>
          <p:cNvSpPr/>
          <p:nvPr/>
        </p:nvSpPr>
        <p:spPr>
          <a:xfrm>
            <a:off x="406440" y="1928880"/>
            <a:ext cx="5975280" cy="458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"/>
          <p:cNvSpPr/>
          <p:nvPr/>
        </p:nvSpPr>
        <p:spPr>
          <a:xfrm>
            <a:off x="406440" y="7435800"/>
            <a:ext cx="5975280" cy="2062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"/>
          <p:cNvSpPr/>
          <p:nvPr/>
        </p:nvSpPr>
        <p:spPr>
          <a:xfrm>
            <a:off x="1090440" y="7826400"/>
            <a:ext cx="5291280" cy="1671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33360" y="154080"/>
            <a:ext cx="584280" cy="3348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189000" y="9561600"/>
            <a:ext cx="6248160" cy="26352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15228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6480" y="9740880"/>
            <a:ext cx="269640" cy="132840"/>
            <a:chOff x="6480" y="9740880"/>
            <a:chExt cx="269640" cy="132840"/>
          </a:xfrm>
        </p:grpSpPr>
        <p:sp>
          <p:nvSpPr>
            <p:cNvPr id="704" name=""/>
            <p:cNvSpPr/>
            <p:nvPr/>
          </p:nvSpPr>
          <p:spPr>
            <a:xfrm>
              <a:off x="204840" y="978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480" y="974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480" y="9561600"/>
            <a:ext cx="269640" cy="132840"/>
            <a:chOff x="6480" y="9561600"/>
            <a:chExt cx="269640" cy="132840"/>
          </a:xfrm>
        </p:grpSpPr>
        <p:sp>
          <p:nvSpPr>
            <p:cNvPr id="707" name=""/>
            <p:cNvSpPr/>
            <p:nvPr/>
          </p:nvSpPr>
          <p:spPr>
            <a:xfrm>
              <a:off x="204840" y="960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80" y="956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480" y="9383760"/>
            <a:ext cx="269640" cy="131400"/>
            <a:chOff x="6480" y="9383760"/>
            <a:chExt cx="269640" cy="131400"/>
          </a:xfrm>
        </p:grpSpPr>
        <p:sp>
          <p:nvSpPr>
            <p:cNvPr id="710" name=""/>
            <p:cNvSpPr/>
            <p:nvPr/>
          </p:nvSpPr>
          <p:spPr>
            <a:xfrm>
              <a:off x="204840" y="942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480" y="938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480" y="9202680"/>
            <a:ext cx="269640" cy="131400"/>
            <a:chOff x="6480" y="9202680"/>
            <a:chExt cx="269640" cy="131400"/>
          </a:xfrm>
        </p:grpSpPr>
        <p:sp>
          <p:nvSpPr>
            <p:cNvPr id="713" name=""/>
            <p:cNvSpPr/>
            <p:nvPr/>
          </p:nvSpPr>
          <p:spPr>
            <a:xfrm>
              <a:off x="204840" y="92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80" y="92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6480" y="9020160"/>
            <a:ext cx="269640" cy="135720"/>
            <a:chOff x="6480" y="9020160"/>
            <a:chExt cx="269640" cy="135720"/>
          </a:xfrm>
        </p:grpSpPr>
        <p:sp>
          <p:nvSpPr>
            <p:cNvPr id="716" name=""/>
            <p:cNvSpPr/>
            <p:nvPr/>
          </p:nvSpPr>
          <p:spPr>
            <a:xfrm>
              <a:off x="204840" y="906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80" y="902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6480" y="8842320"/>
            <a:ext cx="269640" cy="132840"/>
            <a:chOff x="6480" y="8842320"/>
            <a:chExt cx="269640" cy="132840"/>
          </a:xfrm>
        </p:grpSpPr>
        <p:sp>
          <p:nvSpPr>
            <p:cNvPr id="719" name=""/>
            <p:cNvSpPr/>
            <p:nvPr/>
          </p:nvSpPr>
          <p:spPr>
            <a:xfrm>
              <a:off x="204840" y="88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80" y="88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6480" y="8663040"/>
            <a:ext cx="269640" cy="132840"/>
            <a:chOff x="6480" y="8663040"/>
            <a:chExt cx="269640" cy="132840"/>
          </a:xfrm>
        </p:grpSpPr>
        <p:sp>
          <p:nvSpPr>
            <p:cNvPr id="722" name=""/>
            <p:cNvSpPr/>
            <p:nvPr/>
          </p:nvSpPr>
          <p:spPr>
            <a:xfrm>
              <a:off x="204840" y="870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80" y="866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6480" y="8481960"/>
            <a:ext cx="269640" cy="132840"/>
            <a:chOff x="6480" y="8481960"/>
            <a:chExt cx="269640" cy="132840"/>
          </a:xfrm>
        </p:grpSpPr>
        <p:sp>
          <p:nvSpPr>
            <p:cNvPr id="725" name=""/>
            <p:cNvSpPr/>
            <p:nvPr/>
          </p:nvSpPr>
          <p:spPr>
            <a:xfrm>
              <a:off x="204840" y="85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80" y="84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480" y="8300880"/>
            <a:ext cx="269640" cy="132840"/>
            <a:chOff x="6480" y="8300880"/>
            <a:chExt cx="269640" cy="132840"/>
          </a:xfrm>
        </p:grpSpPr>
        <p:sp>
          <p:nvSpPr>
            <p:cNvPr id="728" name=""/>
            <p:cNvSpPr/>
            <p:nvPr/>
          </p:nvSpPr>
          <p:spPr>
            <a:xfrm>
              <a:off x="204840" y="834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480" y="830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480" y="8121600"/>
            <a:ext cx="269640" cy="132840"/>
            <a:chOff x="6480" y="8121600"/>
            <a:chExt cx="269640" cy="132840"/>
          </a:xfrm>
        </p:grpSpPr>
        <p:sp>
          <p:nvSpPr>
            <p:cNvPr id="731" name=""/>
            <p:cNvSpPr/>
            <p:nvPr/>
          </p:nvSpPr>
          <p:spPr>
            <a:xfrm>
              <a:off x="204840" y="81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80" y="81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480" y="7943760"/>
            <a:ext cx="269640" cy="131400"/>
            <a:chOff x="6480" y="7943760"/>
            <a:chExt cx="269640" cy="131400"/>
          </a:xfrm>
        </p:grpSpPr>
        <p:sp>
          <p:nvSpPr>
            <p:cNvPr id="734" name=""/>
            <p:cNvSpPr/>
            <p:nvPr/>
          </p:nvSpPr>
          <p:spPr>
            <a:xfrm>
              <a:off x="204840" y="79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80" y="79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6480" y="7761240"/>
            <a:ext cx="269640" cy="132840"/>
            <a:chOff x="6480" y="7761240"/>
            <a:chExt cx="269640" cy="132840"/>
          </a:xfrm>
        </p:grpSpPr>
        <p:sp>
          <p:nvSpPr>
            <p:cNvPr id="737" name=""/>
            <p:cNvSpPr/>
            <p:nvPr/>
          </p:nvSpPr>
          <p:spPr>
            <a:xfrm>
              <a:off x="204840" y="78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80" y="77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6480" y="7580160"/>
            <a:ext cx="269640" cy="136080"/>
            <a:chOff x="6480" y="7580160"/>
            <a:chExt cx="269640" cy="136080"/>
          </a:xfrm>
        </p:grpSpPr>
        <p:sp>
          <p:nvSpPr>
            <p:cNvPr id="740" name=""/>
            <p:cNvSpPr/>
            <p:nvPr/>
          </p:nvSpPr>
          <p:spPr>
            <a:xfrm>
              <a:off x="204840" y="762552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480" y="758016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6480" y="7402680"/>
            <a:ext cx="269640" cy="131400"/>
            <a:chOff x="6480" y="7402680"/>
            <a:chExt cx="269640" cy="131400"/>
          </a:xfrm>
        </p:grpSpPr>
        <p:sp>
          <p:nvSpPr>
            <p:cNvPr id="743" name=""/>
            <p:cNvSpPr/>
            <p:nvPr/>
          </p:nvSpPr>
          <p:spPr>
            <a:xfrm>
              <a:off x="204840" y="744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480" y="740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480" y="7223040"/>
            <a:ext cx="269640" cy="132840"/>
            <a:chOff x="6480" y="7223040"/>
            <a:chExt cx="269640" cy="132840"/>
          </a:xfrm>
        </p:grpSpPr>
        <p:sp>
          <p:nvSpPr>
            <p:cNvPr id="746" name=""/>
            <p:cNvSpPr/>
            <p:nvPr/>
          </p:nvSpPr>
          <p:spPr>
            <a:xfrm>
              <a:off x="204840" y="7267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480" y="7223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480" y="7042320"/>
            <a:ext cx="269640" cy="132840"/>
            <a:chOff x="6480" y="7042320"/>
            <a:chExt cx="269640" cy="132840"/>
          </a:xfrm>
        </p:grpSpPr>
        <p:sp>
          <p:nvSpPr>
            <p:cNvPr id="749" name=""/>
            <p:cNvSpPr/>
            <p:nvPr/>
          </p:nvSpPr>
          <p:spPr>
            <a:xfrm>
              <a:off x="204840" y="708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480" y="704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480" y="6861240"/>
            <a:ext cx="269640" cy="132840"/>
            <a:chOff x="6480" y="6861240"/>
            <a:chExt cx="269640" cy="132840"/>
          </a:xfrm>
        </p:grpSpPr>
        <p:sp>
          <p:nvSpPr>
            <p:cNvPr id="752" name=""/>
            <p:cNvSpPr/>
            <p:nvPr/>
          </p:nvSpPr>
          <p:spPr>
            <a:xfrm>
              <a:off x="204840" y="6905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80" y="6861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480" y="6681960"/>
            <a:ext cx="269640" cy="132840"/>
            <a:chOff x="6480" y="6681960"/>
            <a:chExt cx="269640" cy="132840"/>
          </a:xfrm>
        </p:grpSpPr>
        <p:sp>
          <p:nvSpPr>
            <p:cNvPr id="755" name=""/>
            <p:cNvSpPr/>
            <p:nvPr/>
          </p:nvSpPr>
          <p:spPr>
            <a:xfrm>
              <a:off x="204840" y="672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80" y="668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480" y="6502320"/>
            <a:ext cx="269640" cy="132840"/>
            <a:chOff x="6480" y="6502320"/>
            <a:chExt cx="269640" cy="132840"/>
          </a:xfrm>
        </p:grpSpPr>
        <p:sp>
          <p:nvSpPr>
            <p:cNvPr id="758" name=""/>
            <p:cNvSpPr/>
            <p:nvPr/>
          </p:nvSpPr>
          <p:spPr>
            <a:xfrm>
              <a:off x="204840" y="65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80" y="65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6480" y="6321600"/>
            <a:ext cx="269640" cy="132840"/>
            <a:chOff x="6480" y="6321600"/>
            <a:chExt cx="269640" cy="132840"/>
          </a:xfrm>
        </p:grpSpPr>
        <p:sp>
          <p:nvSpPr>
            <p:cNvPr id="761" name=""/>
            <p:cNvSpPr/>
            <p:nvPr/>
          </p:nvSpPr>
          <p:spPr>
            <a:xfrm>
              <a:off x="204840" y="636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480" y="632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6480" y="6143760"/>
            <a:ext cx="269640" cy="131400"/>
            <a:chOff x="6480" y="6143760"/>
            <a:chExt cx="269640" cy="131400"/>
          </a:xfrm>
        </p:grpSpPr>
        <p:sp>
          <p:nvSpPr>
            <p:cNvPr id="764" name=""/>
            <p:cNvSpPr/>
            <p:nvPr/>
          </p:nvSpPr>
          <p:spPr>
            <a:xfrm>
              <a:off x="204840" y="618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80" y="614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6480" y="5962680"/>
            <a:ext cx="269640" cy="131400"/>
            <a:chOff x="6480" y="5962680"/>
            <a:chExt cx="269640" cy="131400"/>
          </a:xfrm>
        </p:grpSpPr>
        <p:sp>
          <p:nvSpPr>
            <p:cNvPr id="767" name=""/>
            <p:cNvSpPr/>
            <p:nvPr/>
          </p:nvSpPr>
          <p:spPr>
            <a:xfrm>
              <a:off x="204840" y="600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480" y="596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6480" y="5783400"/>
            <a:ext cx="269640" cy="132840"/>
            <a:chOff x="6480" y="5783400"/>
            <a:chExt cx="269640" cy="132840"/>
          </a:xfrm>
        </p:grpSpPr>
        <p:sp>
          <p:nvSpPr>
            <p:cNvPr id="770" name=""/>
            <p:cNvSpPr/>
            <p:nvPr/>
          </p:nvSpPr>
          <p:spPr>
            <a:xfrm>
              <a:off x="204840" y="582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80" y="578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6480" y="5602320"/>
            <a:ext cx="269640" cy="132840"/>
            <a:chOff x="6480" y="5602320"/>
            <a:chExt cx="269640" cy="132840"/>
          </a:xfrm>
        </p:grpSpPr>
        <p:sp>
          <p:nvSpPr>
            <p:cNvPr id="773" name=""/>
            <p:cNvSpPr/>
            <p:nvPr/>
          </p:nvSpPr>
          <p:spPr>
            <a:xfrm>
              <a:off x="204840" y="564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80" y="560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6480" y="5421240"/>
            <a:ext cx="269640" cy="131400"/>
            <a:chOff x="6480" y="5421240"/>
            <a:chExt cx="269640" cy="131400"/>
          </a:xfrm>
        </p:grpSpPr>
        <p:sp>
          <p:nvSpPr>
            <p:cNvPr id="776" name=""/>
            <p:cNvSpPr/>
            <p:nvPr/>
          </p:nvSpPr>
          <p:spPr>
            <a:xfrm>
              <a:off x="204840" y="546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480" y="542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6480" y="5241960"/>
            <a:ext cx="269640" cy="132840"/>
            <a:chOff x="6480" y="5241960"/>
            <a:chExt cx="269640" cy="132840"/>
          </a:xfrm>
        </p:grpSpPr>
        <p:sp>
          <p:nvSpPr>
            <p:cNvPr id="779" name=""/>
            <p:cNvSpPr/>
            <p:nvPr/>
          </p:nvSpPr>
          <p:spPr>
            <a:xfrm>
              <a:off x="204840" y="528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480" y="524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6480" y="5062680"/>
            <a:ext cx="269640" cy="132840"/>
            <a:chOff x="6480" y="5062680"/>
            <a:chExt cx="269640" cy="132840"/>
          </a:xfrm>
        </p:grpSpPr>
        <p:sp>
          <p:nvSpPr>
            <p:cNvPr id="782" name=""/>
            <p:cNvSpPr/>
            <p:nvPr/>
          </p:nvSpPr>
          <p:spPr>
            <a:xfrm>
              <a:off x="204840" y="510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80" y="506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6480" y="4881600"/>
            <a:ext cx="269640" cy="132840"/>
            <a:chOff x="6480" y="4881600"/>
            <a:chExt cx="269640" cy="132840"/>
          </a:xfrm>
        </p:grpSpPr>
        <p:sp>
          <p:nvSpPr>
            <p:cNvPr id="785" name=""/>
            <p:cNvSpPr/>
            <p:nvPr/>
          </p:nvSpPr>
          <p:spPr>
            <a:xfrm>
              <a:off x="204840" y="492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480" y="488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6480" y="4703760"/>
            <a:ext cx="269640" cy="131400"/>
            <a:chOff x="6480" y="4703760"/>
            <a:chExt cx="269640" cy="131400"/>
          </a:xfrm>
        </p:grpSpPr>
        <p:sp>
          <p:nvSpPr>
            <p:cNvPr id="788" name=""/>
            <p:cNvSpPr/>
            <p:nvPr/>
          </p:nvSpPr>
          <p:spPr>
            <a:xfrm>
              <a:off x="204840" y="474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480" y="470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480" y="4521240"/>
            <a:ext cx="269640" cy="135720"/>
            <a:chOff x="6480" y="4521240"/>
            <a:chExt cx="269640" cy="135720"/>
          </a:xfrm>
        </p:grpSpPr>
        <p:sp>
          <p:nvSpPr>
            <p:cNvPr id="791" name=""/>
            <p:cNvSpPr/>
            <p:nvPr/>
          </p:nvSpPr>
          <p:spPr>
            <a:xfrm>
              <a:off x="204840" y="456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80" y="452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6480" y="4343400"/>
            <a:ext cx="269640" cy="132840"/>
            <a:chOff x="6480" y="4343400"/>
            <a:chExt cx="269640" cy="132840"/>
          </a:xfrm>
        </p:grpSpPr>
        <p:sp>
          <p:nvSpPr>
            <p:cNvPr id="794" name=""/>
            <p:cNvSpPr/>
            <p:nvPr/>
          </p:nvSpPr>
          <p:spPr>
            <a:xfrm>
              <a:off x="204840" y="4387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480" y="4343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6480" y="4162320"/>
            <a:ext cx="269640" cy="131400"/>
            <a:chOff x="6480" y="4162320"/>
            <a:chExt cx="269640" cy="131400"/>
          </a:xfrm>
        </p:grpSpPr>
        <p:sp>
          <p:nvSpPr>
            <p:cNvPr id="797" name=""/>
            <p:cNvSpPr/>
            <p:nvPr/>
          </p:nvSpPr>
          <p:spPr>
            <a:xfrm>
              <a:off x="204840" y="42058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480" y="41623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6480" y="3981600"/>
            <a:ext cx="269640" cy="131400"/>
            <a:chOff x="6480" y="3981600"/>
            <a:chExt cx="269640" cy="131400"/>
          </a:xfrm>
        </p:grpSpPr>
        <p:sp>
          <p:nvSpPr>
            <p:cNvPr id="800" name=""/>
            <p:cNvSpPr/>
            <p:nvPr/>
          </p:nvSpPr>
          <p:spPr>
            <a:xfrm>
              <a:off x="204840" y="40251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480" y="39816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6480" y="3801960"/>
            <a:ext cx="269640" cy="132840"/>
            <a:chOff x="6480" y="3801960"/>
            <a:chExt cx="269640" cy="132840"/>
          </a:xfrm>
        </p:grpSpPr>
        <p:sp>
          <p:nvSpPr>
            <p:cNvPr id="803" name=""/>
            <p:cNvSpPr/>
            <p:nvPr/>
          </p:nvSpPr>
          <p:spPr>
            <a:xfrm>
              <a:off x="204840" y="38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480" y="38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6480" y="3622680"/>
            <a:ext cx="269640" cy="132840"/>
            <a:chOff x="6480" y="3622680"/>
            <a:chExt cx="269640" cy="132840"/>
          </a:xfrm>
        </p:grpSpPr>
        <p:sp>
          <p:nvSpPr>
            <p:cNvPr id="806" name=""/>
            <p:cNvSpPr/>
            <p:nvPr/>
          </p:nvSpPr>
          <p:spPr>
            <a:xfrm>
              <a:off x="204840" y="366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480" y="362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6480" y="3441600"/>
            <a:ext cx="269640" cy="132840"/>
            <a:chOff x="6480" y="3441600"/>
            <a:chExt cx="269640" cy="132840"/>
          </a:xfrm>
        </p:grpSpPr>
        <p:sp>
          <p:nvSpPr>
            <p:cNvPr id="809" name=""/>
            <p:cNvSpPr/>
            <p:nvPr/>
          </p:nvSpPr>
          <p:spPr>
            <a:xfrm>
              <a:off x="204840" y="3485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480" y="3441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6480" y="3262320"/>
            <a:ext cx="269640" cy="132840"/>
            <a:chOff x="6480" y="3262320"/>
            <a:chExt cx="269640" cy="132840"/>
          </a:xfrm>
        </p:grpSpPr>
        <p:sp>
          <p:nvSpPr>
            <p:cNvPr id="812" name=""/>
            <p:cNvSpPr/>
            <p:nvPr/>
          </p:nvSpPr>
          <p:spPr>
            <a:xfrm>
              <a:off x="204840" y="33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80" y="32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480" y="3081240"/>
            <a:ext cx="269640" cy="136080"/>
            <a:chOff x="6480" y="3081240"/>
            <a:chExt cx="269640" cy="136080"/>
          </a:xfrm>
        </p:grpSpPr>
        <p:sp>
          <p:nvSpPr>
            <p:cNvPr id="815" name=""/>
            <p:cNvSpPr/>
            <p:nvPr/>
          </p:nvSpPr>
          <p:spPr>
            <a:xfrm>
              <a:off x="204840" y="312660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80" y="308124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6480" y="2903400"/>
            <a:ext cx="269640" cy="131400"/>
            <a:chOff x="6480" y="2903400"/>
            <a:chExt cx="269640" cy="131400"/>
          </a:xfrm>
        </p:grpSpPr>
        <p:sp>
          <p:nvSpPr>
            <p:cNvPr id="818" name=""/>
            <p:cNvSpPr/>
            <p:nvPr/>
          </p:nvSpPr>
          <p:spPr>
            <a:xfrm>
              <a:off x="204840" y="29469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80" y="29034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480" y="2722680"/>
            <a:ext cx="269640" cy="131400"/>
            <a:chOff x="6480" y="2722680"/>
            <a:chExt cx="269640" cy="131400"/>
          </a:xfrm>
        </p:grpSpPr>
        <p:sp>
          <p:nvSpPr>
            <p:cNvPr id="821" name=""/>
            <p:cNvSpPr/>
            <p:nvPr/>
          </p:nvSpPr>
          <p:spPr>
            <a:xfrm>
              <a:off x="204840" y="2766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480" y="27226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6480" y="2540160"/>
            <a:ext cx="269640" cy="135720"/>
            <a:chOff x="6480" y="2540160"/>
            <a:chExt cx="269640" cy="135720"/>
          </a:xfrm>
        </p:grpSpPr>
        <p:sp>
          <p:nvSpPr>
            <p:cNvPr id="824" name=""/>
            <p:cNvSpPr/>
            <p:nvPr/>
          </p:nvSpPr>
          <p:spPr>
            <a:xfrm>
              <a:off x="204840" y="2585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80" y="25401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6480" y="2362320"/>
            <a:ext cx="269640" cy="132840"/>
            <a:chOff x="6480" y="2362320"/>
            <a:chExt cx="269640" cy="132840"/>
          </a:xfrm>
        </p:grpSpPr>
        <p:sp>
          <p:nvSpPr>
            <p:cNvPr id="827" name=""/>
            <p:cNvSpPr/>
            <p:nvPr/>
          </p:nvSpPr>
          <p:spPr>
            <a:xfrm>
              <a:off x="204840" y="240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80" y="236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6480" y="2182680"/>
            <a:ext cx="269640" cy="132840"/>
            <a:chOff x="6480" y="2182680"/>
            <a:chExt cx="269640" cy="132840"/>
          </a:xfrm>
        </p:grpSpPr>
        <p:sp>
          <p:nvSpPr>
            <p:cNvPr id="830" name=""/>
            <p:cNvSpPr/>
            <p:nvPr/>
          </p:nvSpPr>
          <p:spPr>
            <a:xfrm>
              <a:off x="204840" y="2226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480" y="2182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6480" y="2001960"/>
            <a:ext cx="269640" cy="132840"/>
            <a:chOff x="6480" y="2001960"/>
            <a:chExt cx="269640" cy="132840"/>
          </a:xfrm>
        </p:grpSpPr>
        <p:sp>
          <p:nvSpPr>
            <p:cNvPr id="833" name=""/>
            <p:cNvSpPr/>
            <p:nvPr/>
          </p:nvSpPr>
          <p:spPr>
            <a:xfrm>
              <a:off x="204840" y="2046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480" y="2001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480" y="1822320"/>
            <a:ext cx="269640" cy="132840"/>
            <a:chOff x="6480" y="1822320"/>
            <a:chExt cx="269640" cy="132840"/>
          </a:xfrm>
        </p:grpSpPr>
        <p:sp>
          <p:nvSpPr>
            <p:cNvPr id="836" name=""/>
            <p:cNvSpPr/>
            <p:nvPr/>
          </p:nvSpPr>
          <p:spPr>
            <a:xfrm>
              <a:off x="204840" y="1866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480" y="1822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6480" y="1644480"/>
            <a:ext cx="269640" cy="131400"/>
            <a:chOff x="6480" y="1644480"/>
            <a:chExt cx="269640" cy="131400"/>
          </a:xfrm>
        </p:grpSpPr>
        <p:sp>
          <p:nvSpPr>
            <p:cNvPr id="839" name=""/>
            <p:cNvSpPr/>
            <p:nvPr/>
          </p:nvSpPr>
          <p:spPr>
            <a:xfrm>
              <a:off x="204840" y="16880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480" y="16444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6480" y="1463760"/>
            <a:ext cx="269640" cy="131400"/>
            <a:chOff x="6480" y="1463760"/>
            <a:chExt cx="269640" cy="131400"/>
          </a:xfrm>
        </p:grpSpPr>
        <p:sp>
          <p:nvSpPr>
            <p:cNvPr id="842" name=""/>
            <p:cNvSpPr/>
            <p:nvPr/>
          </p:nvSpPr>
          <p:spPr>
            <a:xfrm>
              <a:off x="204840" y="15073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80" y="14637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480" y="1281240"/>
            <a:ext cx="269640" cy="135720"/>
            <a:chOff x="6480" y="1281240"/>
            <a:chExt cx="269640" cy="135720"/>
          </a:xfrm>
        </p:grpSpPr>
        <p:sp>
          <p:nvSpPr>
            <p:cNvPr id="845" name=""/>
            <p:cNvSpPr/>
            <p:nvPr/>
          </p:nvSpPr>
          <p:spPr>
            <a:xfrm>
              <a:off x="204840" y="1326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480" y="12812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480" y="1100160"/>
            <a:ext cx="269640" cy="132840"/>
            <a:chOff x="6480" y="1100160"/>
            <a:chExt cx="269640" cy="132840"/>
          </a:xfrm>
        </p:grpSpPr>
        <p:sp>
          <p:nvSpPr>
            <p:cNvPr id="848" name=""/>
            <p:cNvSpPr/>
            <p:nvPr/>
          </p:nvSpPr>
          <p:spPr>
            <a:xfrm>
              <a:off x="204840" y="11444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480" y="11001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80" y="919080"/>
            <a:ext cx="269640" cy="132840"/>
            <a:chOff x="6480" y="919080"/>
            <a:chExt cx="269640" cy="132840"/>
          </a:xfrm>
        </p:grpSpPr>
        <p:sp>
          <p:nvSpPr>
            <p:cNvPr id="851" name=""/>
            <p:cNvSpPr/>
            <p:nvPr/>
          </p:nvSpPr>
          <p:spPr>
            <a:xfrm>
              <a:off x="204840" y="9633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80" y="9190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480" y="741240"/>
            <a:ext cx="269640" cy="131400"/>
            <a:chOff x="6480" y="741240"/>
            <a:chExt cx="269640" cy="131400"/>
          </a:xfrm>
        </p:grpSpPr>
        <p:sp>
          <p:nvSpPr>
            <p:cNvPr id="854" name=""/>
            <p:cNvSpPr/>
            <p:nvPr/>
          </p:nvSpPr>
          <p:spPr>
            <a:xfrm>
              <a:off x="204840" y="7848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480" y="7412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480" y="558720"/>
            <a:ext cx="269640" cy="135720"/>
            <a:chOff x="6480" y="558720"/>
            <a:chExt cx="269640" cy="135720"/>
          </a:xfrm>
        </p:grpSpPr>
        <p:sp>
          <p:nvSpPr>
            <p:cNvPr id="857" name=""/>
            <p:cNvSpPr/>
            <p:nvPr/>
          </p:nvSpPr>
          <p:spPr>
            <a:xfrm>
              <a:off x="204840" y="603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480" y="55872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480" y="380880"/>
            <a:ext cx="269640" cy="132840"/>
            <a:chOff x="6480" y="380880"/>
            <a:chExt cx="269640" cy="132840"/>
          </a:xfrm>
        </p:grpSpPr>
        <p:sp>
          <p:nvSpPr>
            <p:cNvPr id="860" name=""/>
            <p:cNvSpPr/>
            <p:nvPr/>
          </p:nvSpPr>
          <p:spPr>
            <a:xfrm>
              <a:off x="204840" y="425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80" y="380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480" y="200160"/>
            <a:ext cx="269640" cy="131400"/>
            <a:chOff x="6480" y="200160"/>
            <a:chExt cx="269640" cy="131400"/>
          </a:xfrm>
        </p:grpSpPr>
        <p:sp>
          <p:nvSpPr>
            <p:cNvPr id="863" name=""/>
            <p:cNvSpPr/>
            <p:nvPr/>
          </p:nvSpPr>
          <p:spPr>
            <a:xfrm>
              <a:off x="204840" y="2437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80" y="2001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6480" y="20520"/>
            <a:ext cx="269640" cy="132840"/>
            <a:chOff x="6480" y="20520"/>
            <a:chExt cx="269640" cy="132840"/>
          </a:xfrm>
        </p:grpSpPr>
        <p:sp>
          <p:nvSpPr>
            <p:cNvPr id="866" name=""/>
            <p:cNvSpPr/>
            <p:nvPr/>
          </p:nvSpPr>
          <p:spPr>
            <a:xfrm>
              <a:off x="204840" y="648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80" y="205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8" name=""/>
          <p:cNvSpPr/>
          <p:nvPr/>
        </p:nvSpPr>
        <p:spPr>
          <a:xfrm flipH="1">
            <a:off x="151920" y="2052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151920" y="988524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"/>
          <p:cNvSpPr/>
          <p:nvPr/>
        </p:nvSpPr>
        <p:spPr>
          <a:xfrm>
            <a:off x="368280" y="558720"/>
            <a:ext cx="5975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"/>
          <p:cNvSpPr/>
          <p:nvPr/>
        </p:nvSpPr>
        <p:spPr>
          <a:xfrm>
            <a:off x="1125360" y="2419200"/>
            <a:ext cx="524160" cy="18288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"/>
          <p:cNvSpPr/>
          <p:nvPr/>
        </p:nvSpPr>
        <p:spPr>
          <a:xfrm>
            <a:off x="1125360" y="2779560"/>
            <a:ext cx="524160" cy="18288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/>
          <p:nvPr/>
        </p:nvSpPr>
        <p:spPr>
          <a:xfrm>
            <a:off x="1125360" y="3138480"/>
            <a:ext cx="524160" cy="1857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"/>
          <p:cNvSpPr/>
          <p:nvPr/>
        </p:nvSpPr>
        <p:spPr>
          <a:xfrm>
            <a:off x="1125360" y="349884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"/>
          <p:cNvSpPr/>
          <p:nvPr/>
        </p:nvSpPr>
        <p:spPr>
          <a:xfrm>
            <a:off x="1125360" y="385920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/>
          <p:nvPr/>
        </p:nvSpPr>
        <p:spPr>
          <a:xfrm>
            <a:off x="1125360" y="4219560"/>
            <a:ext cx="524160" cy="1825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/>
          <p:nvPr/>
        </p:nvSpPr>
        <p:spPr>
          <a:xfrm>
            <a:off x="1125360" y="4579920"/>
            <a:ext cx="524160" cy="1857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"/>
          <p:cNvSpPr/>
          <p:nvPr/>
        </p:nvSpPr>
        <p:spPr>
          <a:xfrm>
            <a:off x="1125360" y="4938840"/>
            <a:ext cx="524160" cy="1839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"/>
          <p:cNvSpPr/>
          <p:nvPr/>
        </p:nvSpPr>
        <p:spPr>
          <a:xfrm>
            <a:off x="239760" y="147636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Objectif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"/>
          <p:cNvSpPr/>
          <p:nvPr/>
        </p:nvSpPr>
        <p:spPr>
          <a:xfrm>
            <a:off x="239760" y="200664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i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"/>
          <p:cNvSpPr/>
          <p:nvPr/>
        </p:nvSpPr>
        <p:spPr>
          <a:xfrm>
            <a:off x="239760" y="244944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Comment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/>
          <p:nvPr/>
        </p:nvSpPr>
        <p:spPr>
          <a:xfrm>
            <a:off x="239760" y="751680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and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Espace réservé du titre 1"/>
          <p:cNvSpPr/>
          <p:nvPr/>
        </p:nvSpPr>
        <p:spPr>
          <a:xfrm>
            <a:off x="1087560" y="93600"/>
            <a:ext cx="612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Axe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"/>
          <p:cNvSpPr/>
          <p:nvPr/>
        </p:nvSpPr>
        <p:spPr>
          <a:xfrm>
            <a:off x="1954080" y="7616880"/>
            <a:ext cx="0" cy="18810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"/>
          <p:cNvSpPr/>
          <p:nvPr/>
        </p:nvSpPr>
        <p:spPr>
          <a:xfrm>
            <a:off x="2817720" y="7616880"/>
            <a:ext cx="0" cy="18810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"/>
          <p:cNvSpPr/>
          <p:nvPr/>
        </p:nvSpPr>
        <p:spPr>
          <a:xfrm>
            <a:off x="3683160" y="7616880"/>
            <a:ext cx="0" cy="18986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"/>
          <p:cNvSpPr/>
          <p:nvPr/>
        </p:nvSpPr>
        <p:spPr>
          <a:xfrm>
            <a:off x="4546440" y="7616880"/>
            <a:ext cx="0" cy="18810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"/>
          <p:cNvSpPr/>
          <p:nvPr/>
        </p:nvSpPr>
        <p:spPr>
          <a:xfrm>
            <a:off x="5411880" y="7616880"/>
            <a:ext cx="0" cy="18986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"/>
          <p:cNvSpPr/>
          <p:nvPr/>
        </p:nvSpPr>
        <p:spPr>
          <a:xfrm>
            <a:off x="6275520" y="7601040"/>
            <a:ext cx="0" cy="1914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991800" y="78231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"/>
          <p:cNvSpPr/>
          <p:nvPr/>
        </p:nvSpPr>
        <p:spPr>
          <a:xfrm>
            <a:off x="1090440" y="7650000"/>
            <a:ext cx="613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"/>
          <p:cNvSpPr/>
          <p:nvPr/>
        </p:nvSpPr>
        <p:spPr>
          <a:xfrm>
            <a:off x="1955880" y="765000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"/>
          <p:cNvSpPr/>
          <p:nvPr/>
        </p:nvSpPr>
        <p:spPr>
          <a:xfrm>
            <a:off x="2819520" y="765000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"/>
          <p:cNvSpPr/>
          <p:nvPr/>
        </p:nvSpPr>
        <p:spPr>
          <a:xfrm>
            <a:off x="3683160" y="765000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"/>
          <p:cNvSpPr/>
          <p:nvPr/>
        </p:nvSpPr>
        <p:spPr>
          <a:xfrm>
            <a:off x="4546440" y="7650000"/>
            <a:ext cx="613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"/>
          <p:cNvSpPr/>
          <p:nvPr/>
        </p:nvSpPr>
        <p:spPr>
          <a:xfrm>
            <a:off x="5411880" y="7650000"/>
            <a:ext cx="612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ois 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"/>
          <p:cNvSpPr/>
          <p:nvPr/>
        </p:nvSpPr>
        <p:spPr>
          <a:xfrm>
            <a:off x="1522440" y="7823160"/>
            <a:ext cx="0" cy="167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"/>
          <p:cNvSpPr/>
          <p:nvPr/>
        </p:nvSpPr>
        <p:spPr>
          <a:xfrm>
            <a:off x="2387520" y="7823160"/>
            <a:ext cx="0" cy="167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"/>
          <p:cNvSpPr/>
          <p:nvPr/>
        </p:nvSpPr>
        <p:spPr>
          <a:xfrm>
            <a:off x="3251160" y="7842240"/>
            <a:ext cx="0" cy="1655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"/>
          <p:cNvSpPr/>
          <p:nvPr/>
        </p:nvSpPr>
        <p:spPr>
          <a:xfrm>
            <a:off x="4114800" y="7842240"/>
            <a:ext cx="0" cy="1655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/>
          <p:nvPr/>
        </p:nvSpPr>
        <p:spPr>
          <a:xfrm>
            <a:off x="4970520" y="7807320"/>
            <a:ext cx="0" cy="1690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/>
          <p:nvPr/>
        </p:nvSpPr>
        <p:spPr>
          <a:xfrm>
            <a:off x="5843520" y="7823160"/>
            <a:ext cx="0" cy="167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991800" y="52671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991800" y="49068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991800" y="45464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991800" y="418788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991800" y="38275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991800" y="34671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991800" y="31100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991800" y="27464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"/>
          <p:cNvSpPr/>
          <p:nvPr/>
        </p:nvSpPr>
        <p:spPr>
          <a:xfrm>
            <a:off x="1125360" y="5299200"/>
            <a:ext cx="524160" cy="1839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"/>
          <p:cNvSpPr/>
          <p:nvPr/>
        </p:nvSpPr>
        <p:spPr>
          <a:xfrm>
            <a:off x="5411880" y="1449360"/>
            <a:ext cx="0" cy="468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"/>
          <p:cNvSpPr/>
          <p:nvPr/>
        </p:nvSpPr>
        <p:spPr>
          <a:xfrm>
            <a:off x="4546440" y="1450800"/>
            <a:ext cx="0" cy="468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"/>
          <p:cNvSpPr/>
          <p:nvPr/>
        </p:nvSpPr>
        <p:spPr>
          <a:xfrm>
            <a:off x="1090440" y="1417680"/>
            <a:ext cx="1297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dicateur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"/>
          <p:cNvSpPr/>
          <p:nvPr/>
        </p:nvSpPr>
        <p:spPr>
          <a:xfrm>
            <a:off x="4546440" y="1417680"/>
            <a:ext cx="865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eur initiale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"/>
          <p:cNvSpPr/>
          <p:nvPr/>
        </p:nvSpPr>
        <p:spPr>
          <a:xfrm>
            <a:off x="239760" y="1009800"/>
            <a:ext cx="850680" cy="1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395"/>
                </a:solidFill>
                <a:latin typeface="Calibri"/>
              </a:rPr>
              <a:t>Quoi 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"/>
          <p:cNvSpPr/>
          <p:nvPr/>
        </p:nvSpPr>
        <p:spPr>
          <a:xfrm>
            <a:off x="3753000" y="596880"/>
            <a:ext cx="612720" cy="316080"/>
          </a:xfrm>
          <a:prstGeom prst="ellipse">
            <a:avLst/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"/>
          <p:cNvSpPr/>
          <p:nvPr/>
        </p:nvSpPr>
        <p:spPr>
          <a:xfrm>
            <a:off x="3119400" y="596880"/>
            <a:ext cx="704880" cy="316080"/>
          </a:xfrm>
          <a:prstGeom prst="rightArrow">
            <a:avLst>
              <a:gd name="adj1" fmla="val 66833"/>
              <a:gd name="adj2" fmla="val 72828"/>
            </a:avLst>
          </a:prstGeom>
          <a:solidFill>
            <a:srgbClr val="4a8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Ac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"/>
          <p:cNvSpPr/>
          <p:nvPr/>
        </p:nvSpPr>
        <p:spPr>
          <a:xfrm>
            <a:off x="5408640" y="1417680"/>
            <a:ext cx="8650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eur cible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"/>
          <p:cNvSpPr/>
          <p:nvPr/>
        </p:nvSpPr>
        <p:spPr>
          <a:xfrm>
            <a:off x="1125360" y="5668920"/>
            <a:ext cx="524160" cy="1857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"/>
          <p:cNvSpPr/>
          <p:nvPr/>
        </p:nvSpPr>
        <p:spPr>
          <a:xfrm>
            <a:off x="1125360" y="6027840"/>
            <a:ext cx="524160" cy="183960"/>
          </a:xfrm>
          <a:custGeom>
            <a:avLst/>
            <a:gdLst>
              <a:gd name="textAreaLeft" fmla="*/ 0 w 524160"/>
              <a:gd name="textAreaRight" fmla="*/ 524520 w 5241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"/>
          <p:cNvSpPr/>
          <p:nvPr/>
        </p:nvSpPr>
        <p:spPr>
          <a:xfrm>
            <a:off x="1125360" y="6391440"/>
            <a:ext cx="524160" cy="1825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"/>
          <p:cNvSpPr/>
          <p:nvPr/>
        </p:nvSpPr>
        <p:spPr>
          <a:xfrm>
            <a:off x="1125360" y="6750000"/>
            <a:ext cx="524160" cy="1843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"/>
          <p:cNvSpPr/>
          <p:nvPr/>
        </p:nvSpPr>
        <p:spPr>
          <a:xfrm>
            <a:off x="1125360" y="7108920"/>
            <a:ext cx="524160" cy="182520"/>
          </a:xfrm>
          <a:custGeom>
            <a:avLst/>
            <a:gdLst>
              <a:gd name="textAreaLeft" fmla="*/ 0 w 524160"/>
              <a:gd name="textAreaRight" fmla="*/ 524520 w 524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Etape 1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991800" y="70772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991800" y="67183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991800" y="63579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991800" y="59961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991800" y="56358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" descr=""/>
          <p:cNvPicPr/>
          <p:nvPr/>
        </p:nvPicPr>
        <p:blipFill>
          <a:blip r:embed="rId2"/>
          <a:stretch/>
        </p:blipFill>
        <p:spPr>
          <a:xfrm flipH="1">
            <a:off x="420840" y="9561600"/>
            <a:ext cx="6248160" cy="26352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3"/>
          <a:stretch/>
        </p:blipFill>
        <p:spPr>
          <a:xfrm>
            <a:off x="3141720" y="4730760"/>
            <a:ext cx="828720" cy="47448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 flipH="1">
            <a:off x="404280" y="2052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404280" y="9885240"/>
            <a:ext cx="63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70392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6579000" y="32040"/>
            <a:ext cx="269640" cy="132840"/>
            <a:chOff x="6579000" y="32040"/>
            <a:chExt cx="269640" cy="132840"/>
          </a:xfrm>
        </p:grpSpPr>
        <p:sp>
          <p:nvSpPr>
            <p:cNvPr id="973" name=""/>
            <p:cNvSpPr/>
            <p:nvPr/>
          </p:nvSpPr>
          <p:spPr>
            <a:xfrm rot="10800000">
              <a:off x="6579000" y="49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10800000">
              <a:off x="6615720" y="31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6579000" y="211320"/>
            <a:ext cx="269640" cy="132840"/>
            <a:chOff x="6579000" y="211320"/>
            <a:chExt cx="269640" cy="132840"/>
          </a:xfrm>
        </p:grpSpPr>
        <p:sp>
          <p:nvSpPr>
            <p:cNvPr id="976" name=""/>
            <p:cNvSpPr/>
            <p:nvPr/>
          </p:nvSpPr>
          <p:spPr>
            <a:xfrm rot="10800000">
              <a:off x="6579000" y="22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10800000">
              <a:off x="6615720" y="21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6579000" y="390960"/>
            <a:ext cx="269640" cy="131400"/>
            <a:chOff x="6579000" y="390960"/>
            <a:chExt cx="269640" cy="131400"/>
          </a:xfrm>
        </p:grpSpPr>
        <p:sp>
          <p:nvSpPr>
            <p:cNvPr id="979" name=""/>
            <p:cNvSpPr/>
            <p:nvPr/>
          </p:nvSpPr>
          <p:spPr>
            <a:xfrm rot="10800000">
              <a:off x="6579000" y="4086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10800000">
              <a:off x="6615720" y="3909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6579000" y="572040"/>
            <a:ext cx="269640" cy="131400"/>
            <a:chOff x="6579000" y="572040"/>
            <a:chExt cx="269640" cy="131400"/>
          </a:xfrm>
        </p:grpSpPr>
        <p:sp>
          <p:nvSpPr>
            <p:cNvPr id="982" name=""/>
            <p:cNvSpPr/>
            <p:nvPr/>
          </p:nvSpPr>
          <p:spPr>
            <a:xfrm rot="10800000">
              <a:off x="6579000" y="5896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10800000">
              <a:off x="6615720" y="5720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6579000" y="749880"/>
            <a:ext cx="269640" cy="136080"/>
            <a:chOff x="6579000" y="749880"/>
            <a:chExt cx="269640" cy="136080"/>
          </a:xfrm>
        </p:grpSpPr>
        <p:sp>
          <p:nvSpPr>
            <p:cNvPr id="985" name=""/>
            <p:cNvSpPr/>
            <p:nvPr/>
          </p:nvSpPr>
          <p:spPr>
            <a:xfrm rot="10800000">
              <a:off x="6579000" y="767520"/>
              <a:ext cx="712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10800000">
              <a:off x="6615720" y="749880"/>
              <a:ext cx="232920" cy="13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6579000" y="930600"/>
            <a:ext cx="269640" cy="132840"/>
            <a:chOff x="6579000" y="930600"/>
            <a:chExt cx="269640" cy="132840"/>
          </a:xfrm>
        </p:grpSpPr>
        <p:sp>
          <p:nvSpPr>
            <p:cNvPr id="988" name=""/>
            <p:cNvSpPr/>
            <p:nvPr/>
          </p:nvSpPr>
          <p:spPr>
            <a:xfrm rot="10800000">
              <a:off x="6579000" y="94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10800000">
              <a:off x="6615720" y="93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6579000" y="1109880"/>
            <a:ext cx="269640" cy="132840"/>
            <a:chOff x="6579000" y="1109880"/>
            <a:chExt cx="269640" cy="132840"/>
          </a:xfrm>
        </p:grpSpPr>
        <p:sp>
          <p:nvSpPr>
            <p:cNvPr id="991" name=""/>
            <p:cNvSpPr/>
            <p:nvPr/>
          </p:nvSpPr>
          <p:spPr>
            <a:xfrm rot="10800000">
              <a:off x="6579000" y="1127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0800000">
              <a:off x="6615720" y="1109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579000" y="1290960"/>
            <a:ext cx="269640" cy="132840"/>
            <a:chOff x="6579000" y="1290960"/>
            <a:chExt cx="269640" cy="132840"/>
          </a:xfrm>
        </p:grpSpPr>
        <p:sp>
          <p:nvSpPr>
            <p:cNvPr id="994" name=""/>
            <p:cNvSpPr/>
            <p:nvPr/>
          </p:nvSpPr>
          <p:spPr>
            <a:xfrm rot="10800000">
              <a:off x="6579000" y="130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10800000">
              <a:off x="6615720" y="1290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6" name=""/>
          <p:cNvSpPr/>
          <p:nvPr/>
        </p:nvSpPr>
        <p:spPr>
          <a:xfrm rot="10800000">
            <a:off x="6576480" y="1487520"/>
            <a:ext cx="7164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"/>
          <p:cNvSpPr/>
          <p:nvPr/>
        </p:nvSpPr>
        <p:spPr>
          <a:xfrm rot="10800000">
            <a:off x="6613920" y="1472040"/>
            <a:ext cx="23292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8" y="10993"/>
                </a:moveTo>
                <a:arcTo wR="10800" hR="10800" stAng="61535" swAng="16933966"/>
                <a:lnTo>
                  <a:pt x="10800" y="10800"/>
                </a:lnTo>
                <a:close/>
              </a:path>
              <a:path fill="none" w="21600" h="21600">
                <a:moveTo>
                  <a:pt x="21598" y="10993"/>
                </a:moveTo>
                <a:arcTo wR="10800" hR="10800" stAng="61535" swAng="16933966"/>
              </a:path>
            </a:pathLst>
          </a:custGeom>
          <a:noFill/>
          <a:ln w="9360">
            <a:solidFill>
              <a:srgbClr val="333333"/>
            </a:solidFill>
            <a:miter/>
          </a:ln>
          <a:effectLst>
            <a:outerShdw dist="12600" dir="54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579000" y="1651320"/>
            <a:ext cx="269640" cy="132840"/>
            <a:chOff x="6579000" y="1651320"/>
            <a:chExt cx="269640" cy="132840"/>
          </a:xfrm>
        </p:grpSpPr>
        <p:sp>
          <p:nvSpPr>
            <p:cNvPr id="999" name=""/>
            <p:cNvSpPr/>
            <p:nvPr/>
          </p:nvSpPr>
          <p:spPr>
            <a:xfrm rot="10800000">
              <a:off x="6579000" y="166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10800000">
              <a:off x="6615720" y="165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6579000" y="1830600"/>
            <a:ext cx="269640" cy="131400"/>
            <a:chOff x="6579000" y="1830600"/>
            <a:chExt cx="269640" cy="131400"/>
          </a:xfrm>
        </p:grpSpPr>
        <p:sp>
          <p:nvSpPr>
            <p:cNvPr id="1002" name=""/>
            <p:cNvSpPr/>
            <p:nvPr/>
          </p:nvSpPr>
          <p:spPr>
            <a:xfrm rot="10800000">
              <a:off x="6579000" y="184824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10800000">
              <a:off x="6615720" y="183060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6579000" y="2011680"/>
            <a:ext cx="269640" cy="132840"/>
            <a:chOff x="6579000" y="2011680"/>
            <a:chExt cx="269640" cy="132840"/>
          </a:xfrm>
        </p:grpSpPr>
        <p:sp>
          <p:nvSpPr>
            <p:cNvPr id="1005" name=""/>
            <p:cNvSpPr/>
            <p:nvPr/>
          </p:nvSpPr>
          <p:spPr>
            <a:xfrm rot="10800000">
              <a:off x="6579000" y="2028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10800000">
              <a:off x="6615720" y="2011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6579000" y="2189520"/>
            <a:ext cx="269640" cy="135720"/>
            <a:chOff x="6579000" y="2189520"/>
            <a:chExt cx="269640" cy="135720"/>
          </a:xfrm>
        </p:grpSpPr>
        <p:sp>
          <p:nvSpPr>
            <p:cNvPr id="1008" name=""/>
            <p:cNvSpPr/>
            <p:nvPr/>
          </p:nvSpPr>
          <p:spPr>
            <a:xfrm rot="10800000">
              <a:off x="6579000" y="220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10800000">
              <a:off x="6615720" y="218952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6579000" y="2372040"/>
            <a:ext cx="269640" cy="131400"/>
            <a:chOff x="6579000" y="2372040"/>
            <a:chExt cx="269640" cy="131400"/>
          </a:xfrm>
        </p:grpSpPr>
        <p:sp>
          <p:nvSpPr>
            <p:cNvPr id="1011" name=""/>
            <p:cNvSpPr/>
            <p:nvPr/>
          </p:nvSpPr>
          <p:spPr>
            <a:xfrm rot="10800000">
              <a:off x="6579000" y="23896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10800000">
              <a:off x="6615720" y="23720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6579000" y="2549880"/>
            <a:ext cx="269640" cy="132840"/>
            <a:chOff x="6579000" y="2549880"/>
            <a:chExt cx="269640" cy="132840"/>
          </a:xfrm>
        </p:grpSpPr>
        <p:sp>
          <p:nvSpPr>
            <p:cNvPr id="1014" name=""/>
            <p:cNvSpPr/>
            <p:nvPr/>
          </p:nvSpPr>
          <p:spPr>
            <a:xfrm rot="10800000">
              <a:off x="6579000" y="2567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0800000">
              <a:off x="6615720" y="2549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579000" y="2730960"/>
            <a:ext cx="269640" cy="132840"/>
            <a:chOff x="6579000" y="2730960"/>
            <a:chExt cx="269640" cy="132840"/>
          </a:xfrm>
        </p:grpSpPr>
        <p:sp>
          <p:nvSpPr>
            <p:cNvPr id="1017" name=""/>
            <p:cNvSpPr/>
            <p:nvPr/>
          </p:nvSpPr>
          <p:spPr>
            <a:xfrm rot="10800000">
              <a:off x="6579000" y="274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0800000">
              <a:off x="6615720" y="2730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6579000" y="2911680"/>
            <a:ext cx="269640" cy="132840"/>
            <a:chOff x="6579000" y="2911680"/>
            <a:chExt cx="269640" cy="132840"/>
          </a:xfrm>
        </p:grpSpPr>
        <p:sp>
          <p:nvSpPr>
            <p:cNvPr id="1020" name=""/>
            <p:cNvSpPr/>
            <p:nvPr/>
          </p:nvSpPr>
          <p:spPr>
            <a:xfrm rot="10800000">
              <a:off x="6579000" y="2928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10800000">
              <a:off x="6615720" y="2911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6579000" y="3091320"/>
            <a:ext cx="269640" cy="132840"/>
            <a:chOff x="6579000" y="3091320"/>
            <a:chExt cx="269640" cy="132840"/>
          </a:xfrm>
        </p:grpSpPr>
        <p:sp>
          <p:nvSpPr>
            <p:cNvPr id="1023" name=""/>
            <p:cNvSpPr/>
            <p:nvPr/>
          </p:nvSpPr>
          <p:spPr>
            <a:xfrm rot="10800000">
              <a:off x="6579000" y="310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0800000">
              <a:off x="6615720" y="309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6579000" y="3270600"/>
            <a:ext cx="269640" cy="132840"/>
            <a:chOff x="6579000" y="3270600"/>
            <a:chExt cx="269640" cy="132840"/>
          </a:xfrm>
        </p:grpSpPr>
        <p:sp>
          <p:nvSpPr>
            <p:cNvPr id="1026" name=""/>
            <p:cNvSpPr/>
            <p:nvPr/>
          </p:nvSpPr>
          <p:spPr>
            <a:xfrm rot="10800000">
              <a:off x="6579000" y="328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0800000">
              <a:off x="6615720" y="327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6579000" y="3451680"/>
            <a:ext cx="269640" cy="132840"/>
            <a:chOff x="6579000" y="3451680"/>
            <a:chExt cx="269640" cy="132840"/>
          </a:xfrm>
        </p:grpSpPr>
        <p:sp>
          <p:nvSpPr>
            <p:cNvPr id="1029" name=""/>
            <p:cNvSpPr/>
            <p:nvPr/>
          </p:nvSpPr>
          <p:spPr>
            <a:xfrm rot="10800000">
              <a:off x="6579000" y="34689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10800000">
              <a:off x="6615720" y="34516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6579000" y="3630960"/>
            <a:ext cx="269640" cy="131400"/>
            <a:chOff x="6579000" y="3630960"/>
            <a:chExt cx="269640" cy="131400"/>
          </a:xfrm>
        </p:grpSpPr>
        <p:sp>
          <p:nvSpPr>
            <p:cNvPr id="1032" name=""/>
            <p:cNvSpPr/>
            <p:nvPr/>
          </p:nvSpPr>
          <p:spPr>
            <a:xfrm rot="10800000">
              <a:off x="6579000" y="36486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"/>
            <p:cNvSpPr/>
            <p:nvPr/>
          </p:nvSpPr>
          <p:spPr>
            <a:xfrm rot="10800000">
              <a:off x="6615720" y="36309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6579000" y="3812040"/>
            <a:ext cx="269640" cy="131400"/>
            <a:chOff x="6579000" y="3812040"/>
            <a:chExt cx="269640" cy="131400"/>
          </a:xfrm>
        </p:grpSpPr>
        <p:sp>
          <p:nvSpPr>
            <p:cNvPr id="1035" name=""/>
            <p:cNvSpPr/>
            <p:nvPr/>
          </p:nvSpPr>
          <p:spPr>
            <a:xfrm rot="10800000">
              <a:off x="6579000" y="38296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10800000">
              <a:off x="6615720" y="38120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6580440" y="3989880"/>
            <a:ext cx="269640" cy="132840"/>
            <a:chOff x="6580440" y="3989880"/>
            <a:chExt cx="269640" cy="132840"/>
          </a:xfrm>
        </p:grpSpPr>
        <p:sp>
          <p:nvSpPr>
            <p:cNvPr id="1038" name=""/>
            <p:cNvSpPr/>
            <p:nvPr/>
          </p:nvSpPr>
          <p:spPr>
            <a:xfrm rot="10800000">
              <a:off x="6580440" y="400716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10800000">
              <a:off x="6617160" y="398988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6580440" y="4170600"/>
            <a:ext cx="269640" cy="132840"/>
            <a:chOff x="6580440" y="4170600"/>
            <a:chExt cx="269640" cy="132840"/>
          </a:xfrm>
        </p:grpSpPr>
        <p:sp>
          <p:nvSpPr>
            <p:cNvPr id="1041" name=""/>
            <p:cNvSpPr/>
            <p:nvPr/>
          </p:nvSpPr>
          <p:spPr>
            <a:xfrm rot="10800000">
              <a:off x="6580440" y="418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"/>
            <p:cNvSpPr/>
            <p:nvPr/>
          </p:nvSpPr>
          <p:spPr>
            <a:xfrm rot="10800000">
              <a:off x="6617160" y="417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6580440" y="4353120"/>
            <a:ext cx="269640" cy="131400"/>
            <a:chOff x="6580440" y="4353120"/>
            <a:chExt cx="269640" cy="131400"/>
          </a:xfrm>
        </p:grpSpPr>
        <p:sp>
          <p:nvSpPr>
            <p:cNvPr id="1044" name=""/>
            <p:cNvSpPr/>
            <p:nvPr/>
          </p:nvSpPr>
          <p:spPr>
            <a:xfrm rot="10800000">
              <a:off x="6580440" y="43707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10800000">
              <a:off x="6617160" y="43531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6580440" y="4530960"/>
            <a:ext cx="269640" cy="132840"/>
            <a:chOff x="6580440" y="4530960"/>
            <a:chExt cx="269640" cy="132840"/>
          </a:xfrm>
        </p:grpSpPr>
        <p:sp>
          <p:nvSpPr>
            <p:cNvPr id="1047" name=""/>
            <p:cNvSpPr/>
            <p:nvPr/>
          </p:nvSpPr>
          <p:spPr>
            <a:xfrm rot="10800000">
              <a:off x="6580440" y="454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10800000">
              <a:off x="6617160" y="4530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6580440" y="4710600"/>
            <a:ext cx="269640" cy="132840"/>
            <a:chOff x="6580440" y="4710600"/>
            <a:chExt cx="269640" cy="132840"/>
          </a:xfrm>
        </p:grpSpPr>
        <p:sp>
          <p:nvSpPr>
            <p:cNvPr id="1050" name=""/>
            <p:cNvSpPr/>
            <p:nvPr/>
          </p:nvSpPr>
          <p:spPr>
            <a:xfrm rot="10800000">
              <a:off x="6580440" y="472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0800000">
              <a:off x="6617160" y="471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6580440" y="4891320"/>
            <a:ext cx="269640" cy="132840"/>
            <a:chOff x="6580440" y="4891320"/>
            <a:chExt cx="269640" cy="132840"/>
          </a:xfrm>
        </p:grpSpPr>
        <p:sp>
          <p:nvSpPr>
            <p:cNvPr id="1053" name=""/>
            <p:cNvSpPr/>
            <p:nvPr/>
          </p:nvSpPr>
          <p:spPr>
            <a:xfrm rot="10800000">
              <a:off x="6580440" y="490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10800000">
              <a:off x="6617160" y="489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6580440" y="5070960"/>
            <a:ext cx="269640" cy="131400"/>
            <a:chOff x="6580440" y="5070960"/>
            <a:chExt cx="269640" cy="131400"/>
          </a:xfrm>
        </p:grpSpPr>
        <p:sp>
          <p:nvSpPr>
            <p:cNvPr id="1056" name=""/>
            <p:cNvSpPr/>
            <p:nvPr/>
          </p:nvSpPr>
          <p:spPr>
            <a:xfrm rot="10800000">
              <a:off x="6580440" y="50886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"/>
            <p:cNvSpPr/>
            <p:nvPr/>
          </p:nvSpPr>
          <p:spPr>
            <a:xfrm rot="10800000">
              <a:off x="6617160" y="50709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6580440" y="5248800"/>
            <a:ext cx="269640" cy="135720"/>
            <a:chOff x="6580440" y="5248800"/>
            <a:chExt cx="269640" cy="135720"/>
          </a:xfrm>
        </p:grpSpPr>
        <p:sp>
          <p:nvSpPr>
            <p:cNvPr id="1059" name=""/>
            <p:cNvSpPr/>
            <p:nvPr/>
          </p:nvSpPr>
          <p:spPr>
            <a:xfrm rot="10800000">
              <a:off x="6580440" y="52668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10800000">
              <a:off x="6617160" y="524880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6580440" y="5429520"/>
            <a:ext cx="269640" cy="132840"/>
            <a:chOff x="6580440" y="5429520"/>
            <a:chExt cx="269640" cy="132840"/>
          </a:xfrm>
        </p:grpSpPr>
        <p:sp>
          <p:nvSpPr>
            <p:cNvPr id="1062" name=""/>
            <p:cNvSpPr/>
            <p:nvPr/>
          </p:nvSpPr>
          <p:spPr>
            <a:xfrm rot="10800000">
              <a:off x="6580440" y="54468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"/>
            <p:cNvSpPr/>
            <p:nvPr/>
          </p:nvSpPr>
          <p:spPr>
            <a:xfrm rot="10800000">
              <a:off x="6617160" y="54295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6580440" y="5612040"/>
            <a:ext cx="269640" cy="131400"/>
            <a:chOff x="6580440" y="5612040"/>
            <a:chExt cx="269640" cy="131400"/>
          </a:xfrm>
        </p:grpSpPr>
        <p:sp>
          <p:nvSpPr>
            <p:cNvPr id="1065" name=""/>
            <p:cNvSpPr/>
            <p:nvPr/>
          </p:nvSpPr>
          <p:spPr>
            <a:xfrm rot="10800000">
              <a:off x="6580440" y="56296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0800000">
              <a:off x="6617160" y="56120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6580440" y="5793120"/>
            <a:ext cx="269640" cy="131400"/>
            <a:chOff x="6580440" y="5793120"/>
            <a:chExt cx="269640" cy="131400"/>
          </a:xfrm>
        </p:grpSpPr>
        <p:sp>
          <p:nvSpPr>
            <p:cNvPr id="1068" name=""/>
            <p:cNvSpPr/>
            <p:nvPr/>
          </p:nvSpPr>
          <p:spPr>
            <a:xfrm rot="10800000">
              <a:off x="6580440" y="58107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10800000">
              <a:off x="6617160" y="57931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6580440" y="5970960"/>
            <a:ext cx="269640" cy="132840"/>
            <a:chOff x="6580440" y="5970960"/>
            <a:chExt cx="269640" cy="132840"/>
          </a:xfrm>
        </p:grpSpPr>
        <p:sp>
          <p:nvSpPr>
            <p:cNvPr id="1071" name=""/>
            <p:cNvSpPr/>
            <p:nvPr/>
          </p:nvSpPr>
          <p:spPr>
            <a:xfrm rot="10800000">
              <a:off x="6580440" y="598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0800000">
              <a:off x="6617160" y="5970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6580440" y="6150240"/>
            <a:ext cx="269640" cy="132840"/>
            <a:chOff x="6580440" y="6150240"/>
            <a:chExt cx="269640" cy="132840"/>
          </a:xfrm>
        </p:grpSpPr>
        <p:sp>
          <p:nvSpPr>
            <p:cNvPr id="1074" name=""/>
            <p:cNvSpPr/>
            <p:nvPr/>
          </p:nvSpPr>
          <p:spPr>
            <a:xfrm rot="10800000">
              <a:off x="6580440" y="6167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0800000">
              <a:off x="6617160" y="6150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580440" y="6331320"/>
            <a:ext cx="269640" cy="132840"/>
            <a:chOff x="6580440" y="6331320"/>
            <a:chExt cx="269640" cy="132840"/>
          </a:xfrm>
        </p:grpSpPr>
        <p:sp>
          <p:nvSpPr>
            <p:cNvPr id="1077" name=""/>
            <p:cNvSpPr/>
            <p:nvPr/>
          </p:nvSpPr>
          <p:spPr>
            <a:xfrm rot="10800000">
              <a:off x="6580440" y="634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0800000">
              <a:off x="6617160" y="633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6580440" y="6510600"/>
            <a:ext cx="269640" cy="132840"/>
            <a:chOff x="6580440" y="6510600"/>
            <a:chExt cx="269640" cy="132840"/>
          </a:xfrm>
        </p:grpSpPr>
        <p:sp>
          <p:nvSpPr>
            <p:cNvPr id="1080" name=""/>
            <p:cNvSpPr/>
            <p:nvPr/>
          </p:nvSpPr>
          <p:spPr>
            <a:xfrm rot="10800000">
              <a:off x="6580440" y="652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0800000">
              <a:off x="6617160" y="651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6580440" y="6688440"/>
            <a:ext cx="269640" cy="135720"/>
            <a:chOff x="6580440" y="6688440"/>
            <a:chExt cx="269640" cy="135720"/>
          </a:xfrm>
        </p:grpSpPr>
        <p:sp>
          <p:nvSpPr>
            <p:cNvPr id="1083" name=""/>
            <p:cNvSpPr/>
            <p:nvPr/>
          </p:nvSpPr>
          <p:spPr>
            <a:xfrm rot="10800000">
              <a:off x="6580440" y="6706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0800000">
              <a:off x="6617160" y="668844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6580440" y="6870960"/>
            <a:ext cx="269640" cy="131400"/>
            <a:chOff x="6580440" y="6870960"/>
            <a:chExt cx="269640" cy="131400"/>
          </a:xfrm>
        </p:grpSpPr>
        <p:sp>
          <p:nvSpPr>
            <p:cNvPr id="1086" name=""/>
            <p:cNvSpPr/>
            <p:nvPr/>
          </p:nvSpPr>
          <p:spPr>
            <a:xfrm rot="10800000">
              <a:off x="6580440" y="68886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"/>
            <p:cNvSpPr/>
            <p:nvPr/>
          </p:nvSpPr>
          <p:spPr>
            <a:xfrm rot="10800000">
              <a:off x="6617160" y="68709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6580440" y="7052040"/>
            <a:ext cx="269640" cy="131400"/>
            <a:chOff x="6580440" y="7052040"/>
            <a:chExt cx="269640" cy="131400"/>
          </a:xfrm>
        </p:grpSpPr>
        <p:sp>
          <p:nvSpPr>
            <p:cNvPr id="1089" name=""/>
            <p:cNvSpPr/>
            <p:nvPr/>
          </p:nvSpPr>
          <p:spPr>
            <a:xfrm rot="10800000">
              <a:off x="6580440" y="706968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0800000">
              <a:off x="6617160" y="705204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6580440" y="7229880"/>
            <a:ext cx="269640" cy="135720"/>
            <a:chOff x="6580440" y="7229880"/>
            <a:chExt cx="269640" cy="135720"/>
          </a:xfrm>
        </p:grpSpPr>
        <p:sp>
          <p:nvSpPr>
            <p:cNvPr id="1092" name=""/>
            <p:cNvSpPr/>
            <p:nvPr/>
          </p:nvSpPr>
          <p:spPr>
            <a:xfrm rot="10800000">
              <a:off x="6580440" y="724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10800000">
              <a:off x="6617160" y="722988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6580440" y="7410960"/>
            <a:ext cx="269640" cy="132840"/>
            <a:chOff x="6580440" y="7410960"/>
            <a:chExt cx="269640" cy="132840"/>
          </a:xfrm>
        </p:grpSpPr>
        <p:sp>
          <p:nvSpPr>
            <p:cNvPr id="1095" name=""/>
            <p:cNvSpPr/>
            <p:nvPr/>
          </p:nvSpPr>
          <p:spPr>
            <a:xfrm rot="10800000">
              <a:off x="6580440" y="742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10800000">
              <a:off x="6617160" y="74109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580440" y="7590240"/>
            <a:ext cx="269640" cy="132840"/>
            <a:chOff x="6580440" y="7590240"/>
            <a:chExt cx="269640" cy="132840"/>
          </a:xfrm>
        </p:grpSpPr>
        <p:sp>
          <p:nvSpPr>
            <p:cNvPr id="1098" name=""/>
            <p:cNvSpPr/>
            <p:nvPr/>
          </p:nvSpPr>
          <p:spPr>
            <a:xfrm rot="10800000">
              <a:off x="6580440" y="76075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10800000">
              <a:off x="6617160" y="75902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580440" y="7771320"/>
            <a:ext cx="269640" cy="132840"/>
            <a:chOff x="6580440" y="7771320"/>
            <a:chExt cx="269640" cy="132840"/>
          </a:xfrm>
        </p:grpSpPr>
        <p:sp>
          <p:nvSpPr>
            <p:cNvPr id="1101" name=""/>
            <p:cNvSpPr/>
            <p:nvPr/>
          </p:nvSpPr>
          <p:spPr>
            <a:xfrm rot="10800000">
              <a:off x="6580440" y="778860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10800000">
              <a:off x="6617160" y="777132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6580440" y="7950600"/>
            <a:ext cx="269640" cy="132840"/>
            <a:chOff x="6580440" y="7950600"/>
            <a:chExt cx="269640" cy="132840"/>
          </a:xfrm>
        </p:grpSpPr>
        <p:sp>
          <p:nvSpPr>
            <p:cNvPr id="1104" name=""/>
            <p:cNvSpPr/>
            <p:nvPr/>
          </p:nvSpPr>
          <p:spPr>
            <a:xfrm rot="10800000">
              <a:off x="6580440" y="79678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"/>
            <p:cNvSpPr/>
            <p:nvPr/>
          </p:nvSpPr>
          <p:spPr>
            <a:xfrm rot="10800000">
              <a:off x="6617160" y="79506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6580440" y="8129880"/>
            <a:ext cx="269640" cy="131400"/>
            <a:chOff x="6580440" y="8129880"/>
            <a:chExt cx="269640" cy="131400"/>
          </a:xfrm>
        </p:grpSpPr>
        <p:sp>
          <p:nvSpPr>
            <p:cNvPr id="1107" name=""/>
            <p:cNvSpPr/>
            <p:nvPr/>
          </p:nvSpPr>
          <p:spPr>
            <a:xfrm rot="10800000">
              <a:off x="6580440" y="814752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"/>
            <p:cNvSpPr/>
            <p:nvPr/>
          </p:nvSpPr>
          <p:spPr>
            <a:xfrm rot="10800000">
              <a:off x="6617160" y="812988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6580440" y="8310960"/>
            <a:ext cx="269640" cy="131400"/>
            <a:chOff x="6580440" y="8310960"/>
            <a:chExt cx="269640" cy="131400"/>
          </a:xfrm>
        </p:grpSpPr>
        <p:sp>
          <p:nvSpPr>
            <p:cNvPr id="1110" name=""/>
            <p:cNvSpPr/>
            <p:nvPr/>
          </p:nvSpPr>
          <p:spPr>
            <a:xfrm rot="10800000">
              <a:off x="6580440" y="83286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10800000">
              <a:off x="6617160" y="83109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6580440" y="8488800"/>
            <a:ext cx="269640" cy="135720"/>
            <a:chOff x="6580440" y="8488800"/>
            <a:chExt cx="269640" cy="135720"/>
          </a:xfrm>
        </p:grpSpPr>
        <p:sp>
          <p:nvSpPr>
            <p:cNvPr id="1113" name=""/>
            <p:cNvSpPr/>
            <p:nvPr/>
          </p:nvSpPr>
          <p:spPr>
            <a:xfrm rot="10800000">
              <a:off x="6580440" y="85068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10800000">
              <a:off x="6617160" y="848880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6580440" y="8672760"/>
            <a:ext cx="269640" cy="132840"/>
            <a:chOff x="6580440" y="8672760"/>
            <a:chExt cx="269640" cy="132840"/>
          </a:xfrm>
        </p:grpSpPr>
        <p:sp>
          <p:nvSpPr>
            <p:cNvPr id="1116" name=""/>
            <p:cNvSpPr/>
            <p:nvPr/>
          </p:nvSpPr>
          <p:spPr>
            <a:xfrm rot="10800000">
              <a:off x="6580440" y="869004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0800000">
              <a:off x="6617160" y="867276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6580440" y="8853840"/>
            <a:ext cx="269640" cy="132840"/>
            <a:chOff x="6580440" y="8853840"/>
            <a:chExt cx="269640" cy="132840"/>
          </a:xfrm>
        </p:grpSpPr>
        <p:sp>
          <p:nvSpPr>
            <p:cNvPr id="1119" name=""/>
            <p:cNvSpPr/>
            <p:nvPr/>
          </p:nvSpPr>
          <p:spPr>
            <a:xfrm rot="10800000">
              <a:off x="6580440" y="88711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10800000">
              <a:off x="6617160" y="88538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6580440" y="9033120"/>
            <a:ext cx="269640" cy="131400"/>
            <a:chOff x="6580440" y="9033120"/>
            <a:chExt cx="269640" cy="131400"/>
          </a:xfrm>
        </p:grpSpPr>
        <p:sp>
          <p:nvSpPr>
            <p:cNvPr id="1122" name=""/>
            <p:cNvSpPr/>
            <p:nvPr/>
          </p:nvSpPr>
          <p:spPr>
            <a:xfrm rot="10800000">
              <a:off x="6580440" y="905076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0800000">
              <a:off x="6617160" y="903312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6580440" y="9210960"/>
            <a:ext cx="269640" cy="135720"/>
            <a:chOff x="6580440" y="9210960"/>
            <a:chExt cx="269640" cy="135720"/>
          </a:xfrm>
        </p:grpSpPr>
        <p:sp>
          <p:nvSpPr>
            <p:cNvPr id="1125" name=""/>
            <p:cNvSpPr/>
            <p:nvPr/>
          </p:nvSpPr>
          <p:spPr>
            <a:xfrm rot="10800000">
              <a:off x="6580440" y="9228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"/>
            <p:cNvSpPr/>
            <p:nvPr/>
          </p:nvSpPr>
          <p:spPr>
            <a:xfrm rot="10800000">
              <a:off x="6617160" y="9210960"/>
              <a:ext cx="232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6580440" y="9392040"/>
            <a:ext cx="269640" cy="132840"/>
            <a:chOff x="6580440" y="9392040"/>
            <a:chExt cx="269640" cy="132840"/>
          </a:xfrm>
        </p:grpSpPr>
        <p:sp>
          <p:nvSpPr>
            <p:cNvPr id="1128" name=""/>
            <p:cNvSpPr/>
            <p:nvPr/>
          </p:nvSpPr>
          <p:spPr>
            <a:xfrm rot="10800000">
              <a:off x="6580440" y="94093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"/>
            <p:cNvSpPr/>
            <p:nvPr/>
          </p:nvSpPr>
          <p:spPr>
            <a:xfrm rot="10800000">
              <a:off x="6617160" y="939204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6580440" y="9574560"/>
            <a:ext cx="269640" cy="131400"/>
            <a:chOff x="6580440" y="9574560"/>
            <a:chExt cx="269640" cy="131400"/>
          </a:xfrm>
        </p:grpSpPr>
        <p:sp>
          <p:nvSpPr>
            <p:cNvPr id="1131" name=""/>
            <p:cNvSpPr/>
            <p:nvPr/>
          </p:nvSpPr>
          <p:spPr>
            <a:xfrm rot="10800000">
              <a:off x="6580440" y="9592200"/>
              <a:ext cx="71280" cy="70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10800000">
              <a:off x="6617160" y="9574560"/>
              <a:ext cx="232920" cy="1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6580440" y="9752400"/>
            <a:ext cx="269640" cy="132840"/>
            <a:chOff x="6580440" y="9752400"/>
            <a:chExt cx="269640" cy="132840"/>
          </a:xfrm>
        </p:grpSpPr>
        <p:sp>
          <p:nvSpPr>
            <p:cNvPr id="1134" name=""/>
            <p:cNvSpPr/>
            <p:nvPr/>
          </p:nvSpPr>
          <p:spPr>
            <a:xfrm rot="10800000">
              <a:off x="6580440" y="976968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10800000">
              <a:off x="6617160" y="9752400"/>
              <a:ext cx="23292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993"/>
                  </a:moveTo>
                  <a:arcTo wR="10800" hR="10800" stAng="61535" swAng="169339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993"/>
                  </a:moveTo>
                  <a:arcTo wR="10800" hR="10800" stAng="61535" swAng="16933966"/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  <a:effectLst>
              <a:outerShdw dist="12600" dir="54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/…/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73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Optimiser le circuit le circuit de deman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méliorer la f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gram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abse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imensionn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vac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Mettre en place un tableau de bo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Formalis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insta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"/>
          <p:cNvSpPr/>
          <p:nvPr/>
        </p:nvSpPr>
        <p:spPr>
          <a:xfrm>
            <a:off x="6453360" y="20520"/>
            <a:ext cx="0" cy="9864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 rot="5400000">
            <a:off x="-129960" y="2878200"/>
            <a:ext cx="7731000" cy="5279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Anticiper les absences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41" name=""/>
          <p:cNvSpPr/>
          <p:nvPr/>
        </p:nvSpPr>
        <p:spPr>
          <a:xfrm>
            <a:off x="1162080" y="103032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tablir un diagramme de GANTT d’ouverture du bloc afin de garantir un démarrage ponctuel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imensionn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vac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Mettre en place un tableau de bo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Formalis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insta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Optimiser le circuit le circuit de deman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méliorer la f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gram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nticip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es abse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"/>
          <p:cNvSpPr/>
          <p:nvPr/>
        </p:nvSpPr>
        <p:spPr>
          <a:xfrm>
            <a:off x="6453360" y="6578640"/>
            <a:ext cx="0" cy="3306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"/>
          <p:cNvSpPr/>
          <p:nvPr/>
        </p:nvSpPr>
        <p:spPr>
          <a:xfrm>
            <a:off x="6453360" y="20520"/>
            <a:ext cx="0" cy="49341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"/>
          <p:cNvSpPr/>
          <p:nvPr/>
        </p:nvSpPr>
        <p:spPr>
          <a:xfrm>
            <a:off x="620640" y="204300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6h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"/>
          <p:cNvSpPr/>
          <p:nvPr/>
        </p:nvSpPr>
        <p:spPr>
          <a:xfrm flipH="1">
            <a:off x="991800" y="20383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991800" y="23256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"/>
          <p:cNvSpPr/>
          <p:nvPr/>
        </p:nvSpPr>
        <p:spPr>
          <a:xfrm>
            <a:off x="620640" y="290844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6h4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991800" y="29034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"/>
          <p:cNvSpPr/>
          <p:nvPr/>
        </p:nvSpPr>
        <p:spPr>
          <a:xfrm>
            <a:off x="620640" y="377028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7h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991800" y="37656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"/>
          <p:cNvSpPr/>
          <p:nvPr/>
        </p:nvSpPr>
        <p:spPr>
          <a:xfrm>
            <a:off x="620640" y="463392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7h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"/>
          <p:cNvSpPr/>
          <p:nvPr/>
        </p:nvSpPr>
        <p:spPr>
          <a:xfrm flipH="1">
            <a:off x="991800" y="462924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"/>
          <p:cNvSpPr/>
          <p:nvPr/>
        </p:nvSpPr>
        <p:spPr>
          <a:xfrm>
            <a:off x="620640" y="549900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7h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991800" y="54943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"/>
          <p:cNvSpPr/>
          <p:nvPr/>
        </p:nvSpPr>
        <p:spPr>
          <a:xfrm>
            <a:off x="620640" y="636264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7h4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991800" y="635796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"/>
          <p:cNvSpPr/>
          <p:nvPr/>
        </p:nvSpPr>
        <p:spPr>
          <a:xfrm>
            <a:off x="620640" y="722484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8h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991800" y="722160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"/>
          <p:cNvSpPr/>
          <p:nvPr/>
        </p:nvSpPr>
        <p:spPr>
          <a:xfrm>
            <a:off x="620640" y="809136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8h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991800" y="808848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"/>
          <p:cNvSpPr/>
          <p:nvPr/>
        </p:nvSpPr>
        <p:spPr>
          <a:xfrm>
            <a:off x="620640" y="895500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8h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991800" y="8950320"/>
            <a:ext cx="53895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991800" y="26146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991800" y="31878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991800" y="347652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991800" y="405144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991800" y="434016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991800" y="491652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991800" y="520524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991800" y="578016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991800" y="60688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991800" y="66438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991800" y="693252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991800" y="751032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991800" y="77994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991800" y="837252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991800" y="866124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991800" y="92394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"/>
          <p:cNvSpPr/>
          <p:nvPr/>
        </p:nvSpPr>
        <p:spPr>
          <a:xfrm flipH="1">
            <a:off x="991800" y="17542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abse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imensionn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vac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Mettre en place un tableau de bo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Formalis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insta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Améliorer la fiche de programmation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02" name=""/>
          <p:cNvSpPr/>
          <p:nvPr/>
        </p:nvSpPr>
        <p:spPr>
          <a:xfrm>
            <a:off x="1162080" y="103032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tiliser un support unique de programmation pour l’ensemble des spécialit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Optimiser le circuit le circuit de deman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méliorer la f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 program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"/>
          <p:cNvSpPr/>
          <p:nvPr/>
        </p:nvSpPr>
        <p:spPr>
          <a:xfrm>
            <a:off x="6453360" y="20520"/>
            <a:ext cx="0" cy="64994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"/>
          <p:cNvSpPr/>
          <p:nvPr/>
        </p:nvSpPr>
        <p:spPr>
          <a:xfrm>
            <a:off x="6453360" y="8140680"/>
            <a:ext cx="0" cy="17445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"/>
          <p:cNvSpPr/>
          <p:nvPr/>
        </p:nvSpPr>
        <p:spPr>
          <a:xfrm>
            <a:off x="1162080" y="1523880"/>
            <a:ext cx="5111640" cy="78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Eléments présents dans le support actu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Eléments à rajouter dans le nouveau suppo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Eléments relatifs à la prise en charge 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én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x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e de naiss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om de naissance pour les fem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e d’intervention souhaité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ate de vacation concerné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ype de prise en charge (conventionnelle / ambulatoi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uméro de séjo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ocalisation (unité de soi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édecin traita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___________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___________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Eléments relatifs à l’état du patient 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valuation du saign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gré d’urge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onde urinaire / gastr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nticoagula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pital veineu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ps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ergi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core de maladie de Creutzfeld-Jaco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___________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___________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Eléments relatifs à l’intervention 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dentification du praticien opérate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tif / nature de l’interven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té opéré le cas échéa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adio préopératoire si nécessai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urée prévisionnelle de l’intervention (entrée du patient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fin de remise en état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atériel particulier nécessaire (amplificateur de brillance, vidéochirurgie, etc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thèse le cas échéant (sur stock / à commander)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ncillaire le cas échéant (à réserve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ersonnel complémentaire (état du patient, lourdeur de l’intervention, etc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ventuellement technique d’anesthésie souhaité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___________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___________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Eléments relatifs à l’anesthésie 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dentification de l’anesthésis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echnique d’anesthésie ret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aille du pati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ids du pati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atériel spécifique d’anesthési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tubation difficile (oui / non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éa post opératoi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___________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35712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___________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1521000" y="1749600"/>
            <a:ext cx="0" cy="766728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méliorer la f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gram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abse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Optimiser le circuit de demande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17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tablir le programme opératoire selon un circuit de validation défin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imensionn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vac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Mettre en place un tableau de bo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Formalis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insta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"/>
          <p:cNvSpPr/>
          <p:nvPr/>
        </p:nvSpPr>
        <p:spPr>
          <a:xfrm>
            <a:off x="6453360" y="9669600"/>
            <a:ext cx="0" cy="2156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ptimiser le circuit le circuit de deman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"/>
          <p:cNvSpPr/>
          <p:nvPr/>
        </p:nvSpPr>
        <p:spPr>
          <a:xfrm>
            <a:off x="6453360" y="20520"/>
            <a:ext cx="0" cy="80265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"/>
          <p:cNvSpPr/>
          <p:nvPr/>
        </p:nvSpPr>
        <p:spPr>
          <a:xfrm>
            <a:off x="3765600" y="1639800"/>
            <a:ext cx="565200" cy="468360"/>
          </a:xfrm>
          <a:prstGeom prst="roundRect">
            <a:avLst>
              <a:gd name="adj" fmla="val 414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ellule de superv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"/>
          <p:cNvSpPr/>
          <p:nvPr/>
        </p:nvSpPr>
        <p:spPr>
          <a:xfrm>
            <a:off x="404640" y="2179800"/>
            <a:ext cx="588204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"/>
          <p:cNvSpPr/>
          <p:nvPr/>
        </p:nvSpPr>
        <p:spPr>
          <a:xfrm>
            <a:off x="3122640" y="1639800"/>
            <a:ext cx="566640" cy="468360"/>
          </a:xfrm>
          <a:prstGeom prst="roundRect">
            <a:avLst>
              <a:gd name="adj" fmla="val 414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ecrétariat blo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"/>
          <p:cNvSpPr/>
          <p:nvPr/>
        </p:nvSpPr>
        <p:spPr>
          <a:xfrm>
            <a:off x="2481120" y="1639800"/>
            <a:ext cx="565200" cy="468360"/>
          </a:xfrm>
          <a:prstGeom prst="roundRect">
            <a:avLst>
              <a:gd name="adj" fmla="val 4142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ecrétariat spécialité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"/>
          <p:cNvSpPr/>
          <p:nvPr/>
        </p:nvSpPr>
        <p:spPr>
          <a:xfrm>
            <a:off x="1197000" y="1639800"/>
            <a:ext cx="617400" cy="468360"/>
          </a:xfrm>
          <a:prstGeom prst="parallelogram">
            <a:avLst>
              <a:gd name="adj" fmla="val 163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irur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"/>
          <p:cNvSpPr/>
          <p:nvPr/>
        </p:nvSpPr>
        <p:spPr>
          <a:xfrm flipV="1">
            <a:off x="1814400" y="1892160"/>
            <a:ext cx="0" cy="738216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"/>
          <p:cNvSpPr/>
          <p:nvPr/>
        </p:nvSpPr>
        <p:spPr>
          <a:xfrm flipV="1">
            <a:off x="2457360" y="1892160"/>
            <a:ext cx="0" cy="738216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3098880" y="1892160"/>
            <a:ext cx="0" cy="738216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3741840" y="1892160"/>
            <a:ext cx="0" cy="738216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4383000" y="1892160"/>
            <a:ext cx="0" cy="738216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"/>
          <p:cNvSpPr/>
          <p:nvPr/>
        </p:nvSpPr>
        <p:spPr>
          <a:xfrm flipV="1">
            <a:off x="5024520" y="1892160"/>
            <a:ext cx="0" cy="738216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5667480" y="1892160"/>
            <a:ext cx="0" cy="738216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"/>
          <p:cNvSpPr/>
          <p:nvPr/>
        </p:nvSpPr>
        <p:spPr>
          <a:xfrm>
            <a:off x="1839960" y="1639800"/>
            <a:ext cx="617400" cy="468360"/>
          </a:xfrm>
          <a:prstGeom prst="parallelogram">
            <a:avLst>
              <a:gd name="adj" fmla="val 163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nesth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"/>
          <p:cNvSpPr/>
          <p:nvPr/>
        </p:nvSpPr>
        <p:spPr>
          <a:xfrm>
            <a:off x="4406760" y="1639800"/>
            <a:ext cx="617760" cy="468360"/>
          </a:xfrm>
          <a:prstGeom prst="parallelogram">
            <a:avLst>
              <a:gd name="adj" fmla="val 1631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hef d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lo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"/>
          <p:cNvSpPr/>
          <p:nvPr/>
        </p:nvSpPr>
        <p:spPr>
          <a:xfrm>
            <a:off x="5049720" y="1639800"/>
            <a:ext cx="617760" cy="468360"/>
          </a:xfrm>
          <a:prstGeom prst="parallelogram">
            <a:avLst>
              <a:gd name="adj" fmla="val 1631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adre d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lo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"/>
          <p:cNvSpPr/>
          <p:nvPr/>
        </p:nvSpPr>
        <p:spPr>
          <a:xfrm>
            <a:off x="5692680" y="1639800"/>
            <a:ext cx="617760" cy="468360"/>
          </a:xfrm>
          <a:prstGeom prst="parallelogram">
            <a:avLst>
              <a:gd name="adj" fmla="val 1631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ersonn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nfirmie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Formaliser les instances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87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rtographier les acteurs impactant ou influençant le déroulement du proj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Optimiser le circuit le circuit de deman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méliorer la f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gram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abse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imensionn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vac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Mettre en place un tableau de bo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rmalis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es insta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"/>
          <p:cNvSpPr/>
          <p:nvPr/>
        </p:nvSpPr>
        <p:spPr>
          <a:xfrm>
            <a:off x="6453360" y="1892160"/>
            <a:ext cx="0" cy="79930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"/>
          <p:cNvSpPr/>
          <p:nvPr/>
        </p:nvSpPr>
        <p:spPr>
          <a:xfrm>
            <a:off x="6453360" y="20520"/>
            <a:ext cx="0" cy="25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3" name=""/>
          <p:cNvGraphicFramePr/>
          <p:nvPr/>
        </p:nvGraphicFramePr>
        <p:xfrm>
          <a:off x="333360" y="1676520"/>
          <a:ext cx="6012000" cy="7943760"/>
        </p:xfrm>
        <a:graphic>
          <a:graphicData uri="http://schemas.openxmlformats.org/drawingml/2006/table">
            <a:tbl>
              <a:tblPr/>
              <a:tblGrid>
                <a:gridCol w="755640"/>
                <a:gridCol w="214200"/>
                <a:gridCol w="144720"/>
                <a:gridCol w="144360"/>
                <a:gridCol w="141120"/>
                <a:gridCol w="144720"/>
                <a:gridCol w="144360"/>
                <a:gridCol w="142920"/>
                <a:gridCol w="144360"/>
                <a:gridCol w="141480"/>
                <a:gridCol w="144360"/>
                <a:gridCol w="144360"/>
                <a:gridCol w="142920"/>
                <a:gridCol w="144360"/>
                <a:gridCol w="144720"/>
                <a:gridCol w="141120"/>
                <a:gridCol w="3032280"/>
              </a:tblGrid>
              <a:tr h="378000">
                <a:tc row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row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l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ption du pro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itude vis-à-vis du pro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nt faire évoluer cet acteur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70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pos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hé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sif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4" name=""/>
          <p:cNvSpPr/>
          <p:nvPr/>
        </p:nvSpPr>
        <p:spPr>
          <a:xfrm>
            <a:off x="4489560" y="2268360"/>
            <a:ext cx="631800" cy="632160"/>
          </a:xfrm>
          <a:custGeom>
            <a:avLst/>
            <a:gdLst>
              <a:gd name="textAreaLeft" fmla="*/ 0 w 631800"/>
              <a:gd name="textAreaRight" fmla="*/ 632160 w 631800"/>
              <a:gd name="textAreaTop" fmla="*/ 0 h 632160"/>
              <a:gd name="textAreaBottom" fmla="*/ 632520 h 632160"/>
            </a:gdLst>
            <a:ahLst/>
            <a:rect l="textAreaLeft" t="textAreaTop" r="textAreaRight" b="textAreaBottom"/>
            <a:pathLst>
              <a:path w="21600" h="21600">
                <a:moveTo>
                  <a:pt x="9101" y="15072"/>
                </a:moveTo>
                <a:arcTo wR="-4597" hR="-4597" stAng="6701280" swAng="-14811764"/>
                <a:lnTo>
                  <a:pt x="18460" y="18413"/>
                </a:lnTo>
                <a:arcTo wR="10800" hR="10800" stAng="2689516" swAng="14811764"/>
                <a:lnTo>
                  <a:pt x="15789" y="-1744"/>
                </a:lnTo>
                <a:lnTo>
                  <a:pt x="19036" y="5790"/>
                </a:lnTo>
                <a:lnTo>
                  <a:pt x="11501" y="903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3537000" y="3484440"/>
            <a:ext cx="2124000" cy="215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"/>
          <p:cNvSpPr/>
          <p:nvPr/>
        </p:nvSpPr>
        <p:spPr>
          <a:xfrm>
            <a:off x="3537000" y="5637240"/>
            <a:ext cx="2124000" cy="21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"/>
          <p:cNvSpPr/>
          <p:nvPr/>
        </p:nvSpPr>
        <p:spPr>
          <a:xfrm>
            <a:off x="1335240" y="3484440"/>
            <a:ext cx="2195280" cy="2152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"/>
          <p:cNvSpPr/>
          <p:nvPr/>
        </p:nvSpPr>
        <p:spPr>
          <a:xfrm>
            <a:off x="1335240" y="5637240"/>
            <a:ext cx="2187360" cy="21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"/>
          <p:cNvSpPr/>
          <p:nvPr/>
        </p:nvSpPr>
        <p:spPr>
          <a:xfrm>
            <a:off x="1808280" y="3908520"/>
            <a:ext cx="3456000" cy="345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3456000"/>
              <a:gd name="textAreaBottom" fmla="*/ 3456360 h 3456000"/>
            </a:gdLst>
            <a:ahLst/>
            <a:rect l="textAreaLeft" t="textAreaTop" r="textAreaRight" b="textAreaBottom"/>
            <a:pathLst>
              <a:path w="21600" h="21600">
                <a:moveTo>
                  <a:pt x="9101" y="15072"/>
                </a:moveTo>
                <a:arcTo wR="-4597" hR="-4597" stAng="6701280" swAng="-14811764"/>
                <a:lnTo>
                  <a:pt x="18460" y="18413"/>
                </a:lnTo>
                <a:arcTo wR="10800" hR="10800" stAng="2689516" swAng="14811764"/>
                <a:lnTo>
                  <a:pt x="15789" y="-1744"/>
                </a:lnTo>
                <a:lnTo>
                  <a:pt x="19036" y="5790"/>
                </a:lnTo>
                <a:lnTo>
                  <a:pt x="11501" y="90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Formaliser les instances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11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rtographier les acteurs impactant ou influençant le déroulement du proj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Optimiser le circuit le circuit de deman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méliorer la f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gram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abse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imensionn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vac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Mettre en place un tableau de bo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rmalis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es insta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"/>
          <p:cNvSpPr/>
          <p:nvPr/>
        </p:nvSpPr>
        <p:spPr>
          <a:xfrm>
            <a:off x="6453360" y="1892160"/>
            <a:ext cx="0" cy="79930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"/>
          <p:cNvSpPr/>
          <p:nvPr/>
        </p:nvSpPr>
        <p:spPr>
          <a:xfrm>
            <a:off x="6453360" y="20520"/>
            <a:ext cx="0" cy="25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529080" y="2863440"/>
            <a:ext cx="7920" cy="5256360"/>
          </a:xfrm>
          <a:prstGeom prst="line">
            <a:avLst/>
          </a:prstGeom>
          <a:ln w="1908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"/>
          <p:cNvSpPr/>
          <p:nvPr/>
        </p:nvSpPr>
        <p:spPr>
          <a:xfrm>
            <a:off x="1160640" y="5637240"/>
            <a:ext cx="5111640" cy="0"/>
          </a:xfrm>
          <a:prstGeom prst="line">
            <a:avLst/>
          </a:prstGeom>
          <a:ln w="1908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"/>
          <p:cNvSpPr/>
          <p:nvPr/>
        </p:nvSpPr>
        <p:spPr>
          <a:xfrm flipH="1" flipV="1">
            <a:off x="3105000" y="3403080"/>
            <a:ext cx="504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"/>
          <p:cNvSpPr/>
          <p:nvPr/>
        </p:nvSpPr>
        <p:spPr>
          <a:xfrm flipH="1" flipV="1">
            <a:off x="227628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1442880" y="3403080"/>
            <a:ext cx="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393192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"/>
          <p:cNvSpPr/>
          <p:nvPr/>
        </p:nvSpPr>
        <p:spPr>
          <a:xfrm flipH="1" flipV="1">
            <a:off x="475596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558288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1334880" y="520524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1334880" y="437688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1334880" y="354816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1334880" y="603252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1334880" y="686124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1334880" y="768816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"/>
          <p:cNvSpPr/>
          <p:nvPr/>
        </p:nvSpPr>
        <p:spPr>
          <a:xfrm>
            <a:off x="5624640" y="5637240"/>
            <a:ext cx="82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titude vis-à-vis du proj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"/>
          <p:cNvSpPr/>
          <p:nvPr/>
        </p:nvSpPr>
        <p:spPr>
          <a:xfrm>
            <a:off x="3537000" y="2828880"/>
            <a:ext cx="100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erception du proj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"/>
          <p:cNvSpPr/>
          <p:nvPr/>
        </p:nvSpPr>
        <p:spPr>
          <a:xfrm>
            <a:off x="3500280" y="76248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"/>
          <p:cNvSpPr/>
          <p:nvPr/>
        </p:nvSpPr>
        <p:spPr>
          <a:xfrm>
            <a:off x="3500280" y="682452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"/>
          <p:cNvSpPr/>
          <p:nvPr/>
        </p:nvSpPr>
        <p:spPr>
          <a:xfrm>
            <a:off x="3500280" y="59961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"/>
          <p:cNvSpPr/>
          <p:nvPr/>
        </p:nvSpPr>
        <p:spPr>
          <a:xfrm>
            <a:off x="3500280" y="51768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"/>
          <p:cNvSpPr/>
          <p:nvPr/>
        </p:nvSpPr>
        <p:spPr>
          <a:xfrm>
            <a:off x="3500280" y="43480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"/>
          <p:cNvSpPr/>
          <p:nvPr/>
        </p:nvSpPr>
        <p:spPr>
          <a:xfrm>
            <a:off x="3500280" y="34844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"/>
          <p:cNvSpPr/>
          <p:nvPr/>
        </p:nvSpPr>
        <p:spPr>
          <a:xfrm>
            <a:off x="119700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"/>
          <p:cNvSpPr/>
          <p:nvPr/>
        </p:nvSpPr>
        <p:spPr>
          <a:xfrm>
            <a:off x="206064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"/>
          <p:cNvSpPr/>
          <p:nvPr/>
        </p:nvSpPr>
        <p:spPr>
          <a:xfrm>
            <a:off x="288756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"/>
          <p:cNvSpPr/>
          <p:nvPr/>
        </p:nvSpPr>
        <p:spPr>
          <a:xfrm>
            <a:off x="371628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"/>
          <p:cNvSpPr/>
          <p:nvPr/>
        </p:nvSpPr>
        <p:spPr>
          <a:xfrm>
            <a:off x="454356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"/>
          <p:cNvSpPr/>
          <p:nvPr/>
        </p:nvSpPr>
        <p:spPr>
          <a:xfrm>
            <a:off x="537228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"/>
          <p:cNvSpPr/>
          <p:nvPr/>
        </p:nvSpPr>
        <p:spPr>
          <a:xfrm>
            <a:off x="1160640" y="304308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Hésitants, attentist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"/>
          <p:cNvSpPr/>
          <p:nvPr/>
        </p:nvSpPr>
        <p:spPr>
          <a:xfrm>
            <a:off x="4975200" y="304308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Engagés, pionni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"/>
          <p:cNvSpPr/>
          <p:nvPr/>
        </p:nvSpPr>
        <p:spPr>
          <a:xfrm>
            <a:off x="1160640" y="77961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Sceptiqu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"/>
          <p:cNvSpPr/>
          <p:nvPr/>
        </p:nvSpPr>
        <p:spPr>
          <a:xfrm>
            <a:off x="4975200" y="779616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Opposants, hosti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"/>
          <p:cNvSpPr/>
          <p:nvPr/>
        </p:nvSpPr>
        <p:spPr>
          <a:xfrm>
            <a:off x="1287360" y="24163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fl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"/>
          <p:cNvSpPr/>
          <p:nvPr/>
        </p:nvSpPr>
        <p:spPr>
          <a:xfrm>
            <a:off x="2293920" y="2378160"/>
            <a:ext cx="111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r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aib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"/>
          <p:cNvSpPr/>
          <p:nvPr/>
        </p:nvSpPr>
        <p:spPr>
          <a:xfrm>
            <a:off x="2116080" y="255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"/>
          <p:cNvSpPr/>
          <p:nvPr/>
        </p:nvSpPr>
        <p:spPr>
          <a:xfrm>
            <a:off x="2116080" y="23796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Formaliser les instances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64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struire un plan de communication pertinent et adaptés aux différents public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Optimiser le circuit le circuit de deman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méliorer la f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gram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abse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imensionn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vac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Mettre en place un tableau de bo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rmalis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es insta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"/>
          <p:cNvSpPr/>
          <p:nvPr/>
        </p:nvSpPr>
        <p:spPr>
          <a:xfrm>
            <a:off x="6453360" y="1892160"/>
            <a:ext cx="0" cy="79930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"/>
          <p:cNvSpPr/>
          <p:nvPr/>
        </p:nvSpPr>
        <p:spPr>
          <a:xfrm>
            <a:off x="6453360" y="20520"/>
            <a:ext cx="0" cy="25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0" name=""/>
          <p:cNvGraphicFramePr/>
          <p:nvPr/>
        </p:nvGraphicFramePr>
        <p:xfrm>
          <a:off x="404640" y="1676520"/>
          <a:ext cx="5905800" cy="7645320"/>
        </p:xfrm>
        <a:graphic>
          <a:graphicData uri="http://schemas.openxmlformats.org/drawingml/2006/table">
            <a:tbl>
              <a:tblPr/>
              <a:tblGrid>
                <a:gridCol w="689040"/>
                <a:gridCol w="520920"/>
                <a:gridCol w="523800"/>
                <a:gridCol w="523800"/>
                <a:gridCol w="519120"/>
                <a:gridCol w="522360"/>
                <a:gridCol w="522360"/>
                <a:gridCol w="519120"/>
                <a:gridCol w="517320"/>
                <a:gridCol w="509760"/>
                <a:gridCol w="538200"/>
              </a:tblGrid>
              <a:tr h="192024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abliss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es soignantes du bl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es médic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ission des utilisateurs de bl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eil de bl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16720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l type de communication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nformation / suivi / arbitrage / décis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rquoi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05452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l objectif / message à faire passer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oi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5764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 est le responsable de la communication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1196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quel lieu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quelle occasion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ù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7928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quelle date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quelle fréquence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d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32440"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l forme ou vecteur utilisé ? (réunion, dossier, affiches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nt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281" name="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Mettre en place un tableau de bord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83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rtographier les actions du proj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Formalis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insta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"/>
          <p:cNvSpPr/>
          <p:nvPr/>
        </p:nvSpPr>
        <p:spPr>
          <a:xfrm>
            <a:off x="6453360" y="20520"/>
            <a:ext cx="0" cy="18147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Optimiser le circuit le circuit de deman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méliorer la f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gram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abse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imensionn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vac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tre en place un tableau de bo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"/>
          <p:cNvSpPr/>
          <p:nvPr/>
        </p:nvSpPr>
        <p:spPr>
          <a:xfrm>
            <a:off x="6453360" y="3456000"/>
            <a:ext cx="0" cy="6429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9" name=""/>
          <p:cNvGraphicFramePr/>
          <p:nvPr/>
        </p:nvGraphicFramePr>
        <p:xfrm>
          <a:off x="873000" y="1676520"/>
          <a:ext cx="5472360" cy="7943760"/>
        </p:xfrm>
        <a:graphic>
          <a:graphicData uri="http://schemas.openxmlformats.org/drawingml/2006/table">
            <a:tbl>
              <a:tblPr/>
              <a:tblGrid>
                <a:gridCol w="216000"/>
                <a:gridCol w="3246480"/>
                <a:gridCol w="144360"/>
                <a:gridCol w="144720"/>
                <a:gridCol w="141120"/>
                <a:gridCol w="144360"/>
                <a:gridCol w="144720"/>
                <a:gridCol w="142560"/>
                <a:gridCol w="144720"/>
                <a:gridCol w="141120"/>
                <a:gridCol w="144360"/>
                <a:gridCol w="144720"/>
                <a:gridCol w="142920"/>
                <a:gridCol w="144360"/>
                <a:gridCol w="144360"/>
                <a:gridCol w="141480"/>
              </a:tblGrid>
              <a:tr h="415800">
                <a:tc row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row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l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acité de l’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sabilité de l’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ert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éré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lic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 anchorCtr="1" vert="eaVer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 anchorCtr="1" vert="eaVer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1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90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0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194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 w="2880">
                      <a:solidFill>
                        <a:srgbClr val="dddddd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288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3537000" y="3484440"/>
            <a:ext cx="2124000" cy="215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"/>
          <p:cNvSpPr/>
          <p:nvPr/>
        </p:nvSpPr>
        <p:spPr>
          <a:xfrm>
            <a:off x="3537000" y="5637240"/>
            <a:ext cx="2124000" cy="212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"/>
          <p:cNvSpPr/>
          <p:nvPr/>
        </p:nvSpPr>
        <p:spPr>
          <a:xfrm>
            <a:off x="1335240" y="3484440"/>
            <a:ext cx="2195280" cy="2152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"/>
          <p:cNvSpPr/>
          <p:nvPr/>
        </p:nvSpPr>
        <p:spPr>
          <a:xfrm>
            <a:off x="1335240" y="5637240"/>
            <a:ext cx="2187360" cy="21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Mettre en place un tableau de bord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05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artographier les actions du proj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3529080" y="2863440"/>
            <a:ext cx="7920" cy="5256360"/>
          </a:xfrm>
          <a:prstGeom prst="line">
            <a:avLst/>
          </a:prstGeom>
          <a:ln w="1908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"/>
          <p:cNvSpPr/>
          <p:nvPr/>
        </p:nvSpPr>
        <p:spPr>
          <a:xfrm>
            <a:off x="1160640" y="5637240"/>
            <a:ext cx="5111640" cy="0"/>
          </a:xfrm>
          <a:prstGeom prst="line">
            <a:avLst/>
          </a:prstGeom>
          <a:ln w="1908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"/>
          <p:cNvSpPr/>
          <p:nvPr/>
        </p:nvSpPr>
        <p:spPr>
          <a:xfrm flipH="1" flipV="1">
            <a:off x="3105000" y="3403080"/>
            <a:ext cx="504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"/>
          <p:cNvSpPr/>
          <p:nvPr/>
        </p:nvSpPr>
        <p:spPr>
          <a:xfrm flipH="1" flipV="1">
            <a:off x="227628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1442880" y="3403080"/>
            <a:ext cx="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"/>
          <p:cNvSpPr/>
          <p:nvPr/>
        </p:nvSpPr>
        <p:spPr>
          <a:xfrm flipH="1" flipV="1">
            <a:off x="393192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"/>
          <p:cNvSpPr/>
          <p:nvPr/>
        </p:nvSpPr>
        <p:spPr>
          <a:xfrm flipH="1" flipV="1">
            <a:off x="475596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"/>
          <p:cNvSpPr/>
          <p:nvPr/>
        </p:nvSpPr>
        <p:spPr>
          <a:xfrm flipH="1" flipV="1">
            <a:off x="5582880" y="3403080"/>
            <a:ext cx="4680" cy="446580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1334880" y="520524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1334880" y="437688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334880" y="354816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"/>
          <p:cNvSpPr/>
          <p:nvPr/>
        </p:nvSpPr>
        <p:spPr>
          <a:xfrm flipH="1">
            <a:off x="1334880" y="603252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1334880" y="686124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334880" y="7688160"/>
            <a:ext cx="4397400" cy="0"/>
          </a:xfrm>
          <a:prstGeom prst="line">
            <a:avLst/>
          </a:prstGeom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"/>
          <p:cNvSpPr/>
          <p:nvPr/>
        </p:nvSpPr>
        <p:spPr>
          <a:xfrm>
            <a:off x="5624640" y="5637240"/>
            <a:ext cx="86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aisabilité de l’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"/>
          <p:cNvSpPr/>
          <p:nvPr/>
        </p:nvSpPr>
        <p:spPr>
          <a:xfrm>
            <a:off x="3537000" y="2828880"/>
            <a:ext cx="100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ficacité de l’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"/>
          <p:cNvSpPr/>
          <p:nvPr/>
        </p:nvSpPr>
        <p:spPr>
          <a:xfrm>
            <a:off x="3500280" y="76248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"/>
          <p:cNvSpPr/>
          <p:nvPr/>
        </p:nvSpPr>
        <p:spPr>
          <a:xfrm>
            <a:off x="3500280" y="682452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"/>
          <p:cNvSpPr/>
          <p:nvPr/>
        </p:nvSpPr>
        <p:spPr>
          <a:xfrm>
            <a:off x="3500280" y="59961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"/>
          <p:cNvSpPr/>
          <p:nvPr/>
        </p:nvSpPr>
        <p:spPr>
          <a:xfrm>
            <a:off x="3500280" y="51768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"/>
          <p:cNvSpPr/>
          <p:nvPr/>
        </p:nvSpPr>
        <p:spPr>
          <a:xfrm>
            <a:off x="3500280" y="43480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"/>
          <p:cNvSpPr/>
          <p:nvPr/>
        </p:nvSpPr>
        <p:spPr>
          <a:xfrm>
            <a:off x="3500280" y="34844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"/>
          <p:cNvSpPr/>
          <p:nvPr/>
        </p:nvSpPr>
        <p:spPr>
          <a:xfrm>
            <a:off x="119700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"/>
          <p:cNvSpPr/>
          <p:nvPr/>
        </p:nvSpPr>
        <p:spPr>
          <a:xfrm>
            <a:off x="206064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"/>
          <p:cNvSpPr/>
          <p:nvPr/>
        </p:nvSpPr>
        <p:spPr>
          <a:xfrm>
            <a:off x="288756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"/>
          <p:cNvSpPr/>
          <p:nvPr/>
        </p:nvSpPr>
        <p:spPr>
          <a:xfrm>
            <a:off x="3716280" y="560088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"/>
          <p:cNvSpPr/>
          <p:nvPr/>
        </p:nvSpPr>
        <p:spPr>
          <a:xfrm>
            <a:off x="454356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"/>
          <p:cNvSpPr/>
          <p:nvPr/>
        </p:nvSpPr>
        <p:spPr>
          <a:xfrm>
            <a:off x="5372280" y="560088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"/>
          <p:cNvSpPr/>
          <p:nvPr/>
        </p:nvSpPr>
        <p:spPr>
          <a:xfrm>
            <a:off x="1160640" y="304308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A étudier, simplifi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"/>
          <p:cNvSpPr/>
          <p:nvPr/>
        </p:nvSpPr>
        <p:spPr>
          <a:xfrm>
            <a:off x="4975200" y="304308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A faire en priorit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"/>
          <p:cNvSpPr/>
          <p:nvPr/>
        </p:nvSpPr>
        <p:spPr>
          <a:xfrm>
            <a:off x="1160640" y="7796160"/>
            <a:ext cx="99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A reformul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"/>
          <p:cNvSpPr/>
          <p:nvPr/>
        </p:nvSpPr>
        <p:spPr>
          <a:xfrm>
            <a:off x="4832280" y="779616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A tester à petite échel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"/>
          <p:cNvSpPr/>
          <p:nvPr/>
        </p:nvSpPr>
        <p:spPr>
          <a:xfrm>
            <a:off x="1287360" y="24163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él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"/>
          <p:cNvSpPr/>
          <p:nvPr/>
        </p:nvSpPr>
        <p:spPr>
          <a:xfrm>
            <a:off x="2293920" y="2378160"/>
            <a:ext cx="111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api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"/>
          <p:cNvSpPr/>
          <p:nvPr/>
        </p:nvSpPr>
        <p:spPr>
          <a:xfrm>
            <a:off x="2116080" y="255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"/>
          <p:cNvSpPr/>
          <p:nvPr/>
        </p:nvSpPr>
        <p:spPr>
          <a:xfrm>
            <a:off x="2116080" y="23796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Formalis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insta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"/>
          <p:cNvSpPr/>
          <p:nvPr/>
        </p:nvSpPr>
        <p:spPr>
          <a:xfrm>
            <a:off x="6453360" y="20520"/>
            <a:ext cx="0" cy="18147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Optimiser le circuit le circuit de deman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méliorer la f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gram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abse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imensionn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vac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ettre en place un tableau de bo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"/>
          <p:cNvSpPr/>
          <p:nvPr/>
        </p:nvSpPr>
        <p:spPr>
          <a:xfrm>
            <a:off x="6453360" y="3456000"/>
            <a:ext cx="0" cy="6429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Mettre en place un tableau de bo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Formalis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insta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Dimensionner les vacations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62" name=""/>
          <p:cNvSpPr/>
          <p:nvPr/>
        </p:nvSpPr>
        <p:spPr>
          <a:xfrm>
            <a:off x="1162080" y="103032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éfinir une nouvelle maquette de vac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Optimiser le circuit le circuit de deman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méliorer la f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gram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abse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imensionn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es vac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"/>
          <p:cNvSpPr/>
          <p:nvPr/>
        </p:nvSpPr>
        <p:spPr>
          <a:xfrm>
            <a:off x="6453360" y="5016600"/>
            <a:ext cx="0" cy="48686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"/>
          <p:cNvSpPr/>
          <p:nvPr/>
        </p:nvSpPr>
        <p:spPr>
          <a:xfrm>
            <a:off x="6453360" y="20520"/>
            <a:ext cx="0" cy="3375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"/>
          <p:cNvSpPr/>
          <p:nvPr/>
        </p:nvSpPr>
        <p:spPr>
          <a:xfrm rot="5400000">
            <a:off x="-200520" y="2948760"/>
            <a:ext cx="7872120" cy="5279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"/>
          <p:cNvSpPr/>
          <p:nvPr/>
        </p:nvSpPr>
        <p:spPr>
          <a:xfrm>
            <a:off x="620640" y="193356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"/>
          <p:cNvSpPr/>
          <p:nvPr/>
        </p:nvSpPr>
        <p:spPr>
          <a:xfrm flipH="1">
            <a:off x="991800" y="21448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991800" y="23940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985320" y="264636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985320" y="289872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"/>
          <p:cNvSpPr/>
          <p:nvPr/>
        </p:nvSpPr>
        <p:spPr>
          <a:xfrm>
            <a:off x="620640" y="218592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"/>
          <p:cNvSpPr/>
          <p:nvPr/>
        </p:nvSpPr>
        <p:spPr>
          <a:xfrm>
            <a:off x="620640" y="243684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"/>
          <p:cNvSpPr/>
          <p:nvPr/>
        </p:nvSpPr>
        <p:spPr>
          <a:xfrm>
            <a:off x="620640" y="268776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"/>
          <p:cNvSpPr/>
          <p:nvPr/>
        </p:nvSpPr>
        <p:spPr>
          <a:xfrm>
            <a:off x="620640" y="294012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"/>
          <p:cNvSpPr/>
          <p:nvPr/>
        </p:nvSpPr>
        <p:spPr>
          <a:xfrm>
            <a:off x="333360" y="2127600"/>
            <a:ext cx="2872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"/>
          <p:cNvSpPr/>
          <p:nvPr/>
        </p:nvSpPr>
        <p:spPr>
          <a:xfrm>
            <a:off x="620640" y="319248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"/>
          <p:cNvSpPr/>
          <p:nvPr/>
        </p:nvSpPr>
        <p:spPr>
          <a:xfrm flipH="1">
            <a:off x="991800" y="340344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991800" y="365436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985320" y="390672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"/>
          <p:cNvSpPr/>
          <p:nvPr/>
        </p:nvSpPr>
        <p:spPr>
          <a:xfrm flipH="1">
            <a:off x="985320" y="41590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"/>
          <p:cNvSpPr/>
          <p:nvPr/>
        </p:nvSpPr>
        <p:spPr>
          <a:xfrm>
            <a:off x="620640" y="344484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"/>
          <p:cNvSpPr/>
          <p:nvPr/>
        </p:nvSpPr>
        <p:spPr>
          <a:xfrm>
            <a:off x="620640" y="369576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"/>
          <p:cNvSpPr/>
          <p:nvPr/>
        </p:nvSpPr>
        <p:spPr>
          <a:xfrm>
            <a:off x="620640" y="394812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"/>
          <p:cNvSpPr/>
          <p:nvPr/>
        </p:nvSpPr>
        <p:spPr>
          <a:xfrm>
            <a:off x="620640" y="420048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"/>
          <p:cNvSpPr/>
          <p:nvPr/>
        </p:nvSpPr>
        <p:spPr>
          <a:xfrm>
            <a:off x="333360" y="3389760"/>
            <a:ext cx="2872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"/>
          <p:cNvSpPr/>
          <p:nvPr/>
        </p:nvSpPr>
        <p:spPr>
          <a:xfrm>
            <a:off x="620640" y="445140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991800" y="466236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"/>
          <p:cNvSpPr/>
          <p:nvPr/>
        </p:nvSpPr>
        <p:spPr>
          <a:xfrm flipH="1">
            <a:off x="991800" y="49132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985320" y="516564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985320" y="54180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"/>
          <p:cNvSpPr/>
          <p:nvPr/>
        </p:nvSpPr>
        <p:spPr>
          <a:xfrm>
            <a:off x="620640" y="470376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"/>
          <p:cNvSpPr/>
          <p:nvPr/>
        </p:nvSpPr>
        <p:spPr>
          <a:xfrm>
            <a:off x="620640" y="495468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"/>
          <p:cNvSpPr/>
          <p:nvPr/>
        </p:nvSpPr>
        <p:spPr>
          <a:xfrm>
            <a:off x="620640" y="520704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"/>
          <p:cNvSpPr/>
          <p:nvPr/>
        </p:nvSpPr>
        <p:spPr>
          <a:xfrm>
            <a:off x="620640" y="545940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"/>
          <p:cNvSpPr/>
          <p:nvPr/>
        </p:nvSpPr>
        <p:spPr>
          <a:xfrm>
            <a:off x="333360" y="4419360"/>
            <a:ext cx="2872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"/>
          <p:cNvSpPr/>
          <p:nvPr/>
        </p:nvSpPr>
        <p:spPr>
          <a:xfrm>
            <a:off x="620640" y="571176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991800" y="59230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991800" y="61722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985320" y="642456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985320" y="668016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"/>
          <p:cNvSpPr/>
          <p:nvPr/>
        </p:nvSpPr>
        <p:spPr>
          <a:xfrm>
            <a:off x="620640" y="596412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"/>
          <p:cNvSpPr/>
          <p:nvPr/>
        </p:nvSpPr>
        <p:spPr>
          <a:xfrm>
            <a:off x="620640" y="621648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"/>
          <p:cNvSpPr/>
          <p:nvPr/>
        </p:nvSpPr>
        <p:spPr>
          <a:xfrm>
            <a:off x="620640" y="646596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"/>
          <p:cNvSpPr/>
          <p:nvPr/>
        </p:nvSpPr>
        <p:spPr>
          <a:xfrm>
            <a:off x="620640" y="672156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"/>
          <p:cNvSpPr/>
          <p:nvPr/>
        </p:nvSpPr>
        <p:spPr>
          <a:xfrm>
            <a:off x="333360" y="5909040"/>
            <a:ext cx="2872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"/>
          <p:cNvSpPr/>
          <p:nvPr/>
        </p:nvSpPr>
        <p:spPr>
          <a:xfrm>
            <a:off x="620640" y="697068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991800" y="718200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991800" y="743112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985320" y="76834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985320" y="79390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"/>
          <p:cNvSpPr/>
          <p:nvPr/>
        </p:nvSpPr>
        <p:spPr>
          <a:xfrm>
            <a:off x="620640" y="722304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"/>
          <p:cNvSpPr/>
          <p:nvPr/>
        </p:nvSpPr>
        <p:spPr>
          <a:xfrm>
            <a:off x="620640" y="747540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"/>
          <p:cNvSpPr/>
          <p:nvPr/>
        </p:nvSpPr>
        <p:spPr>
          <a:xfrm>
            <a:off x="620640" y="772488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"/>
          <p:cNvSpPr/>
          <p:nvPr/>
        </p:nvSpPr>
        <p:spPr>
          <a:xfrm>
            <a:off x="620640" y="798048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"/>
          <p:cNvSpPr/>
          <p:nvPr/>
        </p:nvSpPr>
        <p:spPr>
          <a:xfrm>
            <a:off x="333360" y="6939000"/>
            <a:ext cx="2872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"/>
          <p:cNvSpPr/>
          <p:nvPr/>
        </p:nvSpPr>
        <p:spPr>
          <a:xfrm>
            <a:off x="620640" y="823284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991800" y="844236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"/>
          <p:cNvSpPr/>
          <p:nvPr/>
        </p:nvSpPr>
        <p:spPr>
          <a:xfrm flipH="1">
            <a:off x="991800" y="869472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985320" y="894708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985320" y="9199440"/>
            <a:ext cx="5389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"/>
          <p:cNvSpPr/>
          <p:nvPr/>
        </p:nvSpPr>
        <p:spPr>
          <a:xfrm>
            <a:off x="620640" y="848376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"/>
          <p:cNvSpPr/>
          <p:nvPr/>
        </p:nvSpPr>
        <p:spPr>
          <a:xfrm>
            <a:off x="620640" y="873612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"/>
          <p:cNvSpPr/>
          <p:nvPr/>
        </p:nvSpPr>
        <p:spPr>
          <a:xfrm>
            <a:off x="620640" y="898848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"/>
          <p:cNvSpPr/>
          <p:nvPr/>
        </p:nvSpPr>
        <p:spPr>
          <a:xfrm>
            <a:off x="620640" y="9240840"/>
            <a:ext cx="433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lle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"/>
          <p:cNvSpPr/>
          <p:nvPr/>
        </p:nvSpPr>
        <p:spPr>
          <a:xfrm>
            <a:off x="333360" y="8353080"/>
            <a:ext cx="28728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333000" y="9451800"/>
            <a:ext cx="60483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620640" y="1835280"/>
            <a:ext cx="0" cy="76896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130644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152100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173664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195264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216864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238428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260028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281628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303372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324972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346536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368136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389736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411336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432900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454500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476100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97664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19264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40864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62464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584208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605808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6273720" y="1652400"/>
            <a:ext cx="0" cy="78721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"/>
          <p:cNvSpPr/>
          <p:nvPr/>
        </p:nvSpPr>
        <p:spPr>
          <a:xfrm rot="16200000">
            <a:off x="1204560" y="1631880"/>
            <a:ext cx="344520" cy="1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7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"/>
          <p:cNvSpPr/>
          <p:nvPr/>
        </p:nvSpPr>
        <p:spPr>
          <a:xfrm rot="16200000">
            <a:off x="1636200" y="1631880"/>
            <a:ext cx="344520" cy="1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8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"/>
          <p:cNvSpPr/>
          <p:nvPr/>
        </p:nvSpPr>
        <p:spPr>
          <a:xfrm rot="16200000">
            <a:off x="2068200" y="1631880"/>
            <a:ext cx="344520" cy="1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09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"/>
          <p:cNvSpPr/>
          <p:nvPr/>
        </p:nvSpPr>
        <p:spPr>
          <a:xfrm rot="16200000">
            <a:off x="2499840" y="1631880"/>
            <a:ext cx="344520" cy="1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"/>
          <p:cNvSpPr/>
          <p:nvPr/>
        </p:nvSpPr>
        <p:spPr>
          <a:xfrm rot="16200000">
            <a:off x="2931840" y="1631880"/>
            <a:ext cx="344520" cy="1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1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"/>
          <p:cNvSpPr/>
          <p:nvPr/>
        </p:nvSpPr>
        <p:spPr>
          <a:xfrm rot="16200000">
            <a:off x="3363480" y="1631880"/>
            <a:ext cx="344520" cy="1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2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"/>
          <p:cNvSpPr/>
          <p:nvPr/>
        </p:nvSpPr>
        <p:spPr>
          <a:xfrm rot="16200000">
            <a:off x="3795120" y="1631880"/>
            <a:ext cx="344520" cy="1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3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"/>
          <p:cNvSpPr/>
          <p:nvPr/>
        </p:nvSpPr>
        <p:spPr>
          <a:xfrm rot="16200000">
            <a:off x="4228560" y="1631880"/>
            <a:ext cx="344520" cy="1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4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"/>
          <p:cNvSpPr/>
          <p:nvPr/>
        </p:nvSpPr>
        <p:spPr>
          <a:xfrm rot="16200000">
            <a:off x="4660560" y="1631880"/>
            <a:ext cx="344520" cy="1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5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"/>
          <p:cNvSpPr/>
          <p:nvPr/>
        </p:nvSpPr>
        <p:spPr>
          <a:xfrm rot="16200000">
            <a:off x="5092200" y="1631880"/>
            <a:ext cx="344520" cy="1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6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"/>
          <p:cNvSpPr/>
          <p:nvPr/>
        </p:nvSpPr>
        <p:spPr>
          <a:xfrm rot="16200000">
            <a:off x="5524200" y="1631880"/>
            <a:ext cx="344520" cy="1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7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"/>
          <p:cNvSpPr/>
          <p:nvPr/>
        </p:nvSpPr>
        <p:spPr>
          <a:xfrm rot="16200000">
            <a:off x="5955840" y="1631880"/>
            <a:ext cx="344520" cy="1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8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333000" y="1892160"/>
            <a:ext cx="60483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333000" y="3151080"/>
            <a:ext cx="60483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333000" y="4411800"/>
            <a:ext cx="60483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333000" y="5670720"/>
            <a:ext cx="60483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333000" y="6932520"/>
            <a:ext cx="60483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333000" y="8191440"/>
            <a:ext cx="60483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Formalis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insta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Mettre en place un tableau de bo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Dimensionner les vacations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84" name=""/>
          <p:cNvSpPr/>
          <p:nvPr/>
        </p:nvSpPr>
        <p:spPr>
          <a:xfrm>
            <a:off x="1162080" y="103680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valuer les ETP soignants induits par de la nouvelle maquette de vac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Optimiser le circuit le circuit de deman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méliorer la f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gram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nticip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abse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imensionn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es vac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"/>
          <p:cNvSpPr/>
          <p:nvPr/>
        </p:nvSpPr>
        <p:spPr>
          <a:xfrm>
            <a:off x="6453360" y="5016600"/>
            <a:ext cx="0" cy="48686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"/>
          <p:cNvSpPr/>
          <p:nvPr/>
        </p:nvSpPr>
        <p:spPr>
          <a:xfrm>
            <a:off x="6453360" y="20520"/>
            <a:ext cx="0" cy="3375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6" name=""/>
          <p:cNvGraphicFramePr/>
          <p:nvPr/>
        </p:nvGraphicFramePr>
        <p:xfrm>
          <a:off x="297000" y="1676520"/>
          <a:ext cx="6083280" cy="6253200"/>
        </p:xfrm>
        <a:graphic>
          <a:graphicData uri="http://schemas.openxmlformats.org/drawingml/2006/table">
            <a:tbl>
              <a:tblPr/>
              <a:tblGrid>
                <a:gridCol w="792000"/>
                <a:gridCol w="517680"/>
                <a:gridCol w="195120"/>
                <a:gridCol w="370080"/>
                <a:gridCol w="369720"/>
                <a:gridCol w="369720"/>
                <a:gridCol w="370080"/>
                <a:gridCol w="369720"/>
                <a:gridCol w="189000"/>
                <a:gridCol w="552600"/>
                <a:gridCol w="179280"/>
                <a:gridCol w="345960"/>
                <a:gridCol w="384120"/>
                <a:gridCol w="360360"/>
                <a:gridCol w="358920"/>
                <a:gridCol w="358920"/>
              </a:tblGrid>
              <a:tr h="939240"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éc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 va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/se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égories profession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’agents pour chaque va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égories profession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P rémunérés pour chaque va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7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46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60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60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60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31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46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60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5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46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60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5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46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46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60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5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21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=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8000" marR="1800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497" name=""/>
          <p:cNvSpPr/>
          <p:nvPr/>
        </p:nvSpPr>
        <p:spPr>
          <a:xfrm>
            <a:off x="1376280" y="7329600"/>
            <a:ext cx="576360" cy="215640"/>
          </a:xfrm>
          <a:custGeom>
            <a:avLst/>
            <a:gdLst/>
            <a:ahLst/>
            <a:rect l="l" t="t" r="r" b="b"/>
            <a:pathLst>
              <a:path w="567" h="188">
                <a:moveTo>
                  <a:pt x="0" y="0"/>
                </a:moveTo>
                <a:cubicBezTo>
                  <a:pt x="57" y="66"/>
                  <a:pt x="118" y="132"/>
                  <a:pt x="182" y="159"/>
                </a:cubicBezTo>
                <a:cubicBezTo>
                  <a:pt x="246" y="186"/>
                  <a:pt x="318" y="188"/>
                  <a:pt x="382" y="162"/>
                </a:cubicBezTo>
                <a:cubicBezTo>
                  <a:pt x="446" y="136"/>
                  <a:pt x="529" y="34"/>
                  <a:pt x="5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"/>
          <p:cNvSpPr/>
          <p:nvPr/>
        </p:nvSpPr>
        <p:spPr>
          <a:xfrm>
            <a:off x="2104920" y="7329600"/>
            <a:ext cx="1981440" cy="218880"/>
          </a:xfrm>
          <a:custGeom>
            <a:avLst/>
            <a:gdLst/>
            <a:ahLst/>
            <a:rect l="l" t="t" r="r" b="b"/>
            <a:pathLst>
              <a:path w="1248" h="138">
                <a:moveTo>
                  <a:pt x="0" y="0"/>
                </a:moveTo>
                <a:cubicBezTo>
                  <a:pt x="35" y="20"/>
                  <a:pt x="33" y="98"/>
                  <a:pt x="208" y="118"/>
                </a:cubicBezTo>
                <a:cubicBezTo>
                  <a:pt x="383" y="138"/>
                  <a:pt x="880" y="138"/>
                  <a:pt x="1053" y="118"/>
                </a:cubicBezTo>
                <a:cubicBezTo>
                  <a:pt x="1226" y="98"/>
                  <a:pt x="1208" y="25"/>
                  <a:pt x="12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"/>
          <p:cNvSpPr/>
          <p:nvPr/>
        </p:nvSpPr>
        <p:spPr>
          <a:xfrm>
            <a:off x="4221000" y="7329600"/>
            <a:ext cx="576360" cy="215640"/>
          </a:xfrm>
          <a:custGeom>
            <a:avLst/>
            <a:gdLst/>
            <a:ahLst/>
            <a:rect l="l" t="t" r="r" b="b"/>
            <a:pathLst>
              <a:path w="567" h="188">
                <a:moveTo>
                  <a:pt x="0" y="0"/>
                </a:moveTo>
                <a:cubicBezTo>
                  <a:pt x="57" y="66"/>
                  <a:pt x="118" y="132"/>
                  <a:pt x="182" y="159"/>
                </a:cubicBezTo>
                <a:cubicBezTo>
                  <a:pt x="246" y="186"/>
                  <a:pt x="318" y="188"/>
                  <a:pt x="382" y="162"/>
                </a:cubicBezTo>
                <a:cubicBezTo>
                  <a:pt x="446" y="136"/>
                  <a:pt x="529" y="34"/>
                  <a:pt x="5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"/>
          <p:cNvSpPr/>
          <p:nvPr/>
        </p:nvSpPr>
        <p:spPr>
          <a:xfrm>
            <a:off x="1628640" y="7292880"/>
            <a:ext cx="216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"/>
          <p:cNvSpPr/>
          <p:nvPr/>
        </p:nvSpPr>
        <p:spPr>
          <a:xfrm>
            <a:off x="3718080" y="7292880"/>
            <a:ext cx="215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"/>
          <p:cNvSpPr/>
          <p:nvPr/>
        </p:nvSpPr>
        <p:spPr>
          <a:xfrm>
            <a:off x="4437000" y="7292880"/>
            <a:ext cx="216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"/>
          <p:cNvSpPr/>
          <p:nvPr/>
        </p:nvSpPr>
        <p:spPr>
          <a:xfrm>
            <a:off x="585720" y="7940520"/>
            <a:ext cx="57895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alibri"/>
              </a:rPr>
              <a:t>Coef.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 =    1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× (1 +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10%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) ×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5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× (1 +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8%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) × (1 /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160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0,0371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4" marL="26845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Durée annuelle de travail maximale (fct. publique hosp.), hors sujétions spécifiqu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3" marL="20588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Absentéisme ordinaire et justifié (récup. férié et heures sup., repos compensateur, événements familiaux, 3 jours enfant malades, jours ancienneté, formation, heures de délégation, heures de grossesse, etc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6128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mbre de semaines pleines théoriques par a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25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Activité pré et post vac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"/>
          <p:cNvSpPr/>
          <p:nvPr/>
        </p:nvSpPr>
        <p:spPr>
          <a:xfrm>
            <a:off x="1090440" y="92160"/>
            <a:ext cx="0" cy="9423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5" name=""/>
          <p:cNvGrpSpPr/>
          <p:nvPr/>
        </p:nvGrpSpPr>
        <p:grpSpPr>
          <a:xfrm>
            <a:off x="1666800" y="8188200"/>
            <a:ext cx="142920" cy="1224000"/>
            <a:chOff x="1666800" y="8188200"/>
            <a:chExt cx="142920" cy="1224000"/>
          </a:xfrm>
        </p:grpSpPr>
        <p:sp>
          <p:nvSpPr>
            <p:cNvPr id="1506" name=""/>
            <p:cNvSpPr/>
            <p:nvPr/>
          </p:nvSpPr>
          <p:spPr>
            <a:xfrm>
              <a:off x="1666800" y="9412200"/>
              <a:ext cx="142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1666800" y="8188200"/>
              <a:ext cx="0" cy="1224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2025720" y="8187840"/>
            <a:ext cx="142920" cy="1080000"/>
            <a:chOff x="2025720" y="8187840"/>
            <a:chExt cx="142920" cy="1080000"/>
          </a:xfrm>
        </p:grpSpPr>
        <p:sp>
          <p:nvSpPr>
            <p:cNvPr id="1509" name=""/>
            <p:cNvSpPr/>
            <p:nvPr/>
          </p:nvSpPr>
          <p:spPr>
            <a:xfrm>
              <a:off x="2025720" y="9267840"/>
              <a:ext cx="142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2025720" y="8187840"/>
              <a:ext cx="0" cy="1079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2494080" y="8187840"/>
            <a:ext cx="118800" cy="468720"/>
            <a:chOff x="2494080" y="8187840"/>
            <a:chExt cx="118800" cy="468720"/>
          </a:xfrm>
        </p:grpSpPr>
        <p:sp>
          <p:nvSpPr>
            <p:cNvPr id="1512" name=""/>
            <p:cNvSpPr/>
            <p:nvPr/>
          </p:nvSpPr>
          <p:spPr>
            <a:xfrm>
              <a:off x="2494080" y="8656560"/>
              <a:ext cx="1188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2494080" y="8187840"/>
              <a:ext cx="0" cy="468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3106800" y="8187840"/>
            <a:ext cx="142920" cy="180000"/>
            <a:chOff x="3106800" y="8187840"/>
            <a:chExt cx="142920" cy="180000"/>
          </a:xfrm>
        </p:grpSpPr>
        <p:sp>
          <p:nvSpPr>
            <p:cNvPr id="1515" name=""/>
            <p:cNvSpPr/>
            <p:nvPr/>
          </p:nvSpPr>
          <p:spPr>
            <a:xfrm>
              <a:off x="3106800" y="8367840"/>
              <a:ext cx="142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3106800" y="8187840"/>
              <a:ext cx="0" cy="179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7" name=""/>
          <p:cNvSpPr/>
          <p:nvPr/>
        </p:nvSpPr>
        <p:spPr>
          <a:xfrm>
            <a:off x="2241720" y="9201240"/>
            <a:ext cx="0" cy="14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"/>
          <p:cNvSpPr/>
          <p:nvPr/>
        </p:nvSpPr>
        <p:spPr>
          <a:xfrm>
            <a:off x="1881360" y="9345600"/>
            <a:ext cx="0" cy="144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"/>
          <p:cNvSpPr/>
          <p:nvPr/>
        </p:nvSpPr>
        <p:spPr>
          <a:xfrm>
            <a:off x="2673360" y="8583480"/>
            <a:ext cx="0" cy="6177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"/>
          <p:cNvSpPr/>
          <p:nvPr/>
        </p:nvSpPr>
        <p:spPr>
          <a:xfrm>
            <a:off x="3321000" y="8300880"/>
            <a:ext cx="0" cy="2826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592280" y="93240"/>
            <a:ext cx="47829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7ab800"/>
                </a:solidFill>
                <a:latin typeface="Calibri"/>
              </a:rPr>
              <a:t>Anticiper les absences</a:t>
            </a:r>
            <a:endParaRPr b="1" lang="en-US" sz="1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22" name=""/>
          <p:cNvSpPr/>
          <p:nvPr/>
        </p:nvSpPr>
        <p:spPr>
          <a:xfrm>
            <a:off x="1162080" y="992160"/>
            <a:ext cx="511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ppliquer une procédure / ensemble de règles de bonne conduite concernant les absences de praticiens et de soigna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"/>
          <p:cNvSpPr/>
          <p:nvPr/>
        </p:nvSpPr>
        <p:spPr>
          <a:xfrm>
            <a:off x="1665360" y="165240"/>
            <a:ext cx="216000" cy="21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"/>
          <p:cNvSpPr/>
          <p:nvPr/>
        </p:nvSpPr>
        <p:spPr>
          <a:xfrm>
            <a:off x="6453360" y="3395520"/>
            <a:ext cx="396720" cy="162108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1080"/>
              <a:gd name="textAreaBottom" fmla="*/ 1503720 h 16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imensionn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vaca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"/>
          <p:cNvSpPr/>
          <p:nvPr/>
        </p:nvSpPr>
        <p:spPr>
          <a:xfrm rot="5400000">
            <a:off x="6526080" y="347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"/>
          <p:cNvSpPr/>
          <p:nvPr/>
        </p:nvSpPr>
        <p:spPr>
          <a:xfrm>
            <a:off x="6453360" y="183528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Mettre en place un tableau de bo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"/>
          <p:cNvSpPr/>
          <p:nvPr/>
        </p:nvSpPr>
        <p:spPr>
          <a:xfrm rot="5400000">
            <a:off x="6526080" y="1928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"/>
          <p:cNvSpPr/>
          <p:nvPr/>
        </p:nvSpPr>
        <p:spPr>
          <a:xfrm>
            <a:off x="6453360" y="272880"/>
            <a:ext cx="396720" cy="16243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4320"/>
              <a:gd name="textAreaBottom" fmla="*/ 1506600 h 16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Formalis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les insta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"/>
          <p:cNvSpPr/>
          <p:nvPr/>
        </p:nvSpPr>
        <p:spPr>
          <a:xfrm rot="5400000">
            <a:off x="6526080" y="3808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"/>
          <p:cNvSpPr/>
          <p:nvPr/>
        </p:nvSpPr>
        <p:spPr>
          <a:xfrm>
            <a:off x="6453360" y="8047080"/>
            <a:ext cx="396720" cy="162252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2520"/>
              <a:gd name="textAreaBottom" fmla="*/ 1504800 h 162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Optimiser le circuit le circuit de deman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"/>
          <p:cNvSpPr/>
          <p:nvPr/>
        </p:nvSpPr>
        <p:spPr>
          <a:xfrm>
            <a:off x="6453360" y="6519960"/>
            <a:ext cx="396720" cy="1620720"/>
          </a:xfrm>
          <a:custGeom>
            <a:avLst/>
            <a:gdLst>
              <a:gd name="textAreaLeft" fmla="*/ 0 w 396720"/>
              <a:gd name="textAreaRight" fmla="*/ 278280 w 396720"/>
              <a:gd name="textAreaTop" fmla="*/ 117360 h 1620720"/>
              <a:gd name="textAreaBottom" fmla="*/ 150336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Améliorer la fi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Calibri"/>
              </a:rPr>
              <a:t>de programm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"/>
          <p:cNvSpPr/>
          <p:nvPr/>
        </p:nvSpPr>
        <p:spPr>
          <a:xfrm>
            <a:off x="6453360" y="4954680"/>
            <a:ext cx="396720" cy="1623960"/>
          </a:xfrm>
          <a:custGeom>
            <a:avLst/>
            <a:gdLst>
              <a:gd name="textAreaLeft" fmla="*/ 0 w 396720"/>
              <a:gd name="textAreaRight" fmla="*/ 278280 w 396720"/>
              <a:gd name="textAreaTop" fmla="*/ 117720 h 1623960"/>
              <a:gd name="textAreaBottom" fmla="*/ 15062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67"/>
                  <a:pt x="21600" y="3134"/>
                </a:cubicBezTo>
                <a:lnTo>
                  <a:pt x="21600" y="18466"/>
                </a:lnTo>
                <a:cubicBezTo>
                  <a:pt x="21600" y="20033"/>
                  <a:pt x="108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0" tIns="21600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nticip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es abse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"/>
          <p:cNvSpPr/>
          <p:nvPr/>
        </p:nvSpPr>
        <p:spPr>
          <a:xfrm>
            <a:off x="6453360" y="6578640"/>
            <a:ext cx="0" cy="3306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"/>
          <p:cNvSpPr/>
          <p:nvPr/>
        </p:nvSpPr>
        <p:spPr>
          <a:xfrm rot="5400000">
            <a:off x="6526080" y="5060880"/>
            <a:ext cx="216000" cy="21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"/>
          <p:cNvSpPr/>
          <p:nvPr/>
        </p:nvSpPr>
        <p:spPr>
          <a:xfrm rot="5400000">
            <a:off x="6526080" y="66085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"/>
          <p:cNvSpPr/>
          <p:nvPr/>
        </p:nvSpPr>
        <p:spPr>
          <a:xfrm rot="5400000">
            <a:off x="6526080" y="81565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"/>
          <p:cNvSpPr/>
          <p:nvPr/>
        </p:nvSpPr>
        <p:spPr>
          <a:xfrm>
            <a:off x="6453360" y="20520"/>
            <a:ext cx="0" cy="49341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"/>
          <p:cNvSpPr/>
          <p:nvPr/>
        </p:nvSpPr>
        <p:spPr>
          <a:xfrm>
            <a:off x="1162080" y="1496880"/>
            <a:ext cx="51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…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9:45:21Z</dcterms:created>
  <dc:creator>Céline</dc:creator>
  <dc:description/>
  <dc:language>en-US</dc:language>
  <cp:lastModifiedBy>pehaas</cp:lastModifiedBy>
  <dcterms:modified xsi:type="dcterms:W3CDTF">2010-12-16T14:32:10Z</dcterms:modified>
  <cp:revision>219</cp:revision>
  <dc:subject/>
  <dc:title>Diapositive 1</dc:title>
</cp:coreProperties>
</file>